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png" ContentType="image/png"/>
  <Override PartName="/ppt/media/image11.wmf" ContentType="image/x-wmf"/>
  <Override PartName="/ppt/media/image17.jpeg" ContentType="image/jpeg"/>
  <Override PartName="/ppt/media/image26.png" ContentType="image/png"/>
  <Override PartName="/ppt/media/image16.wmf" ContentType="image/x-wmf"/>
  <Override PartName="/ppt/media/image14.jpeg" ContentType="image/jpeg"/>
  <Override PartName="/ppt/media/image3.png" ContentType="image/png"/>
  <Override PartName="/ppt/media/image33.png" ContentType="image/png"/>
  <Override PartName="/ppt/media/image8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7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6888240" cy="10020240"/>
          </a:xfrm>
          <a:custGeom>
            <a:avLst/>
            <a:gdLst>
              <a:gd name="textAreaLeft" fmla="*/ 360 w 6888240"/>
              <a:gd name="textAreaRight" fmla="*/ 6887880 w 6888240"/>
              <a:gd name="textAreaTop" fmla="*/ 360 h 10020240"/>
              <a:gd name="textAreaBottom" fmla="*/ 10019880 h 10020240"/>
            </a:gdLst>
            <a:ahLst/>
            <a:rect l="textAreaLeft" t="textAreaTop" r="textAreaRight" b="textAreaBottom"/>
            <a:pathLst>
              <a:path w="21600" h="31421">
                <a:moveTo>
                  <a:pt x="5" y="0"/>
                </a:moveTo>
                <a:arcTo wR="5" hR="5" stAng="16200000" swAng="-5400000"/>
                <a:lnTo>
                  <a:pt x="0" y="31416"/>
                </a:lnTo>
                <a:arcTo wR="5" hR="5" stAng="10800000" swAng="-5400000"/>
                <a:lnTo>
                  <a:pt x="21595" y="3142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37800" y="750600"/>
            <a:ext cx="5008680" cy="375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5040" rIns="950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508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51660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902040" y="951660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6B193532-A1FC-4808-A10A-D13541579E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30D1076A-E7BB-4860-83B8-94454C567D0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638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321A62DE-B91C-4F46-B0F5-582114BC543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30AC5ECA-F17C-41E9-A0A8-CA0C948AF569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5880"/>
          </a:xfrm>
          <a:prstGeom prst="rect">
            <a:avLst/>
          </a:prstGeom>
          <a:ln w="0">
            <a:noFill/>
          </a:ln>
        </p:spPr>
      </p:sp>
      <p:sp>
        <p:nvSpPr>
          <p:cNvPr id="164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9C82AB61-94AA-42EA-8057-F2FA4CB2F92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6471D4CA-371C-4594-98A5-DAE06873E2A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650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CA761B64-AE9B-4695-8559-75CB01584BA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A546E64D-BD79-46FB-9C4F-39E52D9E216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656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29FA5D0B-EBEC-459E-A40F-EFE1530E137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D65DF10C-6DE9-4F91-BD89-C3D23FA1E8F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662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A5C71C75-6C50-4573-9CBE-89337B62689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078FE075-B34E-411C-BC2A-62BB9BFBCB4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668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82C5-32B5-4B0C-ADD2-46D531700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B0B1-38EC-4CF8-9063-8D6208E3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7676-149B-4E0A-B4A3-EACD7A44F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AD28-A84B-4B49-A655-43F55C36D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49B90-124C-44C7-8A89-C4F9B652C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9B22-3F4A-4D94-80A1-04108EE3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415D-E57C-4EDC-AEED-9B9FD30C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16FCB-44FA-4ADE-B81D-951265DD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BF76-6C83-4A1A-98FD-821ED443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936C7-E63C-4C3C-ADAE-0E9CEF7F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F7E0-020C-40CF-8A69-419702B0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2649-09C4-46E2-8B4C-890E8B5C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B49A-E07F-4FBC-BF31-AE25AED0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98BC-626D-444C-8F3F-4D4A477C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A1B0-22AE-446F-977D-EBED70C9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664D-236F-4117-A7F7-6C844924B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46C0-84D9-4FF8-BB3D-493126077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4814-9A89-4308-AD94-A4E5B70B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AED0-D131-457A-9936-16CF0F1E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6E73-0942-439D-97A6-4B058ED1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8B13-C79C-4D0A-A0B9-8E099CC0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40BA-20D2-48CE-ABDF-8A7A40B6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4AF3-EA8A-48CB-8787-3EF96540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F0B3-E120-43AD-B43B-8BE52887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F0285F-128A-4A72-B385-28FB9763A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8F0A97-2C8D-40CF-A864-CB76A45D88E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wmf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4 CuadroTexto"/>
          <p:cNvSpPr/>
          <p:nvPr/>
        </p:nvSpPr>
        <p:spPr>
          <a:xfrm>
            <a:off x="554040" y="1052640"/>
            <a:ext cx="81262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000" spc="-1" strike="noStrike">
                <a:solidFill>
                  <a:srgbClr val="6600cc"/>
                </a:solidFill>
                <a:latin typeface="Arial"/>
              </a:rPr>
              <a:t>Bolilla 10: Acido desoxirribonucleico. ADN, principales características estructurales. Proceso de replicación del ADN, complejos enzimáticos que intervienen. Etapas. Concepto de mutaciones y mutágenos. Procesos de reparación del ADN. 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Flujo de la información genética: ARN. Tipos de ARN: mensajeros, ribosomales y de transferencia, estructuras y funciones. Síntesis del ácido ribonucleico: transcripción, enzimas que intervienen. Etapas. Importancia de los procesos de maduración, intrones y ex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6600cc"/>
                </a:solidFill>
                <a:latin typeface="Arial"/>
              </a:rPr>
              <a:t>Bolilla 11: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Biosíntesis de Proteínas. Traducción de la información genética. Universalidad del código genético. Activación de los aminoácidos, fidelidad de la síntesis proteica. Etapas de iniciación, formación del enlace peptídico, elongación y terminación de la síntesis, factores que intervienen, consumo energético y regulación. Inhibidores de la síntesis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. 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</a:rPr>
              <a:t>Nociones sobre alimentos transgéni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24000" y="279360"/>
            <a:ext cx="85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             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Ing. en Alim. y Lic. en CyT de los Ali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Complejo de transcrip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5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691344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184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Transcripción de un gen eucariota y maduración del AR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6" descr="Gene_Intron_Exon"/>
          <p:cNvPicPr/>
          <p:nvPr/>
        </p:nvPicPr>
        <p:blipFill>
          <a:blip r:embed="rId1"/>
          <a:stretch/>
        </p:blipFill>
        <p:spPr>
          <a:xfrm>
            <a:off x="412920" y="1916280"/>
            <a:ext cx="2287440" cy="282384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39"/>
          <p:cNvSpPr/>
          <p:nvPr/>
        </p:nvSpPr>
        <p:spPr>
          <a:xfrm>
            <a:off x="2829240" y="4186080"/>
            <a:ext cx="128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active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protein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41"/>
          <p:cNvSpPr/>
          <p:nvPr/>
        </p:nvSpPr>
        <p:spPr>
          <a:xfrm>
            <a:off x="4614120" y="4410000"/>
            <a:ext cx="45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000" spc="-1" strike="noStrike">
                <a:solidFill>
                  <a:srgbClr val="004eff"/>
                </a:solidFill>
                <a:latin typeface="Arial"/>
              </a:rPr>
              <a:t>CPLTW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42"/>
          <p:cNvSpPr/>
          <p:nvPr/>
        </p:nvSpPr>
        <p:spPr>
          <a:xfrm>
            <a:off x="6499440" y="4410000"/>
            <a:ext cx="74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000" spc="-1" strike="noStrike">
                <a:solidFill>
                  <a:srgbClr val="004eff"/>
                </a:solidFill>
                <a:latin typeface="Arial"/>
              </a:rPr>
              <a:t>..............GF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43"/>
          <p:cNvSpPr/>
          <p:nvPr/>
        </p:nvSpPr>
        <p:spPr>
          <a:xfrm>
            <a:off x="6272280" y="4195800"/>
            <a:ext cx="985680" cy="18720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44"/>
          <p:cNvSpPr/>
          <p:nvPr/>
        </p:nvSpPr>
        <p:spPr>
          <a:xfrm>
            <a:off x="4599000" y="4195800"/>
            <a:ext cx="630360" cy="18900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45"/>
          <p:cNvSpPr/>
          <p:nvPr/>
        </p:nvSpPr>
        <p:spPr>
          <a:xfrm>
            <a:off x="5237280" y="4195800"/>
            <a:ext cx="1023840" cy="1890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47"/>
          <p:cNvSpPr/>
          <p:nvPr/>
        </p:nvSpPr>
        <p:spPr>
          <a:xfrm>
            <a:off x="4601520" y="4973760"/>
            <a:ext cx="45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000" spc="-1" strike="noStrike">
                <a:solidFill>
                  <a:srgbClr val="004eff"/>
                </a:solidFill>
                <a:latin typeface="Arial"/>
              </a:rPr>
              <a:t>CPLTW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48"/>
          <p:cNvSpPr/>
          <p:nvPr/>
        </p:nvSpPr>
        <p:spPr>
          <a:xfrm>
            <a:off x="5499720" y="4973760"/>
            <a:ext cx="73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000" spc="-1" strike="noStrike">
                <a:solidFill>
                  <a:srgbClr val="004eff"/>
                </a:solidFill>
                <a:latin typeface="Arial"/>
              </a:rPr>
              <a:t>..............PJ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49"/>
          <p:cNvSpPr/>
          <p:nvPr/>
        </p:nvSpPr>
        <p:spPr>
          <a:xfrm>
            <a:off x="4586400" y="4759200"/>
            <a:ext cx="630000" cy="18900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50"/>
          <p:cNvSpPr/>
          <p:nvPr/>
        </p:nvSpPr>
        <p:spPr>
          <a:xfrm>
            <a:off x="5224320" y="4759200"/>
            <a:ext cx="1024200" cy="1890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51"/>
          <p:cNvSpPr/>
          <p:nvPr/>
        </p:nvSpPr>
        <p:spPr>
          <a:xfrm>
            <a:off x="6491160" y="4791240"/>
            <a:ext cx="167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de-DE" sz="1200" spc="-1" strike="noStrike">
                <a:solidFill>
                  <a:srgbClr val="cc0055"/>
                </a:solidFill>
                <a:latin typeface="Arial"/>
              </a:rPr>
              <a:t>Splicing alternativ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52"/>
          <p:cNvSpPr/>
          <p:nvPr/>
        </p:nvSpPr>
        <p:spPr>
          <a:xfrm>
            <a:off x="3352680" y="5380200"/>
            <a:ext cx="1679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de-DE" sz="1200" spc="-1" strike="noStrike">
                <a:solidFill>
                  <a:srgbClr val="cc0055"/>
                </a:solidFill>
                <a:latin typeface="Arial"/>
              </a:rPr>
              <a:t>Modificación post-transduccion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Rectangle 53"/>
          <p:cNvSpPr/>
          <p:nvPr/>
        </p:nvSpPr>
        <p:spPr>
          <a:xfrm>
            <a:off x="5287320" y="5811840"/>
            <a:ext cx="45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000" spc="-1" strike="noStrike">
                <a:solidFill>
                  <a:srgbClr val="004eff"/>
                </a:solidFill>
                <a:latin typeface="Arial"/>
              </a:rPr>
              <a:t>CPLTW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54"/>
          <p:cNvSpPr/>
          <p:nvPr/>
        </p:nvSpPr>
        <p:spPr>
          <a:xfrm>
            <a:off x="6640920" y="5811840"/>
            <a:ext cx="752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000" spc="-1" strike="noStrike">
                <a:solidFill>
                  <a:srgbClr val="004eff"/>
                </a:solidFill>
                <a:latin typeface="Arial"/>
              </a:rPr>
              <a:t>..............LA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Rectangle 55"/>
          <p:cNvSpPr/>
          <p:nvPr/>
        </p:nvSpPr>
        <p:spPr>
          <a:xfrm>
            <a:off x="6945480" y="5595840"/>
            <a:ext cx="460080" cy="21600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56"/>
          <p:cNvSpPr/>
          <p:nvPr/>
        </p:nvSpPr>
        <p:spPr>
          <a:xfrm>
            <a:off x="5272200" y="5597640"/>
            <a:ext cx="630000" cy="18864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57"/>
          <p:cNvSpPr/>
          <p:nvPr/>
        </p:nvSpPr>
        <p:spPr>
          <a:xfrm>
            <a:off x="5910120" y="5597640"/>
            <a:ext cx="1024200" cy="18864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58"/>
          <p:cNvSpPr/>
          <p:nvPr/>
        </p:nvSpPr>
        <p:spPr>
          <a:xfrm>
            <a:off x="6643800" y="5506920"/>
            <a:ext cx="75960" cy="1526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59"/>
          <p:cNvSpPr/>
          <p:nvPr/>
        </p:nvSpPr>
        <p:spPr>
          <a:xfrm>
            <a:off x="6796080" y="5735520"/>
            <a:ext cx="76320" cy="1526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66"/>
          <p:cNvSpPr/>
          <p:nvPr/>
        </p:nvSpPr>
        <p:spPr>
          <a:xfrm>
            <a:off x="2556000" y="3500280"/>
            <a:ext cx="6192720" cy="26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1" name="Group 74"/>
          <p:cNvGrpSpPr/>
          <p:nvPr/>
        </p:nvGrpSpPr>
        <p:grpSpPr>
          <a:xfrm>
            <a:off x="2681280" y="4005360"/>
            <a:ext cx="5871240" cy="2232000"/>
            <a:chOff x="2681280" y="4005360"/>
            <a:chExt cx="5871240" cy="2232000"/>
          </a:xfrm>
        </p:grpSpPr>
        <p:sp>
          <p:nvSpPr>
            <p:cNvPr id="442" name="Text Box 68"/>
            <p:cNvSpPr/>
            <p:nvPr/>
          </p:nvSpPr>
          <p:spPr>
            <a:xfrm>
              <a:off x="2681280" y="4816440"/>
              <a:ext cx="261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Arial"/>
                </a:rPr>
                <a:t>Maduración del ARN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AutoShape 70"/>
            <p:cNvSpPr/>
            <p:nvPr/>
          </p:nvSpPr>
          <p:spPr>
            <a:xfrm>
              <a:off x="5292720" y="4005360"/>
              <a:ext cx="216000" cy="223200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57960 h 2232000"/>
                <a:gd name="textAreaBottom" fmla="*/ 2174040 h 22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Text Box 71"/>
            <p:cNvSpPr/>
            <p:nvPr/>
          </p:nvSpPr>
          <p:spPr>
            <a:xfrm>
              <a:off x="5522040" y="4156200"/>
              <a:ext cx="3030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66ff"/>
                </a:buClr>
                <a:buFont typeface="Arial"/>
                <a:buChar char="-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" sz="1800" spc="-1" strike="noStrike">
                  <a:solidFill>
                    <a:srgbClr val="0066ff"/>
                  </a:solidFill>
                  <a:latin typeface="Arial"/>
                </a:rPr>
                <a:t>Adición del capuchón de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" sz="1800" spc="-1" strike="noStrike">
                  <a:solidFill>
                    <a:srgbClr val="0066ff"/>
                  </a:solidFill>
                  <a:latin typeface="Arial"/>
                </a:rPr>
                <a:t>metil-GDP en extremo 5´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Text Box 72"/>
            <p:cNvSpPr/>
            <p:nvPr/>
          </p:nvSpPr>
          <p:spPr>
            <a:xfrm>
              <a:off x="5508360" y="4869000"/>
              <a:ext cx="239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66ff"/>
                </a:buClr>
                <a:buFont typeface="Arial"/>
                <a:buChar char="-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" sz="1800" spc="-1" strike="noStrike">
                  <a:solidFill>
                    <a:srgbClr val="0066ff"/>
                  </a:solidFill>
                  <a:latin typeface="Arial"/>
                </a:rPr>
                <a:t>Poliadenilación del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" sz="1800" spc="-1" strike="noStrike">
                  <a:solidFill>
                    <a:srgbClr val="0066ff"/>
                  </a:solidFill>
                  <a:latin typeface="Arial"/>
                </a:rPr>
                <a:t>extremo 3´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Text Box 73"/>
            <p:cNvSpPr/>
            <p:nvPr/>
          </p:nvSpPr>
          <p:spPr>
            <a:xfrm>
              <a:off x="5579640" y="5524560"/>
              <a:ext cx="2966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0066ff"/>
                  </a:solidFill>
                  <a:latin typeface="Arial"/>
                </a:rPr>
                <a:t>Eliminación de intrones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" sz="1800" spc="-1" strike="noStrike">
                  <a:solidFill>
                    <a:srgbClr val="0066ff"/>
                  </a:solidFill>
                  <a:latin typeface="Arial"/>
                </a:rPr>
                <a:t>(splicing)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7" name="Rectangle 40"/>
          <p:cNvSpPr/>
          <p:nvPr/>
        </p:nvSpPr>
        <p:spPr>
          <a:xfrm>
            <a:off x="3703680" y="3830760"/>
            <a:ext cx="1679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Line 46"/>
          <p:cNvSpPr/>
          <p:nvPr/>
        </p:nvSpPr>
        <p:spPr>
          <a:xfrm>
            <a:off x="5783400" y="3517920"/>
            <a:ext cx="0" cy="444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9" name="69 Grupo"/>
          <p:cNvGrpSpPr/>
          <p:nvPr/>
        </p:nvGrpSpPr>
        <p:grpSpPr>
          <a:xfrm>
            <a:off x="2816280" y="1773360"/>
            <a:ext cx="5964120" cy="1625400"/>
            <a:chOff x="2816280" y="1773360"/>
            <a:chExt cx="5964120" cy="1625400"/>
          </a:xfrm>
        </p:grpSpPr>
        <p:sp>
          <p:nvSpPr>
            <p:cNvPr id="450" name="Rectangle 7"/>
            <p:cNvSpPr/>
            <p:nvPr/>
          </p:nvSpPr>
          <p:spPr>
            <a:xfrm>
              <a:off x="2816280" y="2255760"/>
              <a:ext cx="773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preARN: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1" name="Group 8"/>
            <p:cNvGrpSpPr/>
            <p:nvPr/>
          </p:nvGrpSpPr>
          <p:grpSpPr>
            <a:xfrm>
              <a:off x="3810600" y="1773360"/>
              <a:ext cx="4969800" cy="287280"/>
              <a:chOff x="3810600" y="1773360"/>
              <a:chExt cx="4969800" cy="287280"/>
            </a:xfrm>
          </p:grpSpPr>
          <p:sp>
            <p:nvSpPr>
              <p:cNvPr id="452" name="Rectangle 9"/>
              <p:cNvSpPr/>
              <p:nvPr/>
            </p:nvSpPr>
            <p:spPr>
              <a:xfrm>
                <a:off x="8335080" y="1773360"/>
                <a:ext cx="435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3'UT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Rectangle 10"/>
              <p:cNvSpPr/>
              <p:nvPr/>
            </p:nvSpPr>
            <p:spPr>
              <a:xfrm>
                <a:off x="5973840" y="1773360"/>
                <a:ext cx="9360" cy="191880"/>
              </a:xfrm>
              <a:prstGeom prst="rect">
                <a:avLst/>
              </a:prstGeom>
              <a:noFill/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Rectangle 11"/>
              <p:cNvSpPr/>
              <p:nvPr/>
            </p:nvSpPr>
            <p:spPr>
              <a:xfrm>
                <a:off x="3810600" y="1773360"/>
                <a:ext cx="435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5'UT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Line 12"/>
              <p:cNvSpPr/>
              <p:nvPr/>
            </p:nvSpPr>
            <p:spPr>
              <a:xfrm flipV="1">
                <a:off x="3895560" y="1987560"/>
                <a:ext cx="0" cy="6840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Line 13"/>
              <p:cNvSpPr/>
              <p:nvPr/>
            </p:nvSpPr>
            <p:spPr>
              <a:xfrm>
                <a:off x="3895560" y="1986120"/>
                <a:ext cx="4884840" cy="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Line 14"/>
              <p:cNvSpPr/>
              <p:nvPr/>
            </p:nvSpPr>
            <p:spPr>
              <a:xfrm flipV="1">
                <a:off x="4181400" y="1986120"/>
                <a:ext cx="0" cy="7128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Line 15"/>
              <p:cNvSpPr/>
              <p:nvPr/>
            </p:nvSpPr>
            <p:spPr>
              <a:xfrm flipV="1">
                <a:off x="8358120" y="1989360"/>
                <a:ext cx="0" cy="7128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Line 16"/>
              <p:cNvSpPr/>
              <p:nvPr/>
            </p:nvSpPr>
            <p:spPr>
              <a:xfrm flipV="1">
                <a:off x="8772480" y="1982880"/>
                <a:ext cx="0" cy="7128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0" name="Rectangle 17"/>
            <p:cNvSpPr/>
            <p:nvPr/>
          </p:nvSpPr>
          <p:spPr>
            <a:xfrm>
              <a:off x="7378920" y="2295360"/>
              <a:ext cx="985680" cy="188640"/>
            </a:xfrm>
            <a:prstGeom prst="rect">
              <a:avLst/>
            </a:prstGeom>
            <a:solidFill>
              <a:srgbClr val="660033"/>
            </a:solidFill>
            <a:ln w="1260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Rectangle 18"/>
            <p:cNvSpPr/>
            <p:nvPr/>
          </p:nvSpPr>
          <p:spPr>
            <a:xfrm>
              <a:off x="4189320" y="2297160"/>
              <a:ext cx="630000" cy="188640"/>
            </a:xfrm>
            <a:prstGeom prst="rect">
              <a:avLst/>
            </a:prstGeom>
            <a:solidFill>
              <a:srgbClr val="660033"/>
            </a:solidFill>
            <a:ln w="1260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Rectangle 19"/>
            <p:cNvSpPr/>
            <p:nvPr/>
          </p:nvSpPr>
          <p:spPr>
            <a:xfrm>
              <a:off x="5256360" y="2297160"/>
              <a:ext cx="1023840" cy="188640"/>
            </a:xfrm>
            <a:prstGeom prst="rect">
              <a:avLst/>
            </a:prstGeom>
            <a:solidFill>
              <a:srgbClr val="660033"/>
            </a:solidFill>
            <a:ln w="1260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Rectangle 20"/>
            <p:cNvSpPr/>
            <p:nvPr/>
          </p:nvSpPr>
          <p:spPr>
            <a:xfrm>
              <a:off x="4350240" y="2114640"/>
              <a:ext cx="343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Exon 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Rectangle 21"/>
            <p:cNvSpPr/>
            <p:nvPr/>
          </p:nvSpPr>
          <p:spPr>
            <a:xfrm>
              <a:off x="5610600" y="2114640"/>
              <a:ext cx="343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Exon 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Rectangle 22"/>
            <p:cNvSpPr/>
            <p:nvPr/>
          </p:nvSpPr>
          <p:spPr>
            <a:xfrm>
              <a:off x="7682400" y="2114640"/>
              <a:ext cx="343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Exon 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Rectangle 23"/>
            <p:cNvSpPr/>
            <p:nvPr/>
          </p:nvSpPr>
          <p:spPr>
            <a:xfrm>
              <a:off x="4846680" y="2179440"/>
              <a:ext cx="40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Intron 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Rectangle 24"/>
            <p:cNvSpPr/>
            <p:nvPr/>
          </p:nvSpPr>
          <p:spPr>
            <a:xfrm>
              <a:off x="6627960" y="2179440"/>
              <a:ext cx="40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Intron 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25"/>
            <p:cNvSpPr/>
            <p:nvPr/>
          </p:nvSpPr>
          <p:spPr>
            <a:xfrm>
              <a:off x="3895560" y="2403360"/>
              <a:ext cx="4884840" cy="0"/>
            </a:xfrm>
            <a:prstGeom prst="line">
              <a:avLst/>
            </a:prstGeom>
            <a:ln w="381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Rectangle 26"/>
            <p:cNvSpPr/>
            <p:nvPr/>
          </p:nvSpPr>
          <p:spPr>
            <a:xfrm>
              <a:off x="7308720" y="3154320"/>
              <a:ext cx="823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AAAAAAA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Rectangle 27"/>
            <p:cNvSpPr/>
            <p:nvPr/>
          </p:nvSpPr>
          <p:spPr>
            <a:xfrm>
              <a:off x="2816640" y="3170160"/>
              <a:ext cx="1396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ARNm maduro: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Rectangle 29"/>
            <p:cNvSpPr/>
            <p:nvPr/>
          </p:nvSpPr>
          <p:spPr>
            <a:xfrm>
              <a:off x="7527600" y="294156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poly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Rectangle 30"/>
            <p:cNvSpPr/>
            <p:nvPr/>
          </p:nvSpPr>
          <p:spPr>
            <a:xfrm>
              <a:off x="4611600" y="3141720"/>
              <a:ext cx="630000" cy="18864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Rectangle 31"/>
            <p:cNvSpPr/>
            <p:nvPr/>
          </p:nvSpPr>
          <p:spPr>
            <a:xfrm>
              <a:off x="5249880" y="3141720"/>
              <a:ext cx="1023840" cy="1886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32"/>
            <p:cNvSpPr/>
            <p:nvPr/>
          </p:nvSpPr>
          <p:spPr>
            <a:xfrm>
              <a:off x="4321080" y="3238560"/>
              <a:ext cx="295200" cy="0"/>
            </a:xfrm>
            <a:prstGeom prst="line">
              <a:avLst/>
            </a:prstGeom>
            <a:ln w="381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Rectangle 33"/>
            <p:cNvSpPr/>
            <p:nvPr/>
          </p:nvSpPr>
          <p:spPr>
            <a:xfrm>
              <a:off x="4631400" y="3170160"/>
              <a:ext cx="26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T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34"/>
            <p:cNvSpPr/>
            <p:nvPr/>
          </p:nvSpPr>
          <p:spPr>
            <a:xfrm>
              <a:off x="4513320" y="2577960"/>
              <a:ext cx="4572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35"/>
            <p:cNvSpPr/>
            <p:nvPr/>
          </p:nvSpPr>
          <p:spPr>
            <a:xfrm>
              <a:off x="5796000" y="2577960"/>
              <a:ext cx="0" cy="44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36"/>
            <p:cNvSpPr/>
            <p:nvPr/>
          </p:nvSpPr>
          <p:spPr>
            <a:xfrm flipH="1">
              <a:off x="7142400" y="2590920"/>
              <a:ext cx="406080" cy="40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Rectangle 37"/>
            <p:cNvSpPr/>
            <p:nvPr/>
          </p:nvSpPr>
          <p:spPr>
            <a:xfrm>
              <a:off x="6291360" y="3141720"/>
              <a:ext cx="1023840" cy="1886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38"/>
            <p:cNvSpPr/>
            <p:nvPr/>
          </p:nvSpPr>
          <p:spPr>
            <a:xfrm>
              <a:off x="6948720" y="3116160"/>
              <a:ext cx="4982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A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Rectangle 60"/>
            <p:cNvSpPr/>
            <p:nvPr/>
          </p:nvSpPr>
          <p:spPr>
            <a:xfrm>
              <a:off x="4191120" y="2295360"/>
              <a:ext cx="630000" cy="18864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Rectangle 61"/>
            <p:cNvSpPr/>
            <p:nvPr/>
          </p:nvSpPr>
          <p:spPr>
            <a:xfrm>
              <a:off x="4215600" y="2324160"/>
              <a:ext cx="26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AT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Rectangle 62"/>
            <p:cNvSpPr/>
            <p:nvPr/>
          </p:nvSpPr>
          <p:spPr>
            <a:xfrm>
              <a:off x="5257800" y="2295360"/>
              <a:ext cx="1023840" cy="1886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Rectangle 63"/>
            <p:cNvSpPr/>
            <p:nvPr/>
          </p:nvSpPr>
          <p:spPr>
            <a:xfrm>
              <a:off x="7315200" y="2295360"/>
              <a:ext cx="1023840" cy="1886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Rectangle 64"/>
            <p:cNvSpPr/>
            <p:nvPr/>
          </p:nvSpPr>
          <p:spPr>
            <a:xfrm>
              <a:off x="8082360" y="2324160"/>
              <a:ext cx="26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TA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6" name="Rectangle 28"/>
          <p:cNvSpPr/>
          <p:nvPr/>
        </p:nvSpPr>
        <p:spPr>
          <a:xfrm>
            <a:off x="4865040" y="2643120"/>
            <a:ext cx="2387160" cy="18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de-DE" sz="1200" spc="-1" strike="noStrike">
                <a:solidFill>
                  <a:srgbClr val="660033"/>
                </a:solidFill>
                <a:latin typeface="Arial"/>
              </a:rPr>
              <a:t>5‘CAP / Polyadenylation/Splic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 u="sng">
                <a:solidFill>
                  <a:srgbClr val="ff3300"/>
                </a:solidFill>
                <a:uFillTx/>
                <a:latin typeface="Arial"/>
              </a:rPr>
              <a:t>Reacciones de adición del cap 5´ (Caping 5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5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064040" cy="331308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6"/>
          <p:cNvSpPr/>
          <p:nvPr/>
        </p:nvSpPr>
        <p:spPr>
          <a:xfrm>
            <a:off x="4643280" y="1557360"/>
            <a:ext cx="4032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􀂾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􀂾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La base terminal en 5’ es una </a:t>
            </a: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guanina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. Un </a:t>
            </a: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rGDP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se añade a la molécula original de ARN después de la transcripción, en una </a:t>
            </a: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reacción de condensación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catalizada por la enzima </a:t>
            </a:r>
            <a:r>
              <a:rPr b="1" i="1" lang="es-ES" sz="1800" spc="-1" strike="noStrike">
                <a:solidFill>
                  <a:srgbClr val="ff3300"/>
                </a:solidFill>
                <a:latin typeface="Arial"/>
              </a:rPr>
              <a:t>guanilil transferasa</a:t>
            </a:r>
            <a:r>
              <a:rPr b="1" i="1" lang="es-ES" sz="18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􀂾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l ribonucleótido (rGDP) añadido, tiene </a:t>
            </a:r>
            <a:r>
              <a:rPr b="1" lang="es-ES" sz="1800" spc="-1" strike="noStrike">
                <a:solidFill>
                  <a:srgbClr val="008000"/>
                </a:solidFill>
                <a:latin typeface="Arial"/>
              </a:rPr>
              <a:t>orientación contraria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respecto a los demás nucleótidos. Así, el extremo 5’ del ARNm tiene dos nucleótidos conectados por un </a:t>
            </a:r>
            <a:r>
              <a:rPr b="1" lang="es-ES" sz="1800" spc="-1" strike="noStrike">
                <a:solidFill>
                  <a:srgbClr val="008000"/>
                </a:solidFill>
                <a:latin typeface="Arial"/>
              </a:rPr>
              <a:t>enlace trifosfato 5’-5’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y </a:t>
            </a:r>
            <a:r>
              <a:rPr b="1" lang="es-ES" sz="1800" spc="-1" strike="noStrike">
                <a:solidFill>
                  <a:srgbClr val="008000"/>
                </a:solidFill>
                <a:latin typeface="Arial"/>
              </a:rPr>
              <a:t>grupos metilados en distintas posici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Elipse 1"/>
          <p:cNvSpPr/>
          <p:nvPr/>
        </p:nvSpPr>
        <p:spPr>
          <a:xfrm>
            <a:off x="457200" y="1773360"/>
            <a:ext cx="2098800" cy="201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Elipse 5"/>
          <p:cNvSpPr/>
          <p:nvPr/>
        </p:nvSpPr>
        <p:spPr>
          <a:xfrm>
            <a:off x="457200" y="1773360"/>
            <a:ext cx="2098800" cy="2016000"/>
          </a:xfrm>
          <a:prstGeom prst="ellipse">
            <a:avLst/>
          </a:prstGeom>
          <a:solidFill>
            <a:srgbClr val="eaf5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5" descr=""/>
          <p:cNvPicPr/>
          <p:nvPr/>
        </p:nvPicPr>
        <p:blipFill>
          <a:blip r:embed="rId1"/>
          <a:stretch/>
        </p:blipFill>
        <p:spPr>
          <a:xfrm>
            <a:off x="3097080" y="476280"/>
            <a:ext cx="6059520" cy="4495680"/>
          </a:xfrm>
          <a:prstGeom prst="rect">
            <a:avLst/>
          </a:prstGeom>
          <a:ln w="0">
            <a:noFill/>
          </a:ln>
        </p:spPr>
      </p:pic>
      <p:pic>
        <p:nvPicPr>
          <p:cNvPr id="493" name="Imagen 1" descr=""/>
          <p:cNvPicPr/>
          <p:nvPr/>
        </p:nvPicPr>
        <p:blipFill>
          <a:blip r:embed="rId2"/>
          <a:stretch/>
        </p:blipFill>
        <p:spPr>
          <a:xfrm>
            <a:off x="108000" y="1052640"/>
            <a:ext cx="3095640" cy="2528640"/>
          </a:xfrm>
          <a:prstGeom prst="rect">
            <a:avLst/>
          </a:prstGeom>
          <a:ln w="0">
            <a:noFill/>
          </a:ln>
        </p:spPr>
      </p:pic>
      <p:sp>
        <p:nvSpPr>
          <p:cNvPr id="494" name="Elipse 1"/>
          <p:cNvSpPr/>
          <p:nvPr/>
        </p:nvSpPr>
        <p:spPr>
          <a:xfrm>
            <a:off x="539640" y="1268280"/>
            <a:ext cx="5032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Elipse 4"/>
          <p:cNvSpPr/>
          <p:nvPr/>
        </p:nvSpPr>
        <p:spPr>
          <a:xfrm>
            <a:off x="2124000" y="2276640"/>
            <a:ext cx="503280" cy="288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Elipse 5"/>
          <p:cNvSpPr/>
          <p:nvPr/>
        </p:nvSpPr>
        <p:spPr>
          <a:xfrm>
            <a:off x="1908000" y="1268280"/>
            <a:ext cx="5032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Elipse 6"/>
          <p:cNvSpPr/>
          <p:nvPr/>
        </p:nvSpPr>
        <p:spPr>
          <a:xfrm>
            <a:off x="2627280" y="2852640"/>
            <a:ext cx="50472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 u="sng">
                <a:solidFill>
                  <a:srgbClr val="ff3300"/>
                </a:solidFill>
                <a:uFillTx/>
                <a:latin typeface="Arial"/>
              </a:rPr>
              <a:t>Poliadenilación del extremo 3´del 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4911840" y="1130400"/>
            <a:ext cx="3836880" cy="54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3333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e llama cola poli-A a un tramo de residuos de </a:t>
            </a:r>
            <a:r>
              <a:rPr b="1" lang="es-ES" sz="1800" spc="-1" strike="noStrike">
                <a:solidFill>
                  <a:srgbClr val="008000"/>
                </a:solidFill>
                <a:latin typeface="Arial"/>
              </a:rPr>
              <a:t>Adenina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que se adiciona al extremo 3’ del mR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3333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La secuencia de nucleótidos de Adenina no está codificada en el ADN sino que se añade al transcripto después de la transcripció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3333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La adición de la cola está catalizada por la enzima </a:t>
            </a:r>
            <a:r>
              <a:rPr b="1" i="1" lang="es-ES" sz="1800" spc="-1" strike="noStrike">
                <a:solidFill>
                  <a:srgbClr val="ff3300"/>
                </a:solidFill>
                <a:latin typeface="Arial"/>
              </a:rPr>
              <a:t>Poli-A polimerasa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que reconoce la secuencia AAUAAA en el transcripto primario y añade </a:t>
            </a: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~200 residuos de A al extremo 3’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(-OH libre) del mARN. No necesita mol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 La poliadenilación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estabiliza el ARN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8" descr="http://themedicalbiochemistrypage.org/images/polyadenylation.jpg"/>
          <p:cNvPicPr/>
          <p:nvPr/>
        </p:nvPicPr>
        <p:blipFill>
          <a:blip r:embed="rId1"/>
          <a:stretch/>
        </p:blipFill>
        <p:spPr>
          <a:xfrm>
            <a:off x="285840" y="1214280"/>
            <a:ext cx="4567320" cy="27864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0" descr="http://biochimej.univ-angers.fr/Page2/COURS/9ModulGenFoncVeg/5MethEtudGenFonc/4EST/3Figures/2Transcrit3et5prime/4Transcrits3primes.gif"/>
          <p:cNvPicPr/>
          <p:nvPr/>
        </p:nvPicPr>
        <p:blipFill>
          <a:blip r:embed="rId2"/>
          <a:stretch/>
        </p:blipFill>
        <p:spPr>
          <a:xfrm>
            <a:off x="0" y="4572000"/>
            <a:ext cx="4929120" cy="1928880"/>
          </a:xfrm>
          <a:prstGeom prst="rect">
            <a:avLst/>
          </a:prstGeom>
          <a:ln w="0">
            <a:noFill/>
          </a:ln>
        </p:spPr>
      </p:pic>
      <p:sp>
        <p:nvSpPr>
          <p:cNvPr id="502" name="Elipse 5"/>
          <p:cNvSpPr/>
          <p:nvPr/>
        </p:nvSpPr>
        <p:spPr>
          <a:xfrm>
            <a:off x="3954600" y="3557520"/>
            <a:ext cx="64764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 u="sng">
                <a:solidFill>
                  <a:srgbClr val="ff3300"/>
                </a:solidFill>
                <a:uFillTx/>
                <a:latin typeface="Arial"/>
              </a:rPr>
              <a:t>Sistemas de corte de intrones y empalme de exones (</a:t>
            </a:r>
            <a:r>
              <a:rPr b="1" i="1" lang="es-ES" sz="2800" spc="-1" strike="noStrike" u="sng">
                <a:solidFill>
                  <a:srgbClr val="ff3300"/>
                </a:solidFill>
                <a:uFillTx/>
                <a:latin typeface="Arial"/>
              </a:rPr>
              <a:t>splicing</a:t>
            </a:r>
            <a:r>
              <a:rPr b="1" lang="es-ES" sz="2800" spc="-1" strike="noStrike" u="sng">
                <a:solidFill>
                  <a:srgbClr val="ff3300"/>
                </a:solidFill>
                <a:uFillTx/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73"/>
          <p:cNvGrpSpPr/>
          <p:nvPr/>
        </p:nvGrpSpPr>
        <p:grpSpPr>
          <a:xfrm>
            <a:off x="663480" y="1413000"/>
            <a:ext cx="7293240" cy="5400720"/>
            <a:chOff x="663480" y="1413000"/>
            <a:chExt cx="7293240" cy="5400720"/>
          </a:xfrm>
        </p:grpSpPr>
        <p:grpSp>
          <p:nvGrpSpPr>
            <p:cNvPr id="505" name="Group 12"/>
            <p:cNvGrpSpPr/>
            <p:nvPr/>
          </p:nvGrpSpPr>
          <p:grpSpPr>
            <a:xfrm>
              <a:off x="1332000" y="1413000"/>
              <a:ext cx="6224400" cy="4392000"/>
              <a:chOff x="1332000" y="1413000"/>
              <a:chExt cx="6224400" cy="4392000"/>
            </a:xfrm>
          </p:grpSpPr>
          <p:grpSp>
            <p:nvGrpSpPr>
              <p:cNvPr id="506" name="Group 13"/>
              <p:cNvGrpSpPr/>
              <p:nvPr/>
            </p:nvGrpSpPr>
            <p:grpSpPr>
              <a:xfrm>
                <a:off x="1591920" y="1413000"/>
                <a:ext cx="5964480" cy="4191120"/>
                <a:chOff x="1591920" y="1413000"/>
                <a:chExt cx="5964480" cy="4191120"/>
              </a:xfrm>
            </p:grpSpPr>
            <p:sp>
              <p:nvSpPr>
                <p:cNvPr id="507" name="Rectangle 14"/>
                <p:cNvSpPr/>
                <p:nvPr/>
              </p:nvSpPr>
              <p:spPr>
                <a:xfrm>
                  <a:off x="1592280" y="1895400"/>
                  <a:ext cx="7732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74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de-DE" sz="1500" spc="-1" strike="noStrike">
                      <a:solidFill>
                        <a:srgbClr val="000000"/>
                      </a:solidFill>
                      <a:latin typeface="Arial"/>
                    </a:rPr>
                    <a:t>preARN:</a:t>
                  </a:r>
                  <a:endParaRPr b="0" lang="en-US" sz="1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08" name="Group 15"/>
                <p:cNvGrpSpPr/>
                <p:nvPr/>
              </p:nvGrpSpPr>
              <p:grpSpPr>
                <a:xfrm>
                  <a:off x="2586600" y="1413000"/>
                  <a:ext cx="4969800" cy="287280"/>
                  <a:chOff x="2586600" y="1413000"/>
                  <a:chExt cx="4969800" cy="287280"/>
                </a:xfrm>
              </p:grpSpPr>
              <p:sp>
                <p:nvSpPr>
                  <p:cNvPr id="509" name="Rectangle 16"/>
                  <p:cNvSpPr/>
                  <p:nvPr/>
                </p:nvSpPr>
                <p:spPr>
                  <a:xfrm>
                    <a:off x="7111080" y="1413000"/>
                    <a:ext cx="4352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de-DE" sz="1200" spc="-1" strike="noStrike">
                        <a:solidFill>
                          <a:srgbClr val="000000"/>
                        </a:solidFill>
                        <a:latin typeface="Arial"/>
                      </a:rPr>
                      <a:t>3'UTR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Rectangle 17"/>
                  <p:cNvSpPr/>
                  <p:nvPr/>
                </p:nvSpPr>
                <p:spPr>
                  <a:xfrm>
                    <a:off x="4749840" y="1413000"/>
                    <a:ext cx="9360" cy="191880"/>
                  </a:xfrm>
                  <a:prstGeom prst="rect">
                    <a:avLst/>
                  </a:prstGeom>
                  <a:noFill/>
                  <a:ln w="936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spcBef>
                        <a:spcPts val="300"/>
                      </a:spcBef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Rectangle 18"/>
                  <p:cNvSpPr/>
                  <p:nvPr/>
                </p:nvSpPr>
                <p:spPr>
                  <a:xfrm>
                    <a:off x="2586600" y="1413000"/>
                    <a:ext cx="4352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de-DE" sz="1200" spc="-1" strike="noStrike">
                        <a:solidFill>
                          <a:srgbClr val="000000"/>
                        </a:solidFill>
                        <a:latin typeface="Arial"/>
                      </a:rPr>
                      <a:t>5'UTR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Line 19"/>
                  <p:cNvSpPr/>
                  <p:nvPr/>
                </p:nvSpPr>
                <p:spPr>
                  <a:xfrm flipV="1">
                    <a:off x="2671560" y="1627200"/>
                    <a:ext cx="0" cy="68400"/>
                  </a:xfrm>
                  <a:prstGeom prst="line">
                    <a:avLst/>
                  </a:prstGeom>
                  <a:ln w="1260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20"/>
                  <p:cNvSpPr/>
                  <p:nvPr/>
                </p:nvSpPr>
                <p:spPr>
                  <a:xfrm>
                    <a:off x="2671560" y="1625760"/>
                    <a:ext cx="4884840" cy="0"/>
                  </a:xfrm>
                  <a:prstGeom prst="line">
                    <a:avLst/>
                  </a:prstGeom>
                  <a:ln w="1260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Line 21"/>
                  <p:cNvSpPr/>
                  <p:nvPr/>
                </p:nvSpPr>
                <p:spPr>
                  <a:xfrm flipV="1">
                    <a:off x="2957400" y="1625760"/>
                    <a:ext cx="0" cy="71280"/>
                  </a:xfrm>
                  <a:prstGeom prst="line">
                    <a:avLst/>
                  </a:prstGeom>
                  <a:ln w="1260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Line 22"/>
                  <p:cNvSpPr/>
                  <p:nvPr/>
                </p:nvSpPr>
                <p:spPr>
                  <a:xfrm flipV="1">
                    <a:off x="7134120" y="1629000"/>
                    <a:ext cx="0" cy="71280"/>
                  </a:xfrm>
                  <a:prstGeom prst="line">
                    <a:avLst/>
                  </a:prstGeom>
                  <a:ln w="1260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Line 23"/>
                  <p:cNvSpPr/>
                  <p:nvPr/>
                </p:nvSpPr>
                <p:spPr>
                  <a:xfrm flipV="1">
                    <a:off x="7548480" y="1622520"/>
                    <a:ext cx="0" cy="71280"/>
                  </a:xfrm>
                  <a:prstGeom prst="line">
                    <a:avLst/>
                  </a:prstGeom>
                  <a:ln w="1260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7" name="Rectangle 24"/>
                <p:cNvSpPr/>
                <p:nvPr/>
              </p:nvSpPr>
              <p:spPr>
                <a:xfrm>
                  <a:off x="6154560" y="1935360"/>
                  <a:ext cx="986040" cy="188640"/>
                </a:xfrm>
                <a:prstGeom prst="rect">
                  <a:avLst/>
                </a:prstGeom>
                <a:solidFill>
                  <a:srgbClr val="660033"/>
                </a:solidFill>
                <a:ln w="12600">
                  <a:solidFill>
                    <a:srgbClr val="66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Rectangle 25"/>
                <p:cNvSpPr/>
                <p:nvPr/>
              </p:nvSpPr>
              <p:spPr>
                <a:xfrm>
                  <a:off x="2965320" y="1936800"/>
                  <a:ext cx="630360" cy="189000"/>
                </a:xfrm>
                <a:prstGeom prst="rect">
                  <a:avLst/>
                </a:prstGeom>
                <a:solidFill>
                  <a:srgbClr val="660033"/>
                </a:solidFill>
                <a:ln w="12600">
                  <a:solidFill>
                    <a:srgbClr val="66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Rectangle 26"/>
                <p:cNvSpPr/>
                <p:nvPr/>
              </p:nvSpPr>
              <p:spPr>
                <a:xfrm>
                  <a:off x="4032360" y="1936800"/>
                  <a:ext cx="1023840" cy="189000"/>
                </a:xfrm>
                <a:prstGeom prst="rect">
                  <a:avLst/>
                </a:prstGeom>
                <a:solidFill>
                  <a:srgbClr val="660033"/>
                </a:solidFill>
                <a:ln w="12600">
                  <a:solidFill>
                    <a:srgbClr val="66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Rectangle 27"/>
                <p:cNvSpPr/>
                <p:nvPr/>
              </p:nvSpPr>
              <p:spPr>
                <a:xfrm>
                  <a:off x="3126240" y="1754280"/>
                  <a:ext cx="3438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24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de-DE" sz="900" spc="-1" strike="noStrike">
                      <a:solidFill>
                        <a:srgbClr val="000000"/>
                      </a:solidFill>
                      <a:latin typeface="Times New Roman"/>
                    </a:rPr>
                    <a:t>Exon 1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Rectangle 28"/>
                <p:cNvSpPr/>
                <p:nvPr/>
              </p:nvSpPr>
              <p:spPr>
                <a:xfrm>
                  <a:off x="4386600" y="1754280"/>
                  <a:ext cx="3438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24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de-DE" sz="900" spc="-1" strike="noStrike">
                      <a:solidFill>
                        <a:srgbClr val="000000"/>
                      </a:solidFill>
                      <a:latin typeface="Times New Roman"/>
                    </a:rPr>
                    <a:t>Exon 2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Rectangle 29"/>
                <p:cNvSpPr/>
                <p:nvPr/>
              </p:nvSpPr>
              <p:spPr>
                <a:xfrm>
                  <a:off x="6458400" y="1754280"/>
                  <a:ext cx="3438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24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de-DE" sz="900" spc="-1" strike="noStrike">
                      <a:solidFill>
                        <a:srgbClr val="000000"/>
                      </a:solidFill>
                      <a:latin typeface="Times New Roman"/>
                    </a:rPr>
                    <a:t>Exon 3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Rectangle 30"/>
                <p:cNvSpPr/>
                <p:nvPr/>
              </p:nvSpPr>
              <p:spPr>
                <a:xfrm>
                  <a:off x="3622680" y="1819440"/>
                  <a:ext cx="4060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24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de-DE" sz="900" spc="-1" strike="noStrike">
                      <a:solidFill>
                        <a:srgbClr val="000000"/>
                      </a:solidFill>
                      <a:latin typeface="Times New Roman"/>
                    </a:rPr>
                    <a:t>Intron 1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Rectangle 31"/>
                <p:cNvSpPr/>
                <p:nvPr/>
              </p:nvSpPr>
              <p:spPr>
                <a:xfrm>
                  <a:off x="5403960" y="1819440"/>
                  <a:ext cx="4060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24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de-DE" sz="900" spc="-1" strike="noStrike">
                      <a:solidFill>
                        <a:srgbClr val="000000"/>
                      </a:solidFill>
                      <a:latin typeface="Times New Roman"/>
                    </a:rPr>
                    <a:t>Intron 2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32"/>
                <p:cNvSpPr/>
                <p:nvPr/>
              </p:nvSpPr>
              <p:spPr>
                <a:xfrm>
                  <a:off x="2671560" y="2043000"/>
                  <a:ext cx="4884840" cy="0"/>
                </a:xfrm>
                <a:prstGeom prst="line">
                  <a:avLst/>
                </a:prstGeom>
                <a:ln w="38160">
                  <a:solidFill>
                    <a:srgbClr val="66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Rectangle 33"/>
                <p:cNvSpPr/>
                <p:nvPr/>
              </p:nvSpPr>
              <p:spPr>
                <a:xfrm>
                  <a:off x="6085080" y="2793960"/>
                  <a:ext cx="8236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de-DE" sz="1000" spc="-1" strike="noStrike">
                      <a:solidFill>
                        <a:srgbClr val="000000"/>
                      </a:solidFill>
                      <a:latin typeface="Arial"/>
                    </a:rPr>
                    <a:t>AAAAAAAAA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Rectangle 34"/>
                <p:cNvSpPr/>
                <p:nvPr/>
              </p:nvSpPr>
              <p:spPr>
                <a:xfrm>
                  <a:off x="1591920" y="2809800"/>
                  <a:ext cx="13327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74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de-DE" sz="1500" spc="-1" strike="noStrike">
                      <a:solidFill>
                        <a:srgbClr val="000000"/>
                      </a:solidFill>
                      <a:latin typeface="Arial"/>
                    </a:rPr>
                    <a:t>mARN maduro</a:t>
                  </a:r>
                  <a:endParaRPr b="0" lang="en-US" sz="1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Rectangle 35"/>
                <p:cNvSpPr/>
                <p:nvPr/>
              </p:nvSpPr>
              <p:spPr>
                <a:xfrm>
                  <a:off x="2403360" y="2333520"/>
                  <a:ext cx="637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i="1" lang="de-DE" sz="1200" spc="-1" strike="noStrike">
                      <a:solidFill>
                        <a:srgbClr val="660033"/>
                      </a:solidFill>
                      <a:latin typeface="Arial"/>
                    </a:rPr>
                    <a:t>Splicing 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Rectangle 36"/>
                <p:cNvSpPr/>
                <p:nvPr/>
              </p:nvSpPr>
              <p:spPr>
                <a:xfrm>
                  <a:off x="6303600" y="2581200"/>
                  <a:ext cx="424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polyA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Rectangle 37"/>
                <p:cNvSpPr/>
                <p:nvPr/>
              </p:nvSpPr>
              <p:spPr>
                <a:xfrm>
                  <a:off x="3387600" y="2781360"/>
                  <a:ext cx="630360" cy="189000"/>
                </a:xfrm>
                <a:prstGeom prst="rect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Rectangle 38"/>
                <p:cNvSpPr/>
                <p:nvPr/>
              </p:nvSpPr>
              <p:spPr>
                <a:xfrm>
                  <a:off x="4025880" y="2781360"/>
                  <a:ext cx="1023840" cy="189000"/>
                </a:xfrm>
                <a:prstGeom prst="rect">
                  <a:avLst/>
                </a:prstGeom>
                <a:solidFill>
                  <a:srgbClr val="b2b2b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39"/>
                <p:cNvSpPr/>
                <p:nvPr/>
              </p:nvSpPr>
              <p:spPr>
                <a:xfrm>
                  <a:off x="3097080" y="2878200"/>
                  <a:ext cx="295200" cy="0"/>
                </a:xfrm>
                <a:prstGeom prst="line">
                  <a:avLst/>
                </a:prstGeom>
                <a:ln w="38160">
                  <a:solidFill>
                    <a:srgbClr val="66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Rectangle 40"/>
                <p:cNvSpPr/>
                <p:nvPr/>
              </p:nvSpPr>
              <p:spPr>
                <a:xfrm>
                  <a:off x="3407400" y="2809800"/>
                  <a:ext cx="268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de-DE" sz="1000" spc="-1" strike="noStrike">
                      <a:solidFill>
                        <a:srgbClr val="000000"/>
                      </a:solidFill>
                      <a:latin typeface="Arial"/>
                    </a:rPr>
                    <a:t>ATG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Line 41"/>
                <p:cNvSpPr/>
                <p:nvPr/>
              </p:nvSpPr>
              <p:spPr>
                <a:xfrm>
                  <a:off x="3289320" y="2217960"/>
                  <a:ext cx="457200" cy="4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Line 42"/>
                <p:cNvSpPr/>
                <p:nvPr/>
              </p:nvSpPr>
              <p:spPr>
                <a:xfrm>
                  <a:off x="4572000" y="2217960"/>
                  <a:ext cx="0" cy="444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Line 43"/>
                <p:cNvSpPr/>
                <p:nvPr/>
              </p:nvSpPr>
              <p:spPr>
                <a:xfrm flipH="1">
                  <a:off x="5917680" y="2230560"/>
                  <a:ext cx="406440" cy="406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Rectangle 44"/>
                <p:cNvSpPr/>
                <p:nvPr/>
              </p:nvSpPr>
              <p:spPr>
                <a:xfrm>
                  <a:off x="5067360" y="2781360"/>
                  <a:ext cx="1023840" cy="189000"/>
                </a:xfrm>
                <a:prstGeom prst="rect">
                  <a:avLst/>
                </a:prstGeom>
                <a:solidFill>
                  <a:srgbClr val="cc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spcBef>
                      <a:spcPts val="451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Text Box 45"/>
                <p:cNvSpPr/>
                <p:nvPr/>
              </p:nvSpPr>
              <p:spPr>
                <a:xfrm>
                  <a:off x="5724360" y="2755800"/>
                  <a:ext cx="49860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TAA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Rectangle 46"/>
                <p:cNvSpPr/>
                <p:nvPr/>
              </p:nvSpPr>
              <p:spPr>
                <a:xfrm>
                  <a:off x="1605240" y="3826080"/>
                  <a:ext cx="12898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74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de-DE" sz="1500" spc="-1" strike="noStrike">
                      <a:solidFill>
                        <a:srgbClr val="000000"/>
                      </a:solidFill>
                      <a:latin typeface="Arial"/>
                    </a:rPr>
                    <a:t>active</a:t>
                  </a:r>
                  <a:r>
                    <a:rPr b="1" lang="de-DE" sz="1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de-DE" sz="1500" spc="-1" strike="noStrike">
                      <a:solidFill>
                        <a:srgbClr val="000000"/>
                      </a:solidFill>
                      <a:latin typeface="Arial"/>
                    </a:rPr>
                    <a:t>protein:</a:t>
                  </a:r>
                  <a:endParaRPr b="0" lang="en-US" sz="15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Rectangle 47"/>
                <p:cNvSpPr/>
                <p:nvPr/>
              </p:nvSpPr>
              <p:spPr>
                <a:xfrm>
                  <a:off x="2479680" y="3470400"/>
                  <a:ext cx="16794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i="1" lang="de-DE" sz="1200" spc="-1" strike="noStrike">
                      <a:solidFill>
                        <a:srgbClr val="cc0055"/>
                      </a:solidFill>
                      <a:latin typeface="Arial"/>
                    </a:rPr>
                    <a:t>Traducción 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Rectangle 48"/>
                <p:cNvSpPr/>
                <p:nvPr/>
              </p:nvSpPr>
              <p:spPr>
                <a:xfrm>
                  <a:off x="3390120" y="4049640"/>
                  <a:ext cx="4503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de-DE" sz="1000" spc="-1" strike="noStrike">
                      <a:solidFill>
                        <a:srgbClr val="004eff"/>
                      </a:solidFill>
                      <a:latin typeface="Arial"/>
                    </a:rPr>
                    <a:t>CPLTW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Rectangle 49"/>
                <p:cNvSpPr/>
                <p:nvPr/>
              </p:nvSpPr>
              <p:spPr>
                <a:xfrm>
                  <a:off x="5275440" y="4049640"/>
                  <a:ext cx="745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de-DE" sz="1000" spc="-1" strike="noStrike">
                      <a:solidFill>
                        <a:srgbClr val="004eff"/>
                      </a:solidFill>
                      <a:latin typeface="Arial"/>
                    </a:rPr>
                    <a:t>..............GFL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Rectangle 50"/>
                <p:cNvSpPr/>
                <p:nvPr/>
              </p:nvSpPr>
              <p:spPr>
                <a:xfrm>
                  <a:off x="5048280" y="3835440"/>
                  <a:ext cx="985680" cy="187200"/>
                </a:xfrm>
                <a:prstGeom prst="rect">
                  <a:avLst/>
                </a:prstGeom>
                <a:solidFill>
                  <a:srgbClr val="cc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Rectangle 51"/>
                <p:cNvSpPr/>
                <p:nvPr/>
              </p:nvSpPr>
              <p:spPr>
                <a:xfrm>
                  <a:off x="3375000" y="3835440"/>
                  <a:ext cx="630360" cy="189000"/>
                </a:xfrm>
                <a:prstGeom prst="rect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Rectangle 52"/>
                <p:cNvSpPr/>
                <p:nvPr/>
              </p:nvSpPr>
              <p:spPr>
                <a:xfrm>
                  <a:off x="4013280" y="3835440"/>
                  <a:ext cx="1023840" cy="189000"/>
                </a:xfrm>
                <a:prstGeom prst="rect">
                  <a:avLst/>
                </a:prstGeom>
                <a:solidFill>
                  <a:srgbClr val="b2b2b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53"/>
                <p:cNvSpPr/>
                <p:nvPr/>
              </p:nvSpPr>
              <p:spPr>
                <a:xfrm>
                  <a:off x="4559400" y="3157560"/>
                  <a:ext cx="0" cy="444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Rectangle 54"/>
                <p:cNvSpPr/>
                <p:nvPr/>
              </p:nvSpPr>
              <p:spPr>
                <a:xfrm>
                  <a:off x="3377520" y="4613400"/>
                  <a:ext cx="4503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de-DE" sz="1000" spc="-1" strike="noStrike">
                      <a:solidFill>
                        <a:srgbClr val="004eff"/>
                      </a:solidFill>
                      <a:latin typeface="Arial"/>
                    </a:rPr>
                    <a:t>CPLTW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Rectangle 55"/>
                <p:cNvSpPr/>
                <p:nvPr/>
              </p:nvSpPr>
              <p:spPr>
                <a:xfrm>
                  <a:off x="4275720" y="4613400"/>
                  <a:ext cx="736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de-DE" sz="1000" spc="-1" strike="noStrike">
                      <a:solidFill>
                        <a:srgbClr val="004eff"/>
                      </a:solidFill>
                      <a:latin typeface="Arial"/>
                    </a:rPr>
                    <a:t>..............PJC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Rectangle 56"/>
                <p:cNvSpPr/>
                <p:nvPr/>
              </p:nvSpPr>
              <p:spPr>
                <a:xfrm>
                  <a:off x="3362400" y="4398840"/>
                  <a:ext cx="630000" cy="189000"/>
                </a:xfrm>
                <a:prstGeom prst="rect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Rectangle 57"/>
                <p:cNvSpPr/>
                <p:nvPr/>
              </p:nvSpPr>
              <p:spPr>
                <a:xfrm>
                  <a:off x="4000320" y="4398840"/>
                  <a:ext cx="1024200" cy="189000"/>
                </a:xfrm>
                <a:prstGeom prst="rect">
                  <a:avLst/>
                </a:prstGeom>
                <a:solidFill>
                  <a:srgbClr val="b2b2b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Rectangle 58"/>
                <p:cNvSpPr/>
                <p:nvPr/>
              </p:nvSpPr>
              <p:spPr>
                <a:xfrm>
                  <a:off x="5267160" y="4430880"/>
                  <a:ext cx="16797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i="1" lang="de-DE" sz="1200" spc="-1" strike="noStrike">
                      <a:solidFill>
                        <a:srgbClr val="cc0055"/>
                      </a:solidFill>
                      <a:latin typeface="Arial"/>
                    </a:rPr>
                    <a:t>Splicing alternativo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Rectangle 59"/>
                <p:cNvSpPr/>
                <p:nvPr/>
              </p:nvSpPr>
              <p:spPr>
                <a:xfrm>
                  <a:off x="2128680" y="5019840"/>
                  <a:ext cx="1679760" cy="36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i="1" lang="de-DE" sz="1200" spc="-1" strike="noStrike">
                      <a:solidFill>
                        <a:srgbClr val="cc0055"/>
                      </a:solidFill>
                      <a:latin typeface="Arial"/>
                    </a:rPr>
                    <a:t>Modificación post-transduccional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Rectangle 60"/>
                <p:cNvSpPr/>
                <p:nvPr/>
              </p:nvSpPr>
              <p:spPr>
                <a:xfrm>
                  <a:off x="4063320" y="5451480"/>
                  <a:ext cx="4503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de-DE" sz="1000" spc="-1" strike="noStrike">
                      <a:solidFill>
                        <a:srgbClr val="004eff"/>
                      </a:solidFill>
                      <a:latin typeface="Arial"/>
                    </a:rPr>
                    <a:t>CPLTW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Rectangle 61"/>
                <p:cNvSpPr/>
                <p:nvPr/>
              </p:nvSpPr>
              <p:spPr>
                <a:xfrm>
                  <a:off x="5416920" y="5451480"/>
                  <a:ext cx="7520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de-DE" sz="1000" spc="-1" strike="noStrike">
                      <a:solidFill>
                        <a:srgbClr val="004eff"/>
                      </a:solidFill>
                      <a:latin typeface="Arial"/>
                    </a:rPr>
                    <a:t>..............LAC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Rectangle 62"/>
                <p:cNvSpPr/>
                <p:nvPr/>
              </p:nvSpPr>
              <p:spPr>
                <a:xfrm>
                  <a:off x="5721480" y="5235480"/>
                  <a:ext cx="460080" cy="216000"/>
                </a:xfrm>
                <a:prstGeom prst="rect">
                  <a:avLst/>
                </a:prstGeom>
                <a:solidFill>
                  <a:srgbClr val="cc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Rectangle 63"/>
                <p:cNvSpPr/>
                <p:nvPr/>
              </p:nvSpPr>
              <p:spPr>
                <a:xfrm>
                  <a:off x="4048200" y="5237280"/>
                  <a:ext cx="630000" cy="189000"/>
                </a:xfrm>
                <a:prstGeom prst="rect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Rectangle 64"/>
                <p:cNvSpPr/>
                <p:nvPr/>
              </p:nvSpPr>
              <p:spPr>
                <a:xfrm>
                  <a:off x="4686120" y="5237280"/>
                  <a:ext cx="1024200" cy="189000"/>
                </a:xfrm>
                <a:prstGeom prst="rect">
                  <a:avLst/>
                </a:prstGeom>
                <a:solidFill>
                  <a:srgbClr val="b2b2b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Rectangle 65"/>
                <p:cNvSpPr/>
                <p:nvPr/>
              </p:nvSpPr>
              <p:spPr>
                <a:xfrm>
                  <a:off x="5419800" y="5146560"/>
                  <a:ext cx="75960" cy="152640"/>
                </a:xfrm>
                <a:prstGeom prst="rect">
                  <a:avLst/>
                </a:prstGeom>
                <a:solidFill>
                  <a:srgbClr val="99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Rectangle 66"/>
                <p:cNvSpPr/>
                <p:nvPr/>
              </p:nvSpPr>
              <p:spPr>
                <a:xfrm>
                  <a:off x="5572080" y="5375160"/>
                  <a:ext cx="76320" cy="152640"/>
                </a:xfrm>
                <a:prstGeom prst="rect">
                  <a:avLst/>
                </a:prstGeom>
                <a:solidFill>
                  <a:srgbClr val="99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Rectangle 67"/>
                <p:cNvSpPr/>
                <p:nvPr/>
              </p:nvSpPr>
              <p:spPr>
                <a:xfrm>
                  <a:off x="2967120" y="1935360"/>
                  <a:ext cx="630000" cy="188640"/>
                </a:xfrm>
                <a:prstGeom prst="rect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Rectangle 68"/>
                <p:cNvSpPr/>
                <p:nvPr/>
              </p:nvSpPr>
              <p:spPr>
                <a:xfrm>
                  <a:off x="2991600" y="1963800"/>
                  <a:ext cx="268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de-DE" sz="1000" spc="-1" strike="noStrike">
                      <a:solidFill>
                        <a:srgbClr val="ffffff"/>
                      </a:solidFill>
                      <a:latin typeface="Arial"/>
                    </a:rPr>
                    <a:t>ATG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Rectangle 69"/>
                <p:cNvSpPr/>
                <p:nvPr/>
              </p:nvSpPr>
              <p:spPr>
                <a:xfrm>
                  <a:off x="4033800" y="1935360"/>
                  <a:ext cx="1023840" cy="188640"/>
                </a:xfrm>
                <a:prstGeom prst="rect">
                  <a:avLst/>
                </a:prstGeom>
                <a:solidFill>
                  <a:srgbClr val="b2b2b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Rectangle 70"/>
                <p:cNvSpPr/>
                <p:nvPr/>
              </p:nvSpPr>
              <p:spPr>
                <a:xfrm>
                  <a:off x="6091200" y="1935360"/>
                  <a:ext cx="1023840" cy="188640"/>
                </a:xfrm>
                <a:prstGeom prst="rect">
                  <a:avLst/>
                </a:prstGeom>
                <a:solidFill>
                  <a:srgbClr val="cc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spcBef>
                      <a:spcPts val="451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Rectangle 71"/>
                <p:cNvSpPr/>
                <p:nvPr/>
              </p:nvSpPr>
              <p:spPr>
                <a:xfrm>
                  <a:off x="6858360" y="1963800"/>
                  <a:ext cx="2613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de-DE" sz="1000" spc="-1" strike="noStrike">
                      <a:solidFill>
                        <a:srgbClr val="000000"/>
                      </a:solidFill>
                      <a:latin typeface="Arial"/>
                    </a:rPr>
                    <a:t>TAA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5" name="Rectangle 72"/>
              <p:cNvSpPr/>
              <p:nvPr/>
            </p:nvSpPr>
            <p:spPr>
              <a:xfrm>
                <a:off x="1332000" y="3139920"/>
                <a:ext cx="6192720" cy="266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6" name="Text Box 7"/>
            <p:cNvSpPr/>
            <p:nvPr/>
          </p:nvSpPr>
          <p:spPr>
            <a:xfrm>
              <a:off x="663480" y="445608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67" name="Picture 8" descr=""/>
            <p:cNvPicPr/>
            <p:nvPr/>
          </p:nvPicPr>
          <p:blipFill>
            <a:blip r:embed="rId1"/>
            <a:stretch/>
          </p:blipFill>
          <p:spPr>
            <a:xfrm>
              <a:off x="1547640" y="3019320"/>
              <a:ext cx="6409080" cy="379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2" descr="http://www.bionova.org.es/biocast/documentos/figura/figtem19/figurat1940.jpg"/>
          <p:cNvPicPr/>
          <p:nvPr/>
        </p:nvPicPr>
        <p:blipFill>
          <a:blip r:embed="rId1"/>
          <a:srcRect l="0" t="0" r="0" b="33999"/>
          <a:stretch/>
        </p:blipFill>
        <p:spPr>
          <a:xfrm>
            <a:off x="1757520" y="357120"/>
            <a:ext cx="560052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 u="sng">
                <a:solidFill>
                  <a:srgbClr val="ff3300"/>
                </a:solidFill>
                <a:uFillTx/>
                <a:latin typeface="Arial"/>
              </a:rPr>
              <a:t>Mecanismo de spli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7"/>
          <p:cNvSpPr/>
          <p:nvPr/>
        </p:nvSpPr>
        <p:spPr>
          <a:xfrm>
            <a:off x="285840" y="542916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ºAtaque nucleofílico del 2’- OH del antepenúltimo nucleótido de A del intrón sobre el sitio 5’ (-P) del último nucleótido del exón 1 o sitio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plicing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º. El extremo 3’-OH libre del exón liberado ataca el enlace en el sitio 3’ de splicing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1" name="Picture 7" descr="http://institutomodernoamericano.edu.co/moodle/grados/octavo/contenido/biologia/jpg/bio_076.gif"/>
          <p:cNvPicPr/>
          <p:nvPr/>
        </p:nvPicPr>
        <p:blipFill>
          <a:blip r:embed="rId1"/>
          <a:stretch/>
        </p:blipFill>
        <p:spPr>
          <a:xfrm>
            <a:off x="1803240" y="857160"/>
            <a:ext cx="548352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Elementos multimedia en línea 3" descr="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Group 4"/>
          <p:cNvGrpSpPr/>
          <p:nvPr/>
        </p:nvGrpSpPr>
        <p:grpSpPr>
          <a:xfrm>
            <a:off x="403920" y="1085760"/>
            <a:ext cx="8019360" cy="4648320"/>
            <a:chOff x="403920" y="1085760"/>
            <a:chExt cx="8019360" cy="4648320"/>
          </a:xfrm>
        </p:grpSpPr>
        <p:grpSp>
          <p:nvGrpSpPr>
            <p:cNvPr id="574" name="Group 5"/>
            <p:cNvGrpSpPr/>
            <p:nvPr/>
          </p:nvGrpSpPr>
          <p:grpSpPr>
            <a:xfrm>
              <a:off x="403920" y="1230480"/>
              <a:ext cx="4799520" cy="4031640"/>
              <a:chOff x="403920" y="1230480"/>
              <a:chExt cx="4799520" cy="4031640"/>
            </a:xfrm>
          </p:grpSpPr>
          <p:sp>
            <p:nvSpPr>
              <p:cNvPr id="575" name="Text Box 6"/>
              <p:cNvSpPr/>
              <p:nvPr/>
            </p:nvSpPr>
            <p:spPr>
              <a:xfrm>
                <a:off x="3207240" y="1811160"/>
                <a:ext cx="674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D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Text Box 7"/>
              <p:cNvSpPr/>
              <p:nvPr/>
            </p:nvSpPr>
            <p:spPr>
              <a:xfrm>
                <a:off x="3207240" y="3385440"/>
                <a:ext cx="674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R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Text Box 8"/>
              <p:cNvSpPr/>
              <p:nvPr/>
            </p:nvSpPr>
            <p:spPr>
              <a:xfrm>
                <a:off x="2628000" y="4662000"/>
                <a:ext cx="2190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éptido o proteín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AutoShape 9"/>
              <p:cNvSpPr/>
              <p:nvPr/>
            </p:nvSpPr>
            <p:spPr>
              <a:xfrm>
                <a:off x="3408120" y="2312280"/>
                <a:ext cx="203760" cy="1081440"/>
              </a:xfrm>
              <a:prstGeom prst="downArrow">
                <a:avLst>
                  <a:gd name="adj1" fmla="val 50000"/>
                  <a:gd name="adj2" fmla="val 132686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AutoShape 10"/>
              <p:cNvSpPr/>
              <p:nvPr/>
            </p:nvSpPr>
            <p:spPr>
              <a:xfrm>
                <a:off x="3408120" y="3885840"/>
                <a:ext cx="203760" cy="786960"/>
              </a:xfrm>
              <a:prstGeom prst="downArrow">
                <a:avLst>
                  <a:gd name="adj1" fmla="val 50000"/>
                  <a:gd name="adj2" fmla="val 96555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AutoShape 11"/>
              <p:cNvSpPr/>
              <p:nvPr/>
            </p:nvSpPr>
            <p:spPr>
              <a:xfrm flipH="1">
                <a:off x="3544920" y="1427760"/>
                <a:ext cx="339840" cy="589320"/>
              </a:xfrm>
              <a:custGeom>
                <a:avLst/>
                <a:gdLst>
                  <a:gd name="textAreaLeft" fmla="*/ 0 w 339840"/>
                  <a:gd name="textAreaRight" fmla="*/ 95760 w 339840"/>
                  <a:gd name="textAreaTop" fmla="*/ 227520 h 589320"/>
                  <a:gd name="textAreaBottom" fmla="*/ 589680 h 589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662" y="14285"/>
                    </a:moveTo>
                    <a:lnTo>
                      <a:pt x="21600" y="8310"/>
                    </a:lnTo>
                    <a:lnTo>
                      <a:pt x="18630" y="8310"/>
                    </a:lnTo>
                    <a:cubicBezTo>
                      <a:pt x="18630" y="3721"/>
                      <a:pt x="14430" y="0"/>
                      <a:pt x="9250" y="0"/>
                    </a:cubicBezTo>
                    <a:cubicBezTo>
                      <a:pt x="4141" y="0"/>
                      <a:pt x="0" y="3799"/>
                      <a:pt x="0" y="8485"/>
                    </a:cubicBezTo>
                    <a:lnTo>
                      <a:pt x="0" y="21600"/>
                    </a:lnTo>
                    <a:lnTo>
                      <a:pt x="6110" y="21600"/>
                    </a:lnTo>
                    <a:lnTo>
                      <a:pt x="6110" y="8310"/>
                    </a:lnTo>
                    <a:cubicBezTo>
                      <a:pt x="6110" y="6947"/>
                      <a:pt x="7362" y="5842"/>
                      <a:pt x="8907" y="5842"/>
                    </a:cubicBezTo>
                    <a:lnTo>
                      <a:pt x="9725" y="5842"/>
                    </a:lnTo>
                    <a:cubicBezTo>
                      <a:pt x="11269" y="5842"/>
                      <a:pt x="12520" y="6947"/>
                      <a:pt x="12520" y="8310"/>
                    </a:cubicBezTo>
                    <a:lnTo>
                      <a:pt x="9725" y="8310"/>
                    </a:lnTo>
                    <a:lnTo>
                      <a:pt x="15662" y="14285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Text Box 12"/>
              <p:cNvSpPr/>
              <p:nvPr/>
            </p:nvSpPr>
            <p:spPr>
              <a:xfrm>
                <a:off x="3885840" y="1360440"/>
                <a:ext cx="131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Replicació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Text Box 13"/>
              <p:cNvSpPr/>
              <p:nvPr/>
            </p:nvSpPr>
            <p:spPr>
              <a:xfrm>
                <a:off x="3548160" y="2806200"/>
                <a:ext cx="152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Transcripció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Text Box 14"/>
              <p:cNvSpPr/>
              <p:nvPr/>
            </p:nvSpPr>
            <p:spPr>
              <a:xfrm>
                <a:off x="3547440" y="3983760"/>
                <a:ext cx="1271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Traducció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AutoShape 15"/>
              <p:cNvSpPr/>
              <p:nvPr/>
            </p:nvSpPr>
            <p:spPr>
              <a:xfrm>
                <a:off x="2321280" y="1230480"/>
                <a:ext cx="407160" cy="4031640"/>
              </a:xfrm>
              <a:custGeom>
                <a:avLst/>
                <a:gdLst>
                  <a:gd name="textAreaLeft" fmla="*/ 260280 w 407160"/>
                  <a:gd name="textAreaRight" fmla="*/ 407520 w 407160"/>
                  <a:gd name="textAreaTop" fmla="*/ 105120 h 4031640"/>
                  <a:gd name="textAreaBottom" fmla="*/ 3926520 h 403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Text Box 16"/>
              <p:cNvSpPr/>
              <p:nvPr/>
            </p:nvSpPr>
            <p:spPr>
              <a:xfrm>
                <a:off x="403920" y="2845440"/>
                <a:ext cx="2036880" cy="580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OGMA CENTRAL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E LA GENETIC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586" name="Picture 17" descr="trinity"/>
            <p:cNvPicPr/>
            <p:nvPr/>
          </p:nvPicPr>
          <p:blipFill>
            <a:blip r:embed="rId1"/>
            <a:stretch/>
          </p:blipFill>
          <p:spPr>
            <a:xfrm>
              <a:off x="5146560" y="1085760"/>
              <a:ext cx="3276720" cy="4648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7" name="17 Rectángulo redondeado"/>
          <p:cNvSpPr/>
          <p:nvPr/>
        </p:nvSpPr>
        <p:spPr>
          <a:xfrm>
            <a:off x="2500200" y="3357720"/>
            <a:ext cx="6500880" cy="24285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403920" y="1085760"/>
            <a:ext cx="8019360" cy="4648320"/>
            <a:chOff x="403920" y="1085760"/>
            <a:chExt cx="8019360" cy="4648320"/>
          </a:xfrm>
        </p:grpSpPr>
        <p:grpSp>
          <p:nvGrpSpPr>
            <p:cNvPr id="93" name="Group 3"/>
            <p:cNvGrpSpPr/>
            <p:nvPr/>
          </p:nvGrpSpPr>
          <p:grpSpPr>
            <a:xfrm>
              <a:off x="403920" y="1230480"/>
              <a:ext cx="4799520" cy="4031640"/>
              <a:chOff x="403920" y="1230480"/>
              <a:chExt cx="4799520" cy="4031640"/>
            </a:xfrm>
          </p:grpSpPr>
          <p:sp>
            <p:nvSpPr>
              <p:cNvPr id="94" name="Text Box 4"/>
              <p:cNvSpPr/>
              <p:nvPr/>
            </p:nvSpPr>
            <p:spPr>
              <a:xfrm>
                <a:off x="3207240" y="1811160"/>
                <a:ext cx="674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D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Text Box 5"/>
              <p:cNvSpPr/>
              <p:nvPr/>
            </p:nvSpPr>
            <p:spPr>
              <a:xfrm>
                <a:off x="3207240" y="3385440"/>
                <a:ext cx="674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R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Text Box 6"/>
              <p:cNvSpPr/>
              <p:nvPr/>
            </p:nvSpPr>
            <p:spPr>
              <a:xfrm>
                <a:off x="2628000" y="4662000"/>
                <a:ext cx="2190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éptido o proteín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AutoShape 7"/>
              <p:cNvSpPr/>
              <p:nvPr/>
            </p:nvSpPr>
            <p:spPr>
              <a:xfrm>
                <a:off x="3408120" y="2312280"/>
                <a:ext cx="203760" cy="1081440"/>
              </a:xfrm>
              <a:prstGeom prst="downArrow">
                <a:avLst>
                  <a:gd name="adj1" fmla="val 50000"/>
                  <a:gd name="adj2" fmla="val 132686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AutoShape 8"/>
              <p:cNvSpPr/>
              <p:nvPr/>
            </p:nvSpPr>
            <p:spPr>
              <a:xfrm>
                <a:off x="3408120" y="3885840"/>
                <a:ext cx="203760" cy="786960"/>
              </a:xfrm>
              <a:prstGeom prst="downArrow">
                <a:avLst>
                  <a:gd name="adj1" fmla="val 50000"/>
                  <a:gd name="adj2" fmla="val 96555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AutoShape 9"/>
              <p:cNvSpPr/>
              <p:nvPr/>
            </p:nvSpPr>
            <p:spPr>
              <a:xfrm flipH="1">
                <a:off x="3544920" y="1427760"/>
                <a:ext cx="339840" cy="589320"/>
              </a:xfrm>
              <a:custGeom>
                <a:avLst/>
                <a:gdLst>
                  <a:gd name="textAreaLeft" fmla="*/ 0 w 339840"/>
                  <a:gd name="textAreaRight" fmla="*/ 95760 w 339840"/>
                  <a:gd name="textAreaTop" fmla="*/ 227520 h 589320"/>
                  <a:gd name="textAreaBottom" fmla="*/ 589680 h 589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662" y="14285"/>
                    </a:moveTo>
                    <a:lnTo>
                      <a:pt x="21600" y="8310"/>
                    </a:lnTo>
                    <a:lnTo>
                      <a:pt x="18630" y="8310"/>
                    </a:lnTo>
                    <a:cubicBezTo>
                      <a:pt x="18630" y="3721"/>
                      <a:pt x="14430" y="0"/>
                      <a:pt x="9250" y="0"/>
                    </a:cubicBezTo>
                    <a:cubicBezTo>
                      <a:pt x="4141" y="0"/>
                      <a:pt x="0" y="3799"/>
                      <a:pt x="0" y="8485"/>
                    </a:cubicBezTo>
                    <a:lnTo>
                      <a:pt x="0" y="21600"/>
                    </a:lnTo>
                    <a:lnTo>
                      <a:pt x="6110" y="21600"/>
                    </a:lnTo>
                    <a:lnTo>
                      <a:pt x="6110" y="8310"/>
                    </a:lnTo>
                    <a:cubicBezTo>
                      <a:pt x="6110" y="6947"/>
                      <a:pt x="7362" y="5842"/>
                      <a:pt x="8907" y="5842"/>
                    </a:cubicBezTo>
                    <a:lnTo>
                      <a:pt x="9725" y="5842"/>
                    </a:lnTo>
                    <a:cubicBezTo>
                      <a:pt x="11269" y="5842"/>
                      <a:pt x="12520" y="6947"/>
                      <a:pt x="12520" y="8310"/>
                    </a:cubicBezTo>
                    <a:lnTo>
                      <a:pt x="9725" y="8310"/>
                    </a:lnTo>
                    <a:lnTo>
                      <a:pt x="15662" y="14285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Text Box 10"/>
              <p:cNvSpPr/>
              <p:nvPr/>
            </p:nvSpPr>
            <p:spPr>
              <a:xfrm>
                <a:off x="3885840" y="1360440"/>
                <a:ext cx="131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Replicació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Text Box 11"/>
              <p:cNvSpPr/>
              <p:nvPr/>
            </p:nvSpPr>
            <p:spPr>
              <a:xfrm>
                <a:off x="3548160" y="2441880"/>
                <a:ext cx="152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Transcripció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Text Box 12"/>
              <p:cNvSpPr/>
              <p:nvPr/>
            </p:nvSpPr>
            <p:spPr>
              <a:xfrm>
                <a:off x="3547440" y="3983760"/>
                <a:ext cx="1271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Traducció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AutoShape 13"/>
              <p:cNvSpPr/>
              <p:nvPr/>
            </p:nvSpPr>
            <p:spPr>
              <a:xfrm>
                <a:off x="2321280" y="1230480"/>
                <a:ext cx="407160" cy="4031640"/>
              </a:xfrm>
              <a:custGeom>
                <a:avLst/>
                <a:gdLst>
                  <a:gd name="textAreaLeft" fmla="*/ 260280 w 407160"/>
                  <a:gd name="textAreaRight" fmla="*/ 407520 w 407160"/>
                  <a:gd name="textAreaTop" fmla="*/ 105120 h 4031640"/>
                  <a:gd name="textAreaBottom" fmla="*/ 3926520 h 403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Text Box 14"/>
              <p:cNvSpPr/>
              <p:nvPr/>
            </p:nvSpPr>
            <p:spPr>
              <a:xfrm>
                <a:off x="403920" y="2845440"/>
                <a:ext cx="2036880" cy="580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OGMA CENTRAL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E LA GENETIC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05" name="Picture 15" descr="trinity"/>
            <p:cNvPicPr/>
            <p:nvPr/>
          </p:nvPicPr>
          <p:blipFill>
            <a:blip r:embed="rId1"/>
            <a:stretch/>
          </p:blipFill>
          <p:spPr>
            <a:xfrm>
              <a:off x="5146560" y="1085760"/>
              <a:ext cx="3276720" cy="4648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15 Elipse"/>
          <p:cNvSpPr/>
          <p:nvPr/>
        </p:nvSpPr>
        <p:spPr>
          <a:xfrm>
            <a:off x="2500200" y="1643040"/>
            <a:ext cx="5143680" cy="22860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77360" y="301320"/>
            <a:ext cx="82184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Transcripción de un gen eucariota, maduración del ARNm y tra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6" descr="Gene_Intron_Exon"/>
          <p:cNvPicPr/>
          <p:nvPr/>
        </p:nvPicPr>
        <p:blipFill>
          <a:blip r:embed="rId1"/>
          <a:stretch/>
        </p:blipFill>
        <p:spPr>
          <a:xfrm>
            <a:off x="108000" y="749160"/>
            <a:ext cx="2287440" cy="2824200"/>
          </a:xfrm>
          <a:prstGeom prst="rect">
            <a:avLst/>
          </a:prstGeom>
          <a:ln w="0">
            <a:noFill/>
          </a:ln>
        </p:spPr>
      </p:pic>
      <p:sp>
        <p:nvSpPr>
          <p:cNvPr id="590" name="Rectangle 39"/>
          <p:cNvSpPr/>
          <p:nvPr/>
        </p:nvSpPr>
        <p:spPr>
          <a:xfrm>
            <a:off x="1356840" y="4941720"/>
            <a:ext cx="764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Proteín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1" name="69 Grupo"/>
          <p:cNvGrpSpPr/>
          <p:nvPr/>
        </p:nvGrpSpPr>
        <p:grpSpPr>
          <a:xfrm>
            <a:off x="1836360" y="1763640"/>
            <a:ext cx="6488640" cy="1625760"/>
            <a:chOff x="1836360" y="1763640"/>
            <a:chExt cx="6488640" cy="1625760"/>
          </a:xfrm>
        </p:grpSpPr>
        <p:sp>
          <p:nvSpPr>
            <p:cNvPr id="592" name="Rectangle 7"/>
            <p:cNvSpPr/>
            <p:nvPr/>
          </p:nvSpPr>
          <p:spPr>
            <a:xfrm>
              <a:off x="1836360" y="2132640"/>
              <a:ext cx="186768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preARN o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Transcripto primario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3" name="Group 8"/>
            <p:cNvGrpSpPr/>
            <p:nvPr/>
          </p:nvGrpSpPr>
          <p:grpSpPr>
            <a:xfrm>
              <a:off x="3354840" y="1763640"/>
              <a:ext cx="4969800" cy="287280"/>
              <a:chOff x="3354840" y="1763640"/>
              <a:chExt cx="4969800" cy="287280"/>
            </a:xfrm>
          </p:grpSpPr>
          <p:sp>
            <p:nvSpPr>
              <p:cNvPr id="594" name="Rectangle 9"/>
              <p:cNvSpPr/>
              <p:nvPr/>
            </p:nvSpPr>
            <p:spPr>
              <a:xfrm>
                <a:off x="7879320" y="1763640"/>
                <a:ext cx="435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3'UT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Rectangle 10"/>
              <p:cNvSpPr/>
              <p:nvPr/>
            </p:nvSpPr>
            <p:spPr>
              <a:xfrm>
                <a:off x="5518080" y="1763640"/>
                <a:ext cx="9360" cy="191880"/>
              </a:xfrm>
              <a:prstGeom prst="rect">
                <a:avLst/>
              </a:prstGeom>
              <a:noFill/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Rectangle 11"/>
              <p:cNvSpPr/>
              <p:nvPr/>
            </p:nvSpPr>
            <p:spPr>
              <a:xfrm>
                <a:off x="3354840" y="1763640"/>
                <a:ext cx="435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5'UT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Line 12"/>
              <p:cNvSpPr/>
              <p:nvPr/>
            </p:nvSpPr>
            <p:spPr>
              <a:xfrm flipV="1">
                <a:off x="3439800" y="1977840"/>
                <a:ext cx="0" cy="6840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Line 13"/>
              <p:cNvSpPr/>
              <p:nvPr/>
            </p:nvSpPr>
            <p:spPr>
              <a:xfrm>
                <a:off x="3439800" y="1976400"/>
                <a:ext cx="4884840" cy="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Line 14"/>
              <p:cNvSpPr/>
              <p:nvPr/>
            </p:nvSpPr>
            <p:spPr>
              <a:xfrm flipV="1">
                <a:off x="3725640" y="1976400"/>
                <a:ext cx="0" cy="7128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Line 15"/>
              <p:cNvSpPr/>
              <p:nvPr/>
            </p:nvSpPr>
            <p:spPr>
              <a:xfrm flipV="1">
                <a:off x="7902360" y="1979640"/>
                <a:ext cx="0" cy="7128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Line 16"/>
              <p:cNvSpPr/>
              <p:nvPr/>
            </p:nvSpPr>
            <p:spPr>
              <a:xfrm flipV="1">
                <a:off x="8316720" y="1973160"/>
                <a:ext cx="0" cy="7128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2" name="Rectangle 17"/>
            <p:cNvSpPr/>
            <p:nvPr/>
          </p:nvSpPr>
          <p:spPr>
            <a:xfrm>
              <a:off x="6923160" y="2286000"/>
              <a:ext cx="985680" cy="188640"/>
            </a:xfrm>
            <a:prstGeom prst="rect">
              <a:avLst/>
            </a:prstGeom>
            <a:solidFill>
              <a:srgbClr val="660033"/>
            </a:solidFill>
            <a:ln w="1260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Rectangle 18"/>
            <p:cNvSpPr/>
            <p:nvPr/>
          </p:nvSpPr>
          <p:spPr>
            <a:xfrm>
              <a:off x="3733560" y="2287440"/>
              <a:ext cx="630000" cy="188640"/>
            </a:xfrm>
            <a:prstGeom prst="rect">
              <a:avLst/>
            </a:prstGeom>
            <a:solidFill>
              <a:srgbClr val="660033"/>
            </a:solidFill>
            <a:ln w="1260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Rectangle 19"/>
            <p:cNvSpPr/>
            <p:nvPr/>
          </p:nvSpPr>
          <p:spPr>
            <a:xfrm>
              <a:off x="4800600" y="2287440"/>
              <a:ext cx="1023840" cy="188640"/>
            </a:xfrm>
            <a:prstGeom prst="rect">
              <a:avLst/>
            </a:prstGeom>
            <a:solidFill>
              <a:srgbClr val="660033"/>
            </a:solidFill>
            <a:ln w="1260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Rectangle 20"/>
            <p:cNvSpPr/>
            <p:nvPr/>
          </p:nvSpPr>
          <p:spPr>
            <a:xfrm>
              <a:off x="3894480" y="2104920"/>
              <a:ext cx="343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Exon 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Rectangle 21"/>
            <p:cNvSpPr/>
            <p:nvPr/>
          </p:nvSpPr>
          <p:spPr>
            <a:xfrm>
              <a:off x="5154840" y="2104920"/>
              <a:ext cx="343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Exon 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Rectangle 22"/>
            <p:cNvSpPr/>
            <p:nvPr/>
          </p:nvSpPr>
          <p:spPr>
            <a:xfrm>
              <a:off x="7227000" y="2104920"/>
              <a:ext cx="343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Exon 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Rectangle 23"/>
            <p:cNvSpPr/>
            <p:nvPr/>
          </p:nvSpPr>
          <p:spPr>
            <a:xfrm>
              <a:off x="4390920" y="2170080"/>
              <a:ext cx="40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Intron 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Rectangle 24"/>
            <p:cNvSpPr/>
            <p:nvPr/>
          </p:nvSpPr>
          <p:spPr>
            <a:xfrm>
              <a:off x="6172200" y="2170080"/>
              <a:ext cx="40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Intron 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Line 25"/>
            <p:cNvSpPr/>
            <p:nvPr/>
          </p:nvSpPr>
          <p:spPr>
            <a:xfrm>
              <a:off x="3439800" y="2394000"/>
              <a:ext cx="4885200" cy="0"/>
            </a:xfrm>
            <a:prstGeom prst="line">
              <a:avLst/>
            </a:prstGeom>
            <a:ln w="381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Rectangle 26"/>
            <p:cNvSpPr/>
            <p:nvPr/>
          </p:nvSpPr>
          <p:spPr>
            <a:xfrm>
              <a:off x="6853680" y="3144960"/>
              <a:ext cx="823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AAAAAAA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Rectangle 27"/>
            <p:cNvSpPr/>
            <p:nvPr/>
          </p:nvSpPr>
          <p:spPr>
            <a:xfrm>
              <a:off x="2360520" y="3160800"/>
              <a:ext cx="1396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ARNm maduro: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Rectangle 29"/>
            <p:cNvSpPr/>
            <p:nvPr/>
          </p:nvSpPr>
          <p:spPr>
            <a:xfrm>
              <a:off x="7072200" y="293220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poly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Rectangle 30"/>
            <p:cNvSpPr/>
            <p:nvPr/>
          </p:nvSpPr>
          <p:spPr>
            <a:xfrm>
              <a:off x="4155840" y="3132360"/>
              <a:ext cx="630000" cy="18864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Rectangle 31"/>
            <p:cNvSpPr/>
            <p:nvPr/>
          </p:nvSpPr>
          <p:spPr>
            <a:xfrm>
              <a:off x="4794120" y="3132360"/>
              <a:ext cx="1023840" cy="18864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Line 32"/>
            <p:cNvSpPr/>
            <p:nvPr/>
          </p:nvSpPr>
          <p:spPr>
            <a:xfrm>
              <a:off x="3865320" y="3229200"/>
              <a:ext cx="295200" cy="0"/>
            </a:xfrm>
            <a:prstGeom prst="line">
              <a:avLst/>
            </a:prstGeom>
            <a:ln w="381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Rectangle 33"/>
            <p:cNvSpPr/>
            <p:nvPr/>
          </p:nvSpPr>
          <p:spPr>
            <a:xfrm>
              <a:off x="4179240" y="3160800"/>
              <a:ext cx="28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U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Line 34"/>
            <p:cNvSpPr/>
            <p:nvPr/>
          </p:nvSpPr>
          <p:spPr>
            <a:xfrm>
              <a:off x="4057200" y="2568600"/>
              <a:ext cx="4572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Line 35"/>
            <p:cNvSpPr/>
            <p:nvPr/>
          </p:nvSpPr>
          <p:spPr>
            <a:xfrm>
              <a:off x="5340240" y="2568600"/>
              <a:ext cx="0" cy="44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Line 36"/>
            <p:cNvSpPr/>
            <p:nvPr/>
          </p:nvSpPr>
          <p:spPr>
            <a:xfrm flipH="1">
              <a:off x="6686280" y="2581200"/>
              <a:ext cx="40644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Rectangle 37"/>
            <p:cNvSpPr/>
            <p:nvPr/>
          </p:nvSpPr>
          <p:spPr>
            <a:xfrm>
              <a:off x="5835600" y="3132360"/>
              <a:ext cx="1023840" cy="1886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Text Box 38"/>
            <p:cNvSpPr/>
            <p:nvPr/>
          </p:nvSpPr>
          <p:spPr>
            <a:xfrm>
              <a:off x="6492960" y="3106800"/>
              <a:ext cx="4982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A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Rectangle 60"/>
            <p:cNvSpPr/>
            <p:nvPr/>
          </p:nvSpPr>
          <p:spPr>
            <a:xfrm>
              <a:off x="3735000" y="2286000"/>
              <a:ext cx="630000" cy="18864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Rectangle 61"/>
            <p:cNvSpPr/>
            <p:nvPr/>
          </p:nvSpPr>
          <p:spPr>
            <a:xfrm>
              <a:off x="3763080" y="2314440"/>
              <a:ext cx="28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AU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Rectangle 62"/>
            <p:cNvSpPr/>
            <p:nvPr/>
          </p:nvSpPr>
          <p:spPr>
            <a:xfrm>
              <a:off x="4802040" y="2286000"/>
              <a:ext cx="1023840" cy="18864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Rectangle 63"/>
            <p:cNvSpPr/>
            <p:nvPr/>
          </p:nvSpPr>
          <p:spPr>
            <a:xfrm>
              <a:off x="6859800" y="2286000"/>
              <a:ext cx="1023840" cy="1886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Rectangle 64"/>
            <p:cNvSpPr/>
            <p:nvPr/>
          </p:nvSpPr>
          <p:spPr>
            <a:xfrm>
              <a:off x="7633080" y="2314440"/>
              <a:ext cx="27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UA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8" name="Rectangle 28"/>
          <p:cNvSpPr/>
          <p:nvPr/>
        </p:nvSpPr>
        <p:spPr>
          <a:xfrm>
            <a:off x="4409280" y="2633760"/>
            <a:ext cx="2387160" cy="18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de-DE" sz="1200" spc="-1" strike="noStrike">
                <a:solidFill>
                  <a:srgbClr val="660033"/>
                </a:solidFill>
                <a:latin typeface="Arial"/>
              </a:rPr>
              <a:t>5‘CAP / Polyadenylation/Splic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9" name="Grupo 9"/>
          <p:cNvGrpSpPr/>
          <p:nvPr/>
        </p:nvGrpSpPr>
        <p:grpSpPr>
          <a:xfrm>
            <a:off x="1339920" y="3279600"/>
            <a:ext cx="7416720" cy="865440"/>
            <a:chOff x="1339920" y="3279600"/>
            <a:chExt cx="7416720" cy="865440"/>
          </a:xfrm>
        </p:grpSpPr>
        <p:sp>
          <p:nvSpPr>
            <p:cNvPr id="630" name="Rectangle 66"/>
            <p:cNvSpPr/>
            <p:nvPr/>
          </p:nvSpPr>
          <p:spPr>
            <a:xfrm>
              <a:off x="1339920" y="3851280"/>
              <a:ext cx="7416720" cy="29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002060"/>
                  </a:solidFill>
                  <a:latin typeface="Arial"/>
                </a:rPr>
                <a:t>5’metGG</a:t>
              </a:r>
              <a:r>
                <a:rPr b="1" lang="en-US" sz="1600" spc="-1" strike="noStrike">
                  <a:solidFill>
                    <a:srgbClr val="ff6600"/>
                  </a:solidFill>
                  <a:latin typeface="Arial"/>
                </a:rPr>
                <a:t>AUG…….CAG</a:t>
              </a:r>
              <a:r>
                <a:rPr b="1" lang="en-US" sz="1600" spc="-1" strike="noStrike">
                  <a:solidFill>
                    <a:srgbClr val="00b050"/>
                  </a:solidFill>
                  <a:latin typeface="Arial"/>
                </a:rPr>
                <a:t>UGGAAA……..CUA</a:t>
              </a:r>
              <a:r>
                <a:rPr b="1" lang="en-US" sz="1600" spc="-1" strike="noStrike">
                  <a:solidFill>
                    <a:srgbClr val="cc66ff"/>
                  </a:solidFill>
                  <a:latin typeface="Arial"/>
                </a:rPr>
                <a:t>GUCGCC……..UAA</a:t>
              </a:r>
              <a:r>
                <a:rPr b="1" lang="en-US" sz="1600" spc="-1" strike="noStrike">
                  <a:solidFill>
                    <a:srgbClr val="002060"/>
                  </a:solidFill>
                  <a:latin typeface="Arial"/>
                </a:rPr>
                <a:t>AAAA…AAA-3</a:t>
              </a:r>
              <a:r>
                <a:rPr b="1" lang="en-US" sz="1800" spc="-1" strike="noStrike">
                  <a:solidFill>
                    <a:srgbClr val="262699"/>
                  </a:solidFill>
                  <a:latin typeface="Arial"/>
                </a:rPr>
                <a:t>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Conector recto 2"/>
            <p:cNvSpPr/>
            <p:nvPr/>
          </p:nvSpPr>
          <p:spPr>
            <a:xfrm flipH="1">
              <a:off x="1699920" y="3279600"/>
              <a:ext cx="234648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Conector recto 5"/>
            <p:cNvSpPr/>
            <p:nvPr/>
          </p:nvSpPr>
          <p:spPr>
            <a:xfrm>
              <a:off x="7666200" y="3371040"/>
              <a:ext cx="837360" cy="56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3" name="Grupo 11"/>
          <p:cNvGrpSpPr/>
          <p:nvPr/>
        </p:nvGrpSpPr>
        <p:grpSpPr>
          <a:xfrm>
            <a:off x="2276640" y="4211640"/>
            <a:ext cx="4932360" cy="1161000"/>
            <a:chOff x="2276640" y="4211640"/>
            <a:chExt cx="4932360" cy="1161000"/>
          </a:xfrm>
        </p:grpSpPr>
        <p:sp>
          <p:nvSpPr>
            <p:cNvPr id="634" name="Rectangle 41"/>
            <p:cNvSpPr/>
            <p:nvPr/>
          </p:nvSpPr>
          <p:spPr>
            <a:xfrm>
              <a:off x="2358360" y="5220000"/>
              <a:ext cx="854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004eff"/>
                  </a:solidFill>
                  <a:latin typeface="Arial"/>
                </a:rPr>
                <a:t>MCPLTW....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Rectangle 42"/>
            <p:cNvSpPr/>
            <p:nvPr/>
          </p:nvSpPr>
          <p:spPr>
            <a:xfrm>
              <a:off x="6356880" y="5220000"/>
              <a:ext cx="745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004eff"/>
                  </a:solidFill>
                  <a:latin typeface="Arial"/>
                </a:rPr>
                <a:t>..............GF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6" name="Grupo 10"/>
            <p:cNvGrpSpPr/>
            <p:nvPr/>
          </p:nvGrpSpPr>
          <p:grpSpPr>
            <a:xfrm>
              <a:off x="2276640" y="4980600"/>
              <a:ext cx="4932360" cy="194760"/>
              <a:chOff x="2276640" y="4980600"/>
              <a:chExt cx="4932360" cy="194760"/>
            </a:xfrm>
          </p:grpSpPr>
          <p:sp>
            <p:nvSpPr>
              <p:cNvPr id="637" name="Rectangle 43"/>
              <p:cNvSpPr/>
              <p:nvPr/>
            </p:nvSpPr>
            <p:spPr>
              <a:xfrm>
                <a:off x="5517000" y="4980600"/>
                <a:ext cx="1692000" cy="1933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Rectangle 44"/>
              <p:cNvSpPr/>
              <p:nvPr/>
            </p:nvSpPr>
            <p:spPr>
              <a:xfrm>
                <a:off x="2276640" y="4980600"/>
                <a:ext cx="1404000" cy="1933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Rectangle 45"/>
              <p:cNvSpPr/>
              <p:nvPr/>
            </p:nvSpPr>
            <p:spPr>
              <a:xfrm>
                <a:off x="3644640" y="4980600"/>
                <a:ext cx="1908000" cy="1947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0" name="Rectangle 40"/>
            <p:cNvSpPr/>
            <p:nvPr/>
          </p:nvSpPr>
          <p:spPr>
            <a:xfrm>
              <a:off x="3424320" y="4829400"/>
              <a:ext cx="16794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Line 46"/>
            <p:cNvSpPr/>
            <p:nvPr/>
          </p:nvSpPr>
          <p:spPr>
            <a:xfrm>
              <a:off x="4941000" y="4211640"/>
              <a:ext cx="0" cy="61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Rectangle 39"/>
            <p:cNvSpPr/>
            <p:nvPr/>
          </p:nvSpPr>
          <p:spPr>
            <a:xfrm>
              <a:off x="5156280" y="4355640"/>
              <a:ext cx="1641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2400" spc="-1" strike="noStrike">
                  <a:solidFill>
                    <a:srgbClr val="ff0000"/>
                  </a:solidFill>
                  <a:latin typeface="Arial"/>
                </a:rPr>
                <a:t>Traducció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3" name="Grupo 2"/>
          <p:cNvGrpSpPr/>
          <p:nvPr/>
        </p:nvGrpSpPr>
        <p:grpSpPr>
          <a:xfrm>
            <a:off x="1187280" y="1341360"/>
            <a:ext cx="3384720" cy="1944720"/>
            <a:chOff x="1187280" y="1341360"/>
            <a:chExt cx="3384720" cy="1944720"/>
          </a:xfrm>
        </p:grpSpPr>
        <p:sp>
          <p:nvSpPr>
            <p:cNvPr id="644" name="Arco 1"/>
            <p:cNvSpPr/>
            <p:nvPr/>
          </p:nvSpPr>
          <p:spPr>
            <a:xfrm rot="20802600">
              <a:off x="1287000" y="1773000"/>
              <a:ext cx="2844720" cy="1202040"/>
            </a:xfrm>
            <a:custGeom>
              <a:avLst/>
              <a:gdLst/>
              <a:ahLst/>
              <a:rect l="l" t="t" r="r" b="b"/>
              <a:pathLst>
                <a:path stroke="0" w="2844076" h="1201763">
                  <a:moveTo>
                    <a:pt x="175383" y="311800"/>
                  </a:moveTo>
                  <a:cubicBezTo>
                    <a:pt x="439745" y="108245"/>
                    <a:pt x="957996" y="-12734"/>
                    <a:pt x="1506526" y="1061"/>
                  </a:cubicBezTo>
                  <a:cubicBezTo>
                    <a:pt x="2325738" y="21664"/>
                    <a:pt x="2933750" y="330183"/>
                    <a:pt x="2833407" y="674352"/>
                  </a:cubicBezTo>
                  <a:lnTo>
                    <a:pt x="1422038" y="600882"/>
                  </a:lnTo>
                  <a:lnTo>
                    <a:pt x="175383" y="311800"/>
                  </a:lnTo>
                  <a:close/>
                </a:path>
                <a:path fill="none" w="2844076" h="1201763">
                  <a:moveTo>
                    <a:pt x="175383" y="311800"/>
                  </a:moveTo>
                  <a:cubicBezTo>
                    <a:pt x="439745" y="108245"/>
                    <a:pt x="957996" y="-12734"/>
                    <a:pt x="1506526" y="1061"/>
                  </a:cubicBezTo>
                  <a:cubicBezTo>
                    <a:pt x="2325738" y="21664"/>
                    <a:pt x="2933750" y="330183"/>
                    <a:pt x="2833407" y="67435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Rectangle 39"/>
            <p:cNvSpPr/>
            <p:nvPr/>
          </p:nvSpPr>
          <p:spPr>
            <a:xfrm>
              <a:off x="2556720" y="1341360"/>
              <a:ext cx="201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2400" spc="-1" strike="noStrike">
                  <a:solidFill>
                    <a:srgbClr val="ff0000"/>
                  </a:solidFill>
                  <a:latin typeface="Arial"/>
                </a:rPr>
                <a:t>Transcripció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6" name="Grupo 4"/>
          <p:cNvGrpSpPr/>
          <p:nvPr/>
        </p:nvGrpSpPr>
        <p:grpSpPr>
          <a:xfrm>
            <a:off x="2700360" y="5732640"/>
            <a:ext cx="3586320" cy="288720"/>
            <a:chOff x="2700360" y="5732640"/>
            <a:chExt cx="3586320" cy="288720"/>
          </a:xfrm>
        </p:grpSpPr>
        <p:sp>
          <p:nvSpPr>
            <p:cNvPr id="647" name="Rectangle 43"/>
            <p:cNvSpPr/>
            <p:nvPr/>
          </p:nvSpPr>
          <p:spPr>
            <a:xfrm>
              <a:off x="5422680" y="5732640"/>
              <a:ext cx="864000" cy="288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Rectangle 44"/>
            <p:cNvSpPr/>
            <p:nvPr/>
          </p:nvSpPr>
          <p:spPr>
            <a:xfrm>
              <a:off x="2700360" y="5732640"/>
              <a:ext cx="1234440" cy="288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Rectangle 45"/>
            <p:cNvSpPr/>
            <p:nvPr/>
          </p:nvSpPr>
          <p:spPr>
            <a:xfrm>
              <a:off x="3934800" y="5732640"/>
              <a:ext cx="1512000" cy="288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Código gené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2" descr=""/>
          <p:cNvPicPr/>
          <p:nvPr/>
        </p:nvPicPr>
        <p:blipFill>
          <a:blip r:embed="rId4"/>
          <a:stretch/>
        </p:blipFill>
        <p:spPr>
          <a:xfrm>
            <a:off x="436680" y="744480"/>
            <a:ext cx="3328920" cy="3692520"/>
          </a:xfrm>
          <a:prstGeom prst="rect">
            <a:avLst/>
          </a:prstGeom>
          <a:ln w="0">
            <a:noFill/>
          </a:ln>
        </p:spPr>
      </p:pic>
      <p:grpSp>
        <p:nvGrpSpPr>
          <p:cNvPr id="652" name="Group 3"/>
          <p:cNvGrpSpPr/>
          <p:nvPr/>
        </p:nvGrpSpPr>
        <p:grpSpPr>
          <a:xfrm>
            <a:off x="2866320" y="4905360"/>
            <a:ext cx="5274000" cy="382680"/>
            <a:chOff x="2866320" y="4905360"/>
            <a:chExt cx="5274000" cy="382680"/>
          </a:xfrm>
        </p:grpSpPr>
        <p:sp>
          <p:nvSpPr>
            <p:cNvPr id="653" name="Text Box 4"/>
            <p:cNvSpPr/>
            <p:nvPr/>
          </p:nvSpPr>
          <p:spPr>
            <a:xfrm>
              <a:off x="2866320" y="4919760"/>
              <a:ext cx="42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AUGCAG</a:t>
              </a:r>
              <a:r>
                <a:rPr b="1" lang="en-US" sz="1800" spc="-1" strike="noStrike">
                  <a:solidFill>
                    <a:srgbClr val="00b050"/>
                  </a:solidFill>
                  <a:latin typeface="Arial"/>
                </a:rPr>
                <a:t>UGGAAACUA</a:t>
              </a:r>
              <a:r>
                <a:rPr b="1" lang="en-US" sz="1800" spc="-1" strike="noStrike">
                  <a:solidFill>
                    <a:srgbClr val="cc66ff"/>
                  </a:solidFill>
                  <a:latin typeface="Arial"/>
                </a:rPr>
                <a:t>GUCGCC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UA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Text Box 5"/>
            <p:cNvSpPr/>
            <p:nvPr/>
          </p:nvSpPr>
          <p:spPr>
            <a:xfrm>
              <a:off x="7263000" y="490536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ARN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5" name="Group 6"/>
          <p:cNvGrpSpPr/>
          <p:nvPr/>
        </p:nvGrpSpPr>
        <p:grpSpPr>
          <a:xfrm>
            <a:off x="2746080" y="4437000"/>
            <a:ext cx="867960" cy="553680"/>
            <a:chOff x="2746080" y="4437000"/>
            <a:chExt cx="867960" cy="553680"/>
          </a:xfrm>
        </p:grpSpPr>
        <p:sp>
          <p:nvSpPr>
            <p:cNvPr id="656" name="AutoShape 7"/>
            <p:cNvSpPr/>
            <p:nvPr/>
          </p:nvSpPr>
          <p:spPr>
            <a:xfrm flipH="1" rot="16200000">
              <a:off x="3033720" y="4631400"/>
              <a:ext cx="214560" cy="503640"/>
            </a:xfrm>
            <a:custGeom>
              <a:avLst/>
              <a:gdLst>
                <a:gd name="textAreaLeft" fmla="*/ 137160 w 214560"/>
                <a:gd name="textAreaRight" fmla="*/ 214920 w 214560"/>
                <a:gd name="textAreaTop" fmla="*/ 12960 h 503640"/>
                <a:gd name="textAreaBottom" fmla="*/ 490680 h 50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Text Box 8"/>
            <p:cNvSpPr/>
            <p:nvPr/>
          </p:nvSpPr>
          <p:spPr>
            <a:xfrm>
              <a:off x="2746080" y="4437000"/>
              <a:ext cx="86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od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8" name="AutoShape 9"/>
          <p:cNvSpPr/>
          <p:nvPr/>
        </p:nvSpPr>
        <p:spPr>
          <a:xfrm flipH="1" rot="5400000">
            <a:off x="3030480" y="5280120"/>
            <a:ext cx="216000" cy="50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AutoShape 10"/>
          <p:cNvSpPr/>
          <p:nvPr/>
        </p:nvSpPr>
        <p:spPr>
          <a:xfrm flipH="1" rot="5400000">
            <a:off x="3533760" y="5280120"/>
            <a:ext cx="216000" cy="50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AutoShape 11"/>
          <p:cNvSpPr/>
          <p:nvPr/>
        </p:nvSpPr>
        <p:spPr>
          <a:xfrm flipH="1" rot="5400000">
            <a:off x="4038480" y="5280120"/>
            <a:ext cx="216000" cy="50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AutoShape 12"/>
          <p:cNvSpPr/>
          <p:nvPr/>
        </p:nvSpPr>
        <p:spPr>
          <a:xfrm flipH="1" rot="5400000">
            <a:off x="4541760" y="5280120"/>
            <a:ext cx="216000" cy="50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AutoShape 13"/>
          <p:cNvSpPr/>
          <p:nvPr/>
        </p:nvSpPr>
        <p:spPr>
          <a:xfrm flipH="1" rot="5400000">
            <a:off x="5045760" y="5279760"/>
            <a:ext cx="216000" cy="5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12960 h 505080"/>
              <a:gd name="textAreaBottom" fmla="*/ 492120 h 5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AutoShape 14"/>
          <p:cNvSpPr/>
          <p:nvPr/>
        </p:nvSpPr>
        <p:spPr>
          <a:xfrm flipH="1" rot="5400000">
            <a:off x="5551560" y="5280120"/>
            <a:ext cx="216000" cy="50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 Box 15"/>
          <p:cNvSpPr/>
          <p:nvPr/>
        </p:nvSpPr>
        <p:spPr>
          <a:xfrm>
            <a:off x="2822400" y="5640480"/>
            <a:ext cx="7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 Box 16"/>
          <p:cNvSpPr/>
          <p:nvPr/>
        </p:nvSpPr>
        <p:spPr>
          <a:xfrm>
            <a:off x="4572000" y="1555920"/>
            <a:ext cx="4203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2400" spc="-1" strike="noStrike" u="sng">
                <a:solidFill>
                  <a:srgbClr val="ff0000"/>
                </a:solidFill>
                <a:uFillTx/>
                <a:latin typeface="Arial"/>
              </a:rPr>
              <a:t>Universal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: es idéntico para todas las especies anim. y veg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2400" spc="-1" strike="noStrike" u="sng">
                <a:solidFill>
                  <a:srgbClr val="ff0000"/>
                </a:solidFill>
                <a:uFillTx/>
                <a:latin typeface="Arial"/>
              </a:rPr>
              <a:t>Degenerado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: más de un codón codifican para el mismo a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Text Box 17"/>
          <p:cNvSpPr/>
          <p:nvPr/>
        </p:nvSpPr>
        <p:spPr>
          <a:xfrm>
            <a:off x="3398760" y="5661000"/>
            <a:ext cx="7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 Box 18"/>
          <p:cNvSpPr/>
          <p:nvPr/>
        </p:nvSpPr>
        <p:spPr>
          <a:xfrm>
            <a:off x="3903840" y="565452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19"/>
          <p:cNvSpPr/>
          <p:nvPr/>
        </p:nvSpPr>
        <p:spPr>
          <a:xfrm>
            <a:off x="4406760" y="5661000"/>
            <a:ext cx="7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y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20"/>
          <p:cNvSpPr/>
          <p:nvPr/>
        </p:nvSpPr>
        <p:spPr>
          <a:xfrm>
            <a:off x="4911840" y="566100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 Box 21"/>
          <p:cNvSpPr/>
          <p:nvPr/>
        </p:nvSpPr>
        <p:spPr>
          <a:xfrm>
            <a:off x="6423120" y="5381640"/>
            <a:ext cx="7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1" name="Text Box 22" descr=""/>
          <p:cNvPicPr/>
          <p:nvPr/>
        </p:nvPicPr>
        <p:blipFill>
          <a:blip r:embed="rId5"/>
          <a:stretch/>
        </p:blipFill>
        <p:spPr>
          <a:xfrm>
            <a:off x="6229440" y="5846760"/>
            <a:ext cx="1182600" cy="493560"/>
          </a:xfrm>
          <a:prstGeom prst="rect">
            <a:avLst/>
          </a:prstGeom>
          <a:ln w="0">
            <a:noFill/>
          </a:ln>
        </p:spPr>
      </p:pic>
      <p:sp>
        <p:nvSpPr>
          <p:cNvPr id="672" name="AutoShape 14"/>
          <p:cNvSpPr/>
          <p:nvPr/>
        </p:nvSpPr>
        <p:spPr>
          <a:xfrm flipH="1" rot="5400000">
            <a:off x="6053760" y="5300280"/>
            <a:ext cx="216000" cy="5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12960 h 505080"/>
              <a:gd name="textAreaBottom" fmla="*/ 492120 h 5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AutoShape 14"/>
          <p:cNvSpPr/>
          <p:nvPr/>
        </p:nvSpPr>
        <p:spPr>
          <a:xfrm flipH="1" rot="5400000">
            <a:off x="6562800" y="5021280"/>
            <a:ext cx="216000" cy="50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Text Box 20"/>
          <p:cNvSpPr/>
          <p:nvPr/>
        </p:nvSpPr>
        <p:spPr>
          <a:xfrm>
            <a:off x="5411880" y="5661000"/>
            <a:ext cx="7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Text Box 20"/>
          <p:cNvSpPr/>
          <p:nvPr/>
        </p:nvSpPr>
        <p:spPr>
          <a:xfrm>
            <a:off x="5843520" y="5661000"/>
            <a:ext cx="7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Text Box 22"/>
          <p:cNvSpPr/>
          <p:nvPr/>
        </p:nvSpPr>
        <p:spPr>
          <a:xfrm>
            <a:off x="504720" y="5268960"/>
            <a:ext cx="13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RNt(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Text Box 4"/>
          <p:cNvSpPr/>
          <p:nvPr/>
        </p:nvSpPr>
        <p:spPr>
          <a:xfrm>
            <a:off x="2822400" y="5154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U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3327480" y="51577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GU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Text Box 4"/>
          <p:cNvSpPr/>
          <p:nvPr/>
        </p:nvSpPr>
        <p:spPr>
          <a:xfrm>
            <a:off x="3819600" y="5157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Arial"/>
              </a:rPr>
              <a:t>A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Text Box 4"/>
          <p:cNvSpPr/>
          <p:nvPr/>
        </p:nvSpPr>
        <p:spPr>
          <a:xfrm>
            <a:off x="4298040" y="5157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Arial"/>
              </a:rPr>
              <a:t>UU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4802400" y="51577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Arial"/>
              </a:rPr>
              <a:t>GA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5330880" y="51577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cc66ff"/>
                </a:solidFill>
                <a:latin typeface="Arial"/>
              </a:rPr>
              <a:t>C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Text Box 4"/>
          <p:cNvSpPr/>
          <p:nvPr/>
        </p:nvSpPr>
        <p:spPr>
          <a:xfrm>
            <a:off x="5816160" y="51577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cc66ff"/>
                </a:solidFill>
                <a:latin typeface="Arial"/>
              </a:rPr>
              <a:t>C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Text Box 22"/>
          <p:cNvSpPr/>
          <p:nvPr/>
        </p:nvSpPr>
        <p:spPr>
          <a:xfrm>
            <a:off x="1692360" y="51166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ticod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 u="sng">
                <a:solidFill>
                  <a:srgbClr val="0066ff"/>
                </a:solidFill>
                <a:uFillTx/>
                <a:latin typeface="Arial"/>
              </a:rPr>
              <a:t>Tipos de ARN: ribosomal, transferencial y mensaj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Picture 5" descr=""/>
          <p:cNvPicPr/>
          <p:nvPr/>
        </p:nvPicPr>
        <p:blipFill>
          <a:blip r:embed="rId1"/>
          <a:stretch/>
        </p:blipFill>
        <p:spPr>
          <a:xfrm>
            <a:off x="3000240" y="1916280"/>
            <a:ext cx="2579760" cy="360036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pic>
        <p:nvPicPr>
          <p:cNvPr id="687" name="Picture 6" descr=""/>
          <p:cNvPicPr/>
          <p:nvPr/>
        </p:nvPicPr>
        <p:blipFill>
          <a:blip r:embed="rId2"/>
          <a:stretch/>
        </p:blipFill>
        <p:spPr>
          <a:xfrm>
            <a:off x="5796000" y="2054160"/>
            <a:ext cx="3241800" cy="243216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pic>
        <p:nvPicPr>
          <p:cNvPr id="688" name="Picture 7" descr=""/>
          <p:cNvPicPr/>
          <p:nvPr/>
        </p:nvPicPr>
        <p:blipFill>
          <a:blip r:embed="rId3"/>
          <a:stretch/>
        </p:blipFill>
        <p:spPr>
          <a:xfrm>
            <a:off x="179280" y="1959120"/>
            <a:ext cx="2506680" cy="360036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sp>
        <p:nvSpPr>
          <p:cNvPr id="689" name="Elipse 5"/>
          <p:cNvSpPr/>
          <p:nvPr/>
        </p:nvSpPr>
        <p:spPr>
          <a:xfrm>
            <a:off x="3505320" y="4724280"/>
            <a:ext cx="1726920" cy="6494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971640" y="995040"/>
            <a:ext cx="741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Activación de aminoácidos en procariotas (síntesis de los AA-AR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Group 2"/>
          <p:cNvGrpSpPr/>
          <p:nvPr/>
        </p:nvGrpSpPr>
        <p:grpSpPr>
          <a:xfrm>
            <a:off x="711360" y="1900080"/>
            <a:ext cx="8254440" cy="1026360"/>
            <a:chOff x="711360" y="1900080"/>
            <a:chExt cx="8254440" cy="1026360"/>
          </a:xfrm>
        </p:grpSpPr>
        <p:sp>
          <p:nvSpPr>
            <p:cNvPr id="692" name="Text Box 3"/>
            <p:cNvSpPr/>
            <p:nvPr/>
          </p:nvSpPr>
          <p:spPr>
            <a:xfrm>
              <a:off x="3140640" y="2114640"/>
              <a:ext cx="240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s-ES" sz="1400" spc="-1" strike="noStrike">
                  <a:solidFill>
                    <a:srgbClr val="ff3300"/>
                  </a:solidFill>
                  <a:latin typeface="Arial"/>
                </a:rPr>
                <a:t>Aminoacil-ARNt sintetasa</a:t>
              </a:r>
              <a:r>
                <a:rPr b="0" i="1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3" name="Group 4"/>
            <p:cNvGrpSpPr/>
            <p:nvPr/>
          </p:nvGrpSpPr>
          <p:grpSpPr>
            <a:xfrm>
              <a:off x="711360" y="1919160"/>
              <a:ext cx="2518560" cy="766080"/>
              <a:chOff x="711360" y="1919160"/>
              <a:chExt cx="2518560" cy="766080"/>
            </a:xfrm>
          </p:grpSpPr>
          <p:grpSp>
            <p:nvGrpSpPr>
              <p:cNvPr id="694" name="Group 5"/>
              <p:cNvGrpSpPr/>
              <p:nvPr/>
            </p:nvGrpSpPr>
            <p:grpSpPr>
              <a:xfrm>
                <a:off x="711360" y="1919160"/>
                <a:ext cx="2518560" cy="766080"/>
                <a:chOff x="711360" y="1919160"/>
                <a:chExt cx="2518560" cy="766080"/>
              </a:xfrm>
            </p:grpSpPr>
            <p:sp>
              <p:nvSpPr>
                <p:cNvPr id="695" name="Text Box 6"/>
                <p:cNvSpPr/>
                <p:nvPr/>
              </p:nvSpPr>
              <p:spPr>
                <a:xfrm>
                  <a:off x="711360" y="2279520"/>
                  <a:ext cx="25185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NH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-C-COO</a:t>
                  </a:r>
                  <a:r>
                    <a:rPr b="1" lang="en-US" sz="1800" spc="-1" strike="noStrike" baseline="30000">
                      <a:solidFill>
                        <a:srgbClr val="000000"/>
                      </a:solidFill>
                      <a:latin typeface="Arial"/>
                    </a:rPr>
                    <a:t>-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 +  </a:t>
                  </a: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ATP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Text Box 7"/>
                <p:cNvSpPr/>
                <p:nvPr/>
              </p:nvSpPr>
              <p:spPr>
                <a:xfrm>
                  <a:off x="1292040" y="1919160"/>
                  <a:ext cx="345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7" name="Line 8"/>
              <p:cNvSpPr/>
              <p:nvPr/>
            </p:nvSpPr>
            <p:spPr>
              <a:xfrm>
                <a:off x="1424160" y="2187720"/>
                <a:ext cx="144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8" name="Group 9"/>
            <p:cNvGrpSpPr/>
            <p:nvPr/>
          </p:nvGrpSpPr>
          <p:grpSpPr>
            <a:xfrm>
              <a:off x="5577120" y="1900080"/>
              <a:ext cx="3388680" cy="766080"/>
              <a:chOff x="5577120" y="1900080"/>
              <a:chExt cx="3388680" cy="766080"/>
            </a:xfrm>
          </p:grpSpPr>
          <p:sp>
            <p:nvSpPr>
              <p:cNvPr id="699" name="Text Box 10"/>
              <p:cNvSpPr/>
              <p:nvPr/>
            </p:nvSpPr>
            <p:spPr>
              <a:xfrm>
                <a:off x="5577120" y="2260440"/>
                <a:ext cx="3388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s-ES" sz="1800" spc="-1" strike="noStrike">
                    <a:solidFill>
                      <a:srgbClr val="ff0000"/>
                    </a:solidFill>
                    <a:latin typeface="Arial"/>
                  </a:rPr>
                  <a:t>Enz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1" lang="es-ES" sz="18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NH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-C-COO-</a:t>
                </a:r>
                <a:r>
                  <a:rPr b="1" lang="es-ES" sz="1800" spc="-1" strike="noStrike">
                    <a:solidFill>
                      <a:srgbClr val="3333cc"/>
                    </a:solidFill>
                    <a:latin typeface="Arial"/>
                  </a:rPr>
                  <a:t>AMP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 +  </a:t>
                </a:r>
                <a:r>
                  <a:rPr b="1" lang="es-ES" sz="1800" spc="-1" strike="noStrike">
                    <a:solidFill>
                      <a:srgbClr val="3333cc"/>
                    </a:solidFill>
                    <a:latin typeface="Arial"/>
                  </a:rPr>
                  <a:t>PPi 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Text Box 11"/>
              <p:cNvSpPr/>
              <p:nvPr/>
            </p:nvSpPr>
            <p:spPr>
              <a:xfrm>
                <a:off x="6556320" y="190008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Line 12"/>
              <p:cNvSpPr/>
              <p:nvPr/>
            </p:nvSpPr>
            <p:spPr>
              <a:xfrm>
                <a:off x="6761160" y="2187720"/>
                <a:ext cx="144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2" name="Line 13"/>
            <p:cNvSpPr/>
            <p:nvPr/>
          </p:nvSpPr>
          <p:spPr>
            <a:xfrm>
              <a:off x="3160800" y="2476440"/>
              <a:ext cx="22320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Text Box 14"/>
            <p:cNvSpPr/>
            <p:nvPr/>
          </p:nvSpPr>
          <p:spPr>
            <a:xfrm>
              <a:off x="5172840" y="2619360"/>
              <a:ext cx="313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s-ES" sz="1400" spc="-1" strike="noStrike">
                  <a:solidFill>
                    <a:srgbClr val="000000"/>
                  </a:solidFill>
                  <a:latin typeface="Arial"/>
                </a:rPr>
                <a:t>Complejo Aminoaciladenilato-Enzi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4" name="Group 16"/>
          <p:cNvGrpSpPr/>
          <p:nvPr/>
        </p:nvGrpSpPr>
        <p:grpSpPr>
          <a:xfrm>
            <a:off x="587160" y="3078000"/>
            <a:ext cx="8560440" cy="766080"/>
            <a:chOff x="587160" y="3078000"/>
            <a:chExt cx="8560440" cy="766080"/>
          </a:xfrm>
        </p:grpSpPr>
        <p:grpSp>
          <p:nvGrpSpPr>
            <p:cNvPr id="705" name="Group 17"/>
            <p:cNvGrpSpPr/>
            <p:nvPr/>
          </p:nvGrpSpPr>
          <p:grpSpPr>
            <a:xfrm>
              <a:off x="5500080" y="3078000"/>
              <a:ext cx="3647520" cy="766080"/>
              <a:chOff x="5500080" y="3078000"/>
              <a:chExt cx="3647520" cy="766080"/>
            </a:xfrm>
          </p:grpSpPr>
          <p:sp>
            <p:nvSpPr>
              <p:cNvPr id="706" name="Text Box 18"/>
              <p:cNvSpPr/>
              <p:nvPr/>
            </p:nvSpPr>
            <p:spPr>
              <a:xfrm>
                <a:off x="5500080" y="3438360"/>
                <a:ext cx="3647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s-ES" sz="18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NH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-C-COO-ARNt + </a:t>
                </a:r>
                <a:r>
                  <a:rPr b="1" lang="es-ES" sz="1800" spc="-1" strike="noStrike">
                    <a:solidFill>
                      <a:srgbClr val="3333cc"/>
                    </a:solidFill>
                    <a:latin typeface="Arial"/>
                  </a:rPr>
                  <a:t>AMP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 + </a:t>
                </a:r>
                <a:r>
                  <a:rPr b="1" lang="es-ES" sz="1800" spc="-1" strike="noStrike">
                    <a:solidFill>
                      <a:srgbClr val="ff0000"/>
                    </a:solidFill>
                    <a:latin typeface="Arial"/>
                  </a:rPr>
                  <a:t>Enz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Text Box 19"/>
              <p:cNvSpPr/>
              <p:nvPr/>
            </p:nvSpPr>
            <p:spPr>
              <a:xfrm>
                <a:off x="6024240" y="307800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Line 20"/>
              <p:cNvSpPr/>
              <p:nvPr/>
            </p:nvSpPr>
            <p:spPr>
              <a:xfrm>
                <a:off x="6156360" y="3365640"/>
                <a:ext cx="144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9" name="Group 21"/>
            <p:cNvGrpSpPr/>
            <p:nvPr/>
          </p:nvGrpSpPr>
          <p:grpSpPr>
            <a:xfrm>
              <a:off x="587160" y="3078000"/>
              <a:ext cx="3589560" cy="759960"/>
              <a:chOff x="587160" y="3078000"/>
              <a:chExt cx="3589560" cy="759960"/>
            </a:xfrm>
          </p:grpSpPr>
          <p:sp>
            <p:nvSpPr>
              <p:cNvPr id="710" name="Text Box 22"/>
              <p:cNvSpPr/>
              <p:nvPr/>
            </p:nvSpPr>
            <p:spPr>
              <a:xfrm>
                <a:off x="587160" y="3432240"/>
                <a:ext cx="35895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s-ES" sz="1800" spc="-1" strike="noStrike">
                    <a:solidFill>
                      <a:srgbClr val="ff0000"/>
                    </a:solidFill>
                    <a:latin typeface="Arial"/>
                  </a:rPr>
                  <a:t>Enz-</a:t>
                </a:r>
                <a:r>
                  <a:rPr b="1" lang="es-ES" sz="18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NH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-C-COO-</a:t>
                </a:r>
                <a:r>
                  <a:rPr b="1" lang="es-ES" sz="1800" spc="-1" strike="noStrike">
                    <a:solidFill>
                      <a:srgbClr val="3333cc"/>
                    </a:solidFill>
                    <a:latin typeface="Arial"/>
                  </a:rPr>
                  <a:t>AMP  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+  ARNt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Text Box 23"/>
              <p:cNvSpPr/>
              <p:nvPr/>
            </p:nvSpPr>
            <p:spPr>
              <a:xfrm>
                <a:off x="1560600" y="307800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Line 24"/>
              <p:cNvSpPr/>
              <p:nvPr/>
            </p:nvSpPr>
            <p:spPr>
              <a:xfrm>
                <a:off x="1763640" y="3367080"/>
                <a:ext cx="180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3" name="Line 25"/>
            <p:cNvSpPr/>
            <p:nvPr/>
          </p:nvSpPr>
          <p:spPr>
            <a:xfrm>
              <a:off x="4140360" y="3654360"/>
              <a:ext cx="12236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4" name="Group 26"/>
          <p:cNvGrpSpPr/>
          <p:nvPr/>
        </p:nvGrpSpPr>
        <p:grpSpPr>
          <a:xfrm>
            <a:off x="3142800" y="3660120"/>
            <a:ext cx="1171440" cy="1567080"/>
            <a:chOff x="3142800" y="3660120"/>
            <a:chExt cx="1171440" cy="1567080"/>
          </a:xfrm>
        </p:grpSpPr>
        <p:sp>
          <p:nvSpPr>
            <p:cNvPr id="715" name="Text Box 27"/>
            <p:cNvSpPr/>
            <p:nvPr/>
          </p:nvSpPr>
          <p:spPr>
            <a:xfrm>
              <a:off x="3347640" y="4949640"/>
              <a:ext cx="85716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ticodó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AutoShape 28"/>
            <p:cNvSpPr/>
            <p:nvPr/>
          </p:nvSpPr>
          <p:spPr>
            <a:xfrm rot="5340000">
              <a:off x="3700080" y="4695480"/>
              <a:ext cx="113760" cy="334080"/>
            </a:xfrm>
            <a:custGeom>
              <a:avLst/>
              <a:gdLst>
                <a:gd name="textAreaLeft" fmla="*/ 0 w 113760"/>
                <a:gd name="textAreaRight" fmla="*/ 79920 w 113760"/>
                <a:gd name="textAreaTop" fmla="*/ 20880 h 334080"/>
                <a:gd name="textAreaBottom" fmla="*/ 313200 h 33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1350"/>
                    <a:pt x="21600" y="2700"/>
                  </a:cubicBezTo>
                  <a:lnTo>
                    <a:pt x="21600" y="18900"/>
                  </a:lnTo>
                  <a:cubicBezTo>
                    <a:pt x="21600" y="2025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7" name="Group 29"/>
            <p:cNvGrpSpPr/>
            <p:nvPr/>
          </p:nvGrpSpPr>
          <p:grpSpPr>
            <a:xfrm>
              <a:off x="3142800" y="3660120"/>
              <a:ext cx="1171440" cy="1176840"/>
              <a:chOff x="3142800" y="3660120"/>
              <a:chExt cx="1171440" cy="1176840"/>
            </a:xfrm>
          </p:grpSpPr>
          <p:grpSp>
            <p:nvGrpSpPr>
              <p:cNvPr id="718" name="Group 30"/>
              <p:cNvGrpSpPr/>
              <p:nvPr/>
            </p:nvGrpSpPr>
            <p:grpSpPr>
              <a:xfrm>
                <a:off x="3142800" y="3660120"/>
                <a:ext cx="1171440" cy="1176840"/>
                <a:chOff x="3142800" y="3660120"/>
                <a:chExt cx="1171440" cy="1176840"/>
              </a:xfrm>
            </p:grpSpPr>
            <p:grpSp>
              <p:nvGrpSpPr>
                <p:cNvPr id="719" name="Group 31"/>
                <p:cNvGrpSpPr/>
                <p:nvPr/>
              </p:nvGrpSpPr>
              <p:grpSpPr>
                <a:xfrm>
                  <a:off x="3600360" y="4659480"/>
                  <a:ext cx="348480" cy="174960"/>
                  <a:chOff x="3600360" y="4659480"/>
                  <a:chExt cx="348480" cy="174960"/>
                </a:xfrm>
              </p:grpSpPr>
              <p:sp>
                <p:nvSpPr>
                  <p:cNvPr id="720" name="Line 32"/>
                  <p:cNvSpPr/>
                  <p:nvPr/>
                </p:nvSpPr>
                <p:spPr>
                  <a:xfrm flipH="1">
                    <a:off x="3600360" y="4664160"/>
                    <a:ext cx="10080" cy="16704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Line 33"/>
                  <p:cNvSpPr/>
                  <p:nvPr/>
                </p:nvSpPr>
                <p:spPr>
                  <a:xfrm flipH="1">
                    <a:off x="3763440" y="4667760"/>
                    <a:ext cx="10080" cy="1666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Line 34"/>
                  <p:cNvSpPr/>
                  <p:nvPr/>
                </p:nvSpPr>
                <p:spPr>
                  <a:xfrm flipH="1">
                    <a:off x="3938760" y="4659480"/>
                    <a:ext cx="10080" cy="1666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3" name="Freeform 35"/>
                <p:cNvSpPr/>
                <p:nvPr/>
              </p:nvSpPr>
              <p:spPr>
                <a:xfrm rot="3660000">
                  <a:off x="3292920" y="3820320"/>
                  <a:ext cx="870840" cy="856440"/>
                </a:xfrm>
                <a:custGeom>
                  <a:avLst/>
                  <a:gdLst>
                    <a:gd name="textAreaLeft" fmla="*/ 0 w 870840"/>
                    <a:gd name="textAreaRight" fmla="*/ 871200 w 870840"/>
                    <a:gd name="textAreaTop" fmla="*/ 0 h 856440"/>
                    <a:gd name="textAreaBottom" fmla="*/ 856800 h 856440"/>
                  </a:gdLst>
                  <a:ahLst/>
                  <a:rect l="textAreaLeft" t="textAreaTop" r="textAreaRight" b="textAreaBottom"/>
                  <a:pathLst>
                    <a:path w="1400" h="1110">
                      <a:moveTo>
                        <a:pt x="140" y="390"/>
                      </a:moveTo>
                      <a:cubicBezTo>
                        <a:pt x="210" y="480"/>
                        <a:pt x="280" y="570"/>
                        <a:pt x="380" y="570"/>
                      </a:cubicBezTo>
                      <a:cubicBezTo>
                        <a:pt x="480" y="570"/>
                        <a:pt x="620" y="420"/>
                        <a:pt x="740" y="390"/>
                      </a:cubicBezTo>
                      <a:cubicBezTo>
                        <a:pt x="860" y="360"/>
                        <a:pt x="1000" y="360"/>
                        <a:pt x="1100" y="390"/>
                      </a:cubicBezTo>
                      <a:cubicBezTo>
                        <a:pt x="1200" y="420"/>
                        <a:pt x="1300" y="480"/>
                        <a:pt x="1340" y="570"/>
                      </a:cubicBezTo>
                      <a:cubicBezTo>
                        <a:pt x="1380" y="660"/>
                        <a:pt x="1400" y="840"/>
                        <a:pt x="1340" y="930"/>
                      </a:cubicBezTo>
                      <a:cubicBezTo>
                        <a:pt x="1280" y="1020"/>
                        <a:pt x="1100" y="1110"/>
                        <a:pt x="980" y="1110"/>
                      </a:cubicBezTo>
                      <a:cubicBezTo>
                        <a:pt x="860" y="1110"/>
                        <a:pt x="700" y="990"/>
                        <a:pt x="620" y="930"/>
                      </a:cubicBezTo>
                      <a:cubicBezTo>
                        <a:pt x="540" y="870"/>
                        <a:pt x="540" y="840"/>
                        <a:pt x="500" y="750"/>
                      </a:cubicBezTo>
                      <a:cubicBezTo>
                        <a:pt x="460" y="660"/>
                        <a:pt x="400" y="480"/>
                        <a:pt x="380" y="390"/>
                      </a:cubicBezTo>
                      <a:cubicBezTo>
                        <a:pt x="360" y="300"/>
                        <a:pt x="400" y="270"/>
                        <a:pt x="380" y="210"/>
                      </a:cubicBezTo>
                      <a:cubicBezTo>
                        <a:pt x="360" y="150"/>
                        <a:pt x="320" y="60"/>
                        <a:pt x="260" y="30"/>
                      </a:cubicBezTo>
                      <a:cubicBezTo>
                        <a:pt x="200" y="0"/>
                        <a:pt x="40" y="30"/>
                        <a:pt x="20" y="30"/>
                      </a:cubicBezTo>
                      <a:cubicBezTo>
                        <a:pt x="0" y="30"/>
                        <a:pt x="70" y="30"/>
                        <a:pt x="140" y="30"/>
                      </a:cubicBezTo>
                    </a:path>
                  </a:pathLst>
                </a:custGeom>
                <a:noFill/>
                <a:ln w="50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4" name="Text Box 36"/>
              <p:cNvSpPr/>
              <p:nvPr/>
            </p:nvSpPr>
            <p:spPr>
              <a:xfrm>
                <a:off x="3590280" y="4408920"/>
                <a:ext cx="337320" cy="11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65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UAC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25" name="Group 37"/>
          <p:cNvGrpSpPr/>
          <p:nvPr/>
        </p:nvGrpSpPr>
        <p:grpSpPr>
          <a:xfrm>
            <a:off x="6054840" y="3685320"/>
            <a:ext cx="1360440" cy="1565280"/>
            <a:chOff x="6054840" y="3685320"/>
            <a:chExt cx="1360440" cy="1565280"/>
          </a:xfrm>
        </p:grpSpPr>
        <p:grpSp>
          <p:nvGrpSpPr>
            <p:cNvPr id="726" name="Group 38"/>
            <p:cNvGrpSpPr/>
            <p:nvPr/>
          </p:nvGrpSpPr>
          <p:grpSpPr>
            <a:xfrm>
              <a:off x="6054840" y="3685320"/>
              <a:ext cx="1360440" cy="1565280"/>
              <a:chOff x="6054840" y="3685320"/>
              <a:chExt cx="1360440" cy="1565280"/>
            </a:xfrm>
          </p:grpSpPr>
          <p:grpSp>
            <p:nvGrpSpPr>
              <p:cNvPr id="727" name="Group 39"/>
              <p:cNvGrpSpPr/>
              <p:nvPr/>
            </p:nvGrpSpPr>
            <p:grpSpPr>
              <a:xfrm>
                <a:off x="6054840" y="3843360"/>
                <a:ext cx="1360440" cy="1407240"/>
                <a:chOff x="6054840" y="3843360"/>
                <a:chExt cx="1360440" cy="1407240"/>
              </a:xfrm>
            </p:grpSpPr>
            <p:grpSp>
              <p:nvGrpSpPr>
                <p:cNvPr id="728" name="Group 40"/>
                <p:cNvGrpSpPr/>
                <p:nvPr/>
              </p:nvGrpSpPr>
              <p:grpSpPr>
                <a:xfrm>
                  <a:off x="6616080" y="5007600"/>
                  <a:ext cx="422640" cy="204480"/>
                  <a:chOff x="6616080" y="5007600"/>
                  <a:chExt cx="422640" cy="204480"/>
                </a:xfrm>
              </p:grpSpPr>
              <p:sp>
                <p:nvSpPr>
                  <p:cNvPr id="729" name="Line 41"/>
                  <p:cNvSpPr/>
                  <p:nvPr/>
                </p:nvSpPr>
                <p:spPr>
                  <a:xfrm>
                    <a:off x="6616080" y="5007600"/>
                    <a:ext cx="7560" cy="1918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" name="Line 42"/>
                  <p:cNvSpPr/>
                  <p:nvPr/>
                </p:nvSpPr>
                <p:spPr>
                  <a:xfrm>
                    <a:off x="6815160" y="5020200"/>
                    <a:ext cx="8280" cy="1918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" name="Line 43"/>
                  <p:cNvSpPr/>
                  <p:nvPr/>
                </p:nvSpPr>
                <p:spPr>
                  <a:xfrm>
                    <a:off x="7031160" y="5018400"/>
                    <a:ext cx="7560" cy="1918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2" name="Freeform 44"/>
                <p:cNvSpPr/>
                <p:nvPr/>
              </p:nvSpPr>
              <p:spPr>
                <a:xfrm rot="3660000">
                  <a:off x="6195960" y="4067640"/>
                  <a:ext cx="1077840" cy="957960"/>
                </a:xfrm>
                <a:custGeom>
                  <a:avLst/>
                  <a:gdLst>
                    <a:gd name="textAreaLeft" fmla="*/ 0 w 1077840"/>
                    <a:gd name="textAreaRight" fmla="*/ 1078200 w 1077840"/>
                    <a:gd name="textAreaTop" fmla="*/ 0 h 957960"/>
                    <a:gd name="textAreaBottom" fmla="*/ 958320 h 957960"/>
                  </a:gdLst>
                  <a:ahLst/>
                  <a:rect l="textAreaLeft" t="textAreaTop" r="textAreaRight" b="textAreaBottom"/>
                  <a:pathLst>
                    <a:path w="1400" h="1110">
                      <a:moveTo>
                        <a:pt x="140" y="390"/>
                      </a:moveTo>
                      <a:cubicBezTo>
                        <a:pt x="210" y="480"/>
                        <a:pt x="280" y="570"/>
                        <a:pt x="380" y="570"/>
                      </a:cubicBezTo>
                      <a:cubicBezTo>
                        <a:pt x="480" y="570"/>
                        <a:pt x="620" y="420"/>
                        <a:pt x="740" y="390"/>
                      </a:cubicBezTo>
                      <a:cubicBezTo>
                        <a:pt x="860" y="360"/>
                        <a:pt x="1000" y="360"/>
                        <a:pt x="1100" y="390"/>
                      </a:cubicBezTo>
                      <a:cubicBezTo>
                        <a:pt x="1200" y="420"/>
                        <a:pt x="1300" y="480"/>
                        <a:pt x="1340" y="570"/>
                      </a:cubicBezTo>
                      <a:cubicBezTo>
                        <a:pt x="1380" y="660"/>
                        <a:pt x="1400" y="840"/>
                        <a:pt x="1340" y="930"/>
                      </a:cubicBezTo>
                      <a:cubicBezTo>
                        <a:pt x="1280" y="1020"/>
                        <a:pt x="1100" y="1110"/>
                        <a:pt x="980" y="1110"/>
                      </a:cubicBezTo>
                      <a:cubicBezTo>
                        <a:pt x="860" y="1110"/>
                        <a:pt x="700" y="990"/>
                        <a:pt x="620" y="930"/>
                      </a:cubicBezTo>
                      <a:cubicBezTo>
                        <a:pt x="540" y="870"/>
                        <a:pt x="540" y="840"/>
                        <a:pt x="500" y="750"/>
                      </a:cubicBezTo>
                      <a:cubicBezTo>
                        <a:pt x="460" y="660"/>
                        <a:pt x="400" y="480"/>
                        <a:pt x="380" y="390"/>
                      </a:cubicBezTo>
                      <a:cubicBezTo>
                        <a:pt x="360" y="300"/>
                        <a:pt x="400" y="270"/>
                        <a:pt x="380" y="210"/>
                      </a:cubicBezTo>
                      <a:cubicBezTo>
                        <a:pt x="360" y="150"/>
                        <a:pt x="320" y="60"/>
                        <a:pt x="260" y="30"/>
                      </a:cubicBezTo>
                      <a:cubicBezTo>
                        <a:pt x="200" y="0"/>
                        <a:pt x="40" y="30"/>
                        <a:pt x="20" y="30"/>
                      </a:cubicBezTo>
                      <a:cubicBezTo>
                        <a:pt x="0" y="30"/>
                        <a:pt x="70" y="30"/>
                        <a:pt x="140" y="30"/>
                      </a:cubicBezTo>
                    </a:path>
                  </a:pathLst>
                </a:custGeom>
                <a:noFill/>
                <a:ln w="50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3" name="Oval 45"/>
              <p:cNvSpPr/>
              <p:nvPr/>
            </p:nvSpPr>
            <p:spPr>
              <a:xfrm rot="1320000">
                <a:off x="6281640" y="3771720"/>
                <a:ext cx="519120" cy="2883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4" name="Text Box 46"/>
            <p:cNvSpPr/>
            <p:nvPr/>
          </p:nvSpPr>
          <p:spPr>
            <a:xfrm>
              <a:off x="6394320" y="3943440"/>
              <a:ext cx="41292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63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Me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Text Box 47"/>
            <p:cNvSpPr/>
            <p:nvPr/>
          </p:nvSpPr>
          <p:spPr>
            <a:xfrm>
              <a:off x="6539040" y="4759200"/>
              <a:ext cx="41256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74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A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6" name="Group 48"/>
          <p:cNvGrpSpPr/>
          <p:nvPr/>
        </p:nvGrpSpPr>
        <p:grpSpPr>
          <a:xfrm>
            <a:off x="1188720" y="3740400"/>
            <a:ext cx="1866960" cy="690120"/>
            <a:chOff x="1188720" y="3740400"/>
            <a:chExt cx="1866960" cy="690120"/>
          </a:xfrm>
        </p:grpSpPr>
        <p:grpSp>
          <p:nvGrpSpPr>
            <p:cNvPr id="737" name="Group 49"/>
            <p:cNvGrpSpPr/>
            <p:nvPr/>
          </p:nvGrpSpPr>
          <p:grpSpPr>
            <a:xfrm>
              <a:off x="1662840" y="3740400"/>
              <a:ext cx="779040" cy="690120"/>
              <a:chOff x="1662840" y="3740400"/>
              <a:chExt cx="779040" cy="690120"/>
            </a:xfrm>
          </p:grpSpPr>
          <p:sp>
            <p:nvSpPr>
              <p:cNvPr id="738" name="Oval 50"/>
              <p:cNvSpPr/>
              <p:nvPr/>
            </p:nvSpPr>
            <p:spPr>
              <a:xfrm rot="1320000">
                <a:off x="1729800" y="3843360"/>
                <a:ext cx="644760" cy="48384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Text Box 51"/>
              <p:cNvSpPr/>
              <p:nvPr/>
            </p:nvSpPr>
            <p:spPr>
              <a:xfrm>
                <a:off x="1831320" y="3982320"/>
                <a:ext cx="416520" cy="21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M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0" name="Text Box 52"/>
            <p:cNvSpPr/>
            <p:nvPr/>
          </p:nvSpPr>
          <p:spPr>
            <a:xfrm>
              <a:off x="1188720" y="3890880"/>
              <a:ext cx="66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Enz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Text Box 53"/>
            <p:cNvSpPr/>
            <p:nvPr/>
          </p:nvSpPr>
          <p:spPr>
            <a:xfrm>
              <a:off x="2291400" y="3935520"/>
              <a:ext cx="76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AM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2" name="Text Box 55"/>
          <p:cNvSpPr/>
          <p:nvPr/>
        </p:nvSpPr>
        <p:spPr>
          <a:xfrm>
            <a:off x="3488400" y="3213000"/>
            <a:ext cx="240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400" spc="-1" strike="noStrike">
                <a:solidFill>
                  <a:srgbClr val="ff3300"/>
                </a:solidFill>
                <a:latin typeface="Arial"/>
              </a:rPr>
              <a:t>Aminoacil-ARNt sintetas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Elipse 1"/>
          <p:cNvSpPr/>
          <p:nvPr/>
        </p:nvSpPr>
        <p:spPr>
          <a:xfrm>
            <a:off x="5553000" y="2925720"/>
            <a:ext cx="2114640" cy="2590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564000" y="333360"/>
            <a:ext cx="51847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Traducción de Proteínas en procariotas. Inici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Group 3"/>
          <p:cNvGrpSpPr/>
          <p:nvPr/>
        </p:nvGrpSpPr>
        <p:grpSpPr>
          <a:xfrm>
            <a:off x="863640" y="468360"/>
            <a:ext cx="3132000" cy="5979240"/>
            <a:chOff x="863640" y="468360"/>
            <a:chExt cx="3132000" cy="5979240"/>
          </a:xfrm>
        </p:grpSpPr>
        <p:grpSp>
          <p:nvGrpSpPr>
            <p:cNvPr id="746" name="Group 4"/>
            <p:cNvGrpSpPr/>
            <p:nvPr/>
          </p:nvGrpSpPr>
          <p:grpSpPr>
            <a:xfrm>
              <a:off x="863640" y="468360"/>
              <a:ext cx="3132000" cy="5979240"/>
              <a:chOff x="863640" y="468360"/>
              <a:chExt cx="3132000" cy="5979240"/>
            </a:xfrm>
          </p:grpSpPr>
          <p:grpSp>
            <p:nvGrpSpPr>
              <p:cNvPr id="747" name="Group 5"/>
              <p:cNvGrpSpPr/>
              <p:nvPr/>
            </p:nvGrpSpPr>
            <p:grpSpPr>
              <a:xfrm>
                <a:off x="863640" y="468360"/>
                <a:ext cx="3132000" cy="5979240"/>
                <a:chOff x="863640" y="468360"/>
                <a:chExt cx="3132000" cy="5979240"/>
              </a:xfrm>
            </p:grpSpPr>
            <p:grpSp>
              <p:nvGrpSpPr>
                <p:cNvPr id="748" name="Group 6"/>
                <p:cNvGrpSpPr/>
                <p:nvPr/>
              </p:nvGrpSpPr>
              <p:grpSpPr>
                <a:xfrm>
                  <a:off x="1709640" y="1733400"/>
                  <a:ext cx="849600" cy="693360"/>
                  <a:chOff x="1709640" y="1733400"/>
                  <a:chExt cx="849600" cy="693360"/>
                </a:xfrm>
              </p:grpSpPr>
              <p:sp>
                <p:nvSpPr>
                  <p:cNvPr id="749" name="Text Box 7"/>
                  <p:cNvSpPr/>
                  <p:nvPr/>
                </p:nvSpPr>
                <p:spPr>
                  <a:xfrm>
                    <a:off x="1709640" y="1733400"/>
                    <a:ext cx="609840" cy="255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mARN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50" name="Group 8"/>
                  <p:cNvGrpSpPr/>
                  <p:nvPr/>
                </p:nvGrpSpPr>
                <p:grpSpPr>
                  <a:xfrm>
                    <a:off x="2230200" y="1733400"/>
                    <a:ext cx="329040" cy="693360"/>
                    <a:chOff x="2230200" y="1733400"/>
                    <a:chExt cx="329040" cy="693360"/>
                  </a:xfrm>
                </p:grpSpPr>
                <p:sp>
                  <p:nvSpPr>
                    <p:cNvPr id="751" name="Arc 9"/>
                    <p:cNvSpPr/>
                    <p:nvPr/>
                  </p:nvSpPr>
                  <p:spPr>
                    <a:xfrm flipV="1" rot="16349400">
                      <a:off x="2114640" y="1987920"/>
                      <a:ext cx="559440" cy="304920"/>
                    </a:xfrm>
                    <a:custGeom>
                      <a:avLst/>
                      <a:gdLst>
                        <a:gd name="textAreaLeft" fmla="*/ 0 w 559440"/>
                        <a:gd name="textAreaRight" fmla="*/ 559800 w 559440"/>
                        <a:gd name="textAreaTop" fmla="*/ -360 h 304920"/>
                        <a:gd name="textAreaBottom" fmla="*/ 304920 h 304920"/>
                      </a:gdLst>
                      <a:ahLst/>
                      <a:rect l="textAreaLeft" t="textAreaTop" r="textAreaRight" b="textAreaBottom"/>
                      <a:pathLst>
                        <a:path fill="none" w="21600" h="17104">
                          <a:moveTo>
                            <a:pt x="13191" y="0"/>
                          </a:moveTo>
                          <a:cubicBezTo>
                            <a:pt x="18494" y="4089"/>
                            <a:pt x="21600" y="10407"/>
                            <a:pt x="21600" y="17104"/>
                          </a:cubicBezTo>
                        </a:path>
                        <a:path stroke="0" w="21600" h="17104">
                          <a:moveTo>
                            <a:pt x="13191" y="0"/>
                          </a:moveTo>
                          <a:cubicBezTo>
                            <a:pt x="18494" y="4089"/>
                            <a:pt x="21600" y="10407"/>
                            <a:pt x="21600" y="17104"/>
                          </a:cubicBezTo>
                          <a:lnTo>
                            <a:pt x="0" y="17104"/>
                          </a:lnTo>
                          <a:lnTo>
                            <a:pt x="13191" y="0"/>
                          </a:lnTo>
                          <a:close/>
                        </a:path>
                      </a:pathLst>
                    </a:custGeom>
                    <a:noFill/>
                    <a:ln w="158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2" name="Line 10"/>
                    <p:cNvSpPr/>
                    <p:nvPr/>
                  </p:nvSpPr>
                  <p:spPr>
                    <a:xfrm>
                      <a:off x="2547720" y="1733400"/>
                      <a:ext cx="0" cy="57132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53" name="Group 11"/>
                <p:cNvGrpSpPr/>
                <p:nvPr/>
              </p:nvGrpSpPr>
              <p:grpSpPr>
                <a:xfrm>
                  <a:off x="863640" y="468360"/>
                  <a:ext cx="2378880" cy="1169640"/>
                  <a:chOff x="863640" y="468360"/>
                  <a:chExt cx="2378880" cy="1169640"/>
                </a:xfrm>
              </p:grpSpPr>
              <p:sp>
                <p:nvSpPr>
                  <p:cNvPr id="754" name="Line 12"/>
                  <p:cNvSpPr/>
                  <p:nvPr/>
                </p:nvSpPr>
                <p:spPr>
                  <a:xfrm>
                    <a:off x="2319120" y="810720"/>
                    <a:ext cx="75960" cy="342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  <a:tailEnd len="sm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55" name="Group 13"/>
                  <p:cNvGrpSpPr/>
                  <p:nvPr/>
                </p:nvGrpSpPr>
                <p:grpSpPr>
                  <a:xfrm>
                    <a:off x="863640" y="1131840"/>
                    <a:ext cx="2378880" cy="506160"/>
                    <a:chOff x="863640" y="1131840"/>
                    <a:chExt cx="2378880" cy="506160"/>
                  </a:xfrm>
                </p:grpSpPr>
                <p:grpSp>
                  <p:nvGrpSpPr>
                    <p:cNvPr id="756" name="Group 14"/>
                    <p:cNvGrpSpPr/>
                    <p:nvPr/>
                  </p:nvGrpSpPr>
                  <p:grpSpPr>
                    <a:xfrm>
                      <a:off x="1853280" y="1131840"/>
                      <a:ext cx="1389240" cy="506160"/>
                      <a:chOff x="1853280" y="1131840"/>
                      <a:chExt cx="1389240" cy="506160"/>
                    </a:xfrm>
                  </p:grpSpPr>
                  <p:sp>
                    <p:nvSpPr>
                      <p:cNvPr id="757" name="Oval 15"/>
                      <p:cNvSpPr/>
                      <p:nvPr/>
                    </p:nvSpPr>
                    <p:spPr>
                      <a:xfrm rot="21459600">
                        <a:off x="1861560" y="1159560"/>
                        <a:ext cx="1371960" cy="4503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767676"/>
                          </a:gs>
                        </a:gsLst>
                        <a:lin ang="5538000"/>
                      </a:gra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758" name="Group 16"/>
                      <p:cNvGrpSpPr/>
                      <p:nvPr/>
                    </p:nvGrpSpPr>
                    <p:grpSpPr>
                      <a:xfrm>
                        <a:off x="2242800" y="1186920"/>
                        <a:ext cx="380880" cy="342360"/>
                        <a:chOff x="2242800" y="1186920"/>
                        <a:chExt cx="380880" cy="342360"/>
                      </a:xfrm>
                    </p:grpSpPr>
                    <p:sp>
                      <p:nvSpPr>
                        <p:cNvPr id="759" name="AutoShape 17"/>
                        <p:cNvSpPr/>
                        <p:nvPr/>
                      </p:nvSpPr>
                      <p:spPr>
                        <a:xfrm>
                          <a:off x="2242800" y="1186920"/>
                          <a:ext cx="380880" cy="342360"/>
                        </a:xfrm>
                        <a:prstGeom prst="roundRect">
                          <a:avLst>
                            <a:gd name="adj" fmla="val 16667"/>
                          </a:avLst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prstDash val="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0" name="Text Box 18"/>
                        <p:cNvSpPr/>
                        <p:nvPr/>
                      </p:nvSpPr>
                      <p:spPr>
                        <a:xfrm>
                          <a:off x="2280960" y="1301040"/>
                          <a:ext cx="342720" cy="203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P</a:t>
                          </a:r>
                          <a:endParaRPr b="0" lang="en-US" sz="12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61" name="Group 19"/>
                      <p:cNvGrpSpPr/>
                      <p:nvPr/>
                    </p:nvGrpSpPr>
                    <p:grpSpPr>
                      <a:xfrm>
                        <a:off x="2700000" y="1267560"/>
                        <a:ext cx="304920" cy="228240"/>
                        <a:chOff x="2700000" y="1267560"/>
                        <a:chExt cx="304920" cy="228240"/>
                      </a:xfrm>
                    </p:grpSpPr>
                    <p:sp>
                      <p:nvSpPr>
                        <p:cNvPr id="762" name="AutoShape 20"/>
                        <p:cNvSpPr/>
                        <p:nvPr/>
                      </p:nvSpPr>
                      <p:spPr>
                        <a:xfrm>
                          <a:off x="2700000" y="1267560"/>
                          <a:ext cx="304920" cy="228240"/>
                        </a:xfrm>
                        <a:prstGeom prst="roundRect">
                          <a:avLst>
                            <a:gd name="adj" fmla="val 16667"/>
                          </a:avLst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prstDash val="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3" name="Text Box 21"/>
                        <p:cNvSpPr/>
                        <p:nvPr/>
                      </p:nvSpPr>
                      <p:spPr>
                        <a:xfrm>
                          <a:off x="2730240" y="1343520"/>
                          <a:ext cx="274320" cy="135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A</a:t>
                          </a:r>
                          <a:endParaRPr b="0" lang="en-US" sz="12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764" name="Text Box 22"/>
                    <p:cNvSpPr/>
                    <p:nvPr/>
                  </p:nvSpPr>
                  <p:spPr>
                    <a:xfrm>
                      <a:off x="863640" y="1236600"/>
                      <a:ext cx="982440" cy="393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unidad 30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5" name="Group 23"/>
                  <p:cNvGrpSpPr/>
                  <p:nvPr/>
                </p:nvGrpSpPr>
                <p:grpSpPr>
                  <a:xfrm>
                    <a:off x="2090520" y="468360"/>
                    <a:ext cx="380880" cy="342360"/>
                    <a:chOff x="2090520" y="468360"/>
                    <a:chExt cx="380880" cy="342360"/>
                  </a:xfrm>
                </p:grpSpPr>
                <p:sp>
                  <p:nvSpPr>
                    <p:cNvPr id="766" name="Oval 24"/>
                    <p:cNvSpPr/>
                    <p:nvPr/>
                  </p:nvSpPr>
                  <p:spPr>
                    <a:xfrm>
                      <a:off x="2090520" y="468360"/>
                      <a:ext cx="380880" cy="34236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Text Box 25"/>
                    <p:cNvSpPr/>
                    <p:nvPr/>
                  </p:nvSpPr>
                  <p:spPr>
                    <a:xfrm>
                      <a:off x="2166480" y="582480"/>
                      <a:ext cx="304560" cy="113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-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8" name="Group 26"/>
                  <p:cNvGrpSpPr/>
                  <p:nvPr/>
                </p:nvGrpSpPr>
                <p:grpSpPr>
                  <a:xfrm>
                    <a:off x="2548080" y="468360"/>
                    <a:ext cx="380880" cy="342360"/>
                    <a:chOff x="2548080" y="468360"/>
                    <a:chExt cx="380880" cy="342360"/>
                  </a:xfrm>
                </p:grpSpPr>
                <p:sp>
                  <p:nvSpPr>
                    <p:cNvPr id="769" name="Oval 27"/>
                    <p:cNvSpPr/>
                    <p:nvPr/>
                  </p:nvSpPr>
                  <p:spPr>
                    <a:xfrm>
                      <a:off x="2548080" y="468360"/>
                      <a:ext cx="380880" cy="34236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0" name="Text Box 28"/>
                    <p:cNvSpPr/>
                    <p:nvPr/>
                  </p:nvSpPr>
                  <p:spPr>
                    <a:xfrm>
                      <a:off x="2624040" y="582480"/>
                      <a:ext cx="304560" cy="113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-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71" name="Line 29"/>
                  <p:cNvSpPr/>
                  <p:nvPr/>
                </p:nvSpPr>
                <p:spPr>
                  <a:xfrm flipH="1">
                    <a:off x="2471760" y="810720"/>
                    <a:ext cx="228240" cy="342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  <a:tailEnd len="sm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2" name="Group 30"/>
                <p:cNvGrpSpPr/>
                <p:nvPr/>
              </p:nvGrpSpPr>
              <p:grpSpPr>
                <a:xfrm>
                  <a:off x="1252440" y="2332080"/>
                  <a:ext cx="2667240" cy="1087920"/>
                  <a:chOff x="1252440" y="2332080"/>
                  <a:chExt cx="2667240" cy="1087920"/>
                </a:xfrm>
              </p:grpSpPr>
              <p:grpSp>
                <p:nvGrpSpPr>
                  <p:cNvPr id="773" name="Group 31"/>
                  <p:cNvGrpSpPr/>
                  <p:nvPr/>
                </p:nvGrpSpPr>
                <p:grpSpPr>
                  <a:xfrm>
                    <a:off x="2005920" y="2913480"/>
                    <a:ext cx="1388880" cy="506520"/>
                    <a:chOff x="2005920" y="2913480"/>
                    <a:chExt cx="1388880" cy="506520"/>
                  </a:xfrm>
                </p:grpSpPr>
                <p:sp>
                  <p:nvSpPr>
                    <p:cNvPr id="774" name="Oval 32"/>
                    <p:cNvSpPr/>
                    <p:nvPr/>
                  </p:nvSpPr>
                  <p:spPr>
                    <a:xfrm rot="21459600">
                      <a:off x="2014200" y="2941200"/>
                      <a:ext cx="1371600" cy="4507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538000"/>
                    </a:gradFill>
                    <a:ln w="936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75" name="Group 33"/>
                    <p:cNvGrpSpPr/>
                    <p:nvPr/>
                  </p:nvGrpSpPr>
                  <p:grpSpPr>
                    <a:xfrm>
                      <a:off x="2395440" y="2968560"/>
                      <a:ext cx="380880" cy="342720"/>
                      <a:chOff x="2395440" y="2968560"/>
                      <a:chExt cx="380880" cy="342720"/>
                    </a:xfrm>
                  </p:grpSpPr>
                  <p:sp>
                    <p:nvSpPr>
                      <p:cNvPr id="776" name="AutoShape 34"/>
                      <p:cNvSpPr/>
                      <p:nvPr/>
                    </p:nvSpPr>
                    <p:spPr>
                      <a:xfrm>
                        <a:off x="2395440" y="2968560"/>
                        <a:ext cx="380880" cy="342720"/>
                      </a:xfrm>
                      <a:prstGeom prst="roundRect">
                        <a:avLst>
                          <a:gd name="adj" fmla="val 16667"/>
                        </a:avLst>
                      </a:prstGeom>
                      <a:noFill/>
                      <a:ln w="12600">
                        <a:solidFill>
                          <a:srgbClr val="000000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7" name="Text Box 35"/>
                      <p:cNvSpPr/>
                      <p:nvPr/>
                    </p:nvSpPr>
                    <p:spPr>
                      <a:xfrm>
                        <a:off x="2433600" y="3082680"/>
                        <a:ext cx="342720" cy="2037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P</a:t>
                        </a:r>
                        <a:endParaRPr b="0" lang="en-US" sz="12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78" name="Group 36"/>
                    <p:cNvGrpSpPr/>
                    <p:nvPr/>
                  </p:nvGrpSpPr>
                  <p:grpSpPr>
                    <a:xfrm>
                      <a:off x="2852640" y="3049200"/>
                      <a:ext cx="304560" cy="228600"/>
                      <a:chOff x="2852640" y="3049200"/>
                      <a:chExt cx="304560" cy="228600"/>
                    </a:xfrm>
                  </p:grpSpPr>
                  <p:sp>
                    <p:nvSpPr>
                      <p:cNvPr id="779" name="AutoShape 37"/>
                      <p:cNvSpPr/>
                      <p:nvPr/>
                    </p:nvSpPr>
                    <p:spPr>
                      <a:xfrm>
                        <a:off x="2852640" y="3049200"/>
                        <a:ext cx="304560" cy="228600"/>
                      </a:xfrm>
                      <a:prstGeom prst="roundRect">
                        <a:avLst>
                          <a:gd name="adj" fmla="val 16667"/>
                        </a:avLst>
                      </a:prstGeom>
                      <a:noFill/>
                      <a:ln w="12600">
                        <a:solidFill>
                          <a:srgbClr val="000000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80" name="Text Box 38"/>
                      <p:cNvSpPr/>
                      <p:nvPr/>
                    </p:nvSpPr>
                    <p:spPr>
                      <a:xfrm>
                        <a:off x="2882880" y="3125160"/>
                        <a:ext cx="273960" cy="135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A</a:t>
                        </a:r>
                        <a:endParaRPr b="0" lang="en-US" sz="12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81" name="Group 39"/>
                  <p:cNvGrpSpPr/>
                  <p:nvPr/>
                </p:nvGrpSpPr>
                <p:grpSpPr>
                  <a:xfrm>
                    <a:off x="1938240" y="3049560"/>
                    <a:ext cx="380880" cy="342720"/>
                    <a:chOff x="1938240" y="3049560"/>
                    <a:chExt cx="380880" cy="342720"/>
                  </a:xfrm>
                </p:grpSpPr>
                <p:sp>
                  <p:nvSpPr>
                    <p:cNvPr id="782" name="Oval 40"/>
                    <p:cNvSpPr/>
                    <p:nvPr/>
                  </p:nvSpPr>
                  <p:spPr>
                    <a:xfrm>
                      <a:off x="1938240" y="3049560"/>
                      <a:ext cx="380880" cy="34272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3" name="Text Box 41"/>
                    <p:cNvSpPr/>
                    <p:nvPr/>
                  </p:nvSpPr>
                  <p:spPr>
                    <a:xfrm>
                      <a:off x="2014200" y="3163680"/>
                      <a:ext cx="304560" cy="114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-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4" name="Group 42"/>
                  <p:cNvGrpSpPr/>
                  <p:nvPr/>
                </p:nvGrpSpPr>
                <p:grpSpPr>
                  <a:xfrm>
                    <a:off x="2852640" y="2935440"/>
                    <a:ext cx="380880" cy="342720"/>
                    <a:chOff x="2852640" y="2935440"/>
                    <a:chExt cx="380880" cy="342720"/>
                  </a:xfrm>
                </p:grpSpPr>
                <p:sp>
                  <p:nvSpPr>
                    <p:cNvPr id="785" name="Oval 43"/>
                    <p:cNvSpPr/>
                    <p:nvPr/>
                  </p:nvSpPr>
                  <p:spPr>
                    <a:xfrm>
                      <a:off x="2852640" y="2935440"/>
                      <a:ext cx="380880" cy="34272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6" name="Text Box 44"/>
                    <p:cNvSpPr/>
                    <p:nvPr/>
                  </p:nvSpPr>
                  <p:spPr>
                    <a:xfrm>
                      <a:off x="2928600" y="3049560"/>
                      <a:ext cx="304560" cy="114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-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7" name="Group 45"/>
                  <p:cNvGrpSpPr/>
                  <p:nvPr/>
                </p:nvGrpSpPr>
                <p:grpSpPr>
                  <a:xfrm>
                    <a:off x="1252440" y="2332080"/>
                    <a:ext cx="2667240" cy="768600"/>
                    <a:chOff x="1252440" y="2332080"/>
                    <a:chExt cx="2667240" cy="768600"/>
                  </a:xfrm>
                </p:grpSpPr>
                <p:sp>
                  <p:nvSpPr>
                    <p:cNvPr id="788" name="Text Box 46"/>
                    <p:cNvSpPr/>
                    <p:nvPr/>
                  </p:nvSpPr>
                  <p:spPr>
                    <a:xfrm>
                      <a:off x="1945800" y="2332080"/>
                      <a:ext cx="609480" cy="325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odón de inici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9" name="Text Box 47"/>
                    <p:cNvSpPr/>
                    <p:nvPr/>
                  </p:nvSpPr>
                  <p:spPr>
                    <a:xfrm>
                      <a:off x="3615120" y="2872440"/>
                      <a:ext cx="304560" cy="118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’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90" name="Group 48"/>
                    <p:cNvGrpSpPr/>
                    <p:nvPr/>
                  </p:nvGrpSpPr>
                  <p:grpSpPr>
                    <a:xfrm>
                      <a:off x="1252440" y="2872440"/>
                      <a:ext cx="609480" cy="228240"/>
                      <a:chOff x="1252440" y="2872440"/>
                      <a:chExt cx="609480" cy="228240"/>
                    </a:xfrm>
                  </p:grpSpPr>
                  <p:sp>
                    <p:nvSpPr>
                      <p:cNvPr id="791" name="Text Box 49"/>
                      <p:cNvSpPr/>
                      <p:nvPr/>
                    </p:nvSpPr>
                    <p:spPr>
                      <a:xfrm>
                        <a:off x="1404720" y="2872440"/>
                        <a:ext cx="304560" cy="118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5’</a:t>
                        </a:r>
                        <a:endParaRPr b="0" lang="en-US" sz="9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2" name="Text Box 50"/>
                      <p:cNvSpPr/>
                      <p:nvPr/>
                    </p:nvSpPr>
                    <p:spPr>
                      <a:xfrm>
                        <a:off x="1252440" y="2986560"/>
                        <a:ext cx="609480" cy="114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mARN</a:t>
                        </a:r>
                        <a:endParaRPr b="0" lang="en-US" sz="1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93" name="Line 51"/>
                    <p:cNvSpPr/>
                    <p:nvPr/>
                  </p:nvSpPr>
                  <p:spPr>
                    <a:xfrm>
                      <a:off x="2471760" y="2529360"/>
                      <a:ext cx="75960" cy="228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4" name="Text Box 52"/>
                    <p:cNvSpPr/>
                    <p:nvPr/>
                  </p:nvSpPr>
                  <p:spPr>
                    <a:xfrm>
                      <a:off x="2380320" y="2986560"/>
                      <a:ext cx="457200" cy="114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AutoShape 53"/>
                    <p:cNvSpPr/>
                    <p:nvPr/>
                  </p:nvSpPr>
                  <p:spPr>
                    <a:xfrm rot="16200000">
                      <a:off x="2528640" y="2662200"/>
                      <a:ext cx="114120" cy="304560"/>
                    </a:xfrm>
                    <a:custGeom>
                      <a:avLst/>
                      <a:gdLst>
                        <a:gd name="textAreaLeft" fmla="*/ 0 w 114120"/>
                        <a:gd name="textAreaRight" fmla="*/ 80280 w 114120"/>
                        <a:gd name="textAreaTop" fmla="*/ 18720 h 304560"/>
                        <a:gd name="textAreaBottom" fmla="*/ 285840 h 304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cubicBezTo>
                            <a:pt x="10800" y="0"/>
                            <a:pt x="21600" y="1350"/>
                            <a:pt x="21600" y="2700"/>
                          </a:cubicBezTo>
                          <a:lnTo>
                            <a:pt x="21600" y="18900"/>
                          </a:lnTo>
                          <a:cubicBezTo>
                            <a:pt x="21600" y="20250"/>
                            <a:pt x="10800" y="21600"/>
                            <a:pt x="0" y="2160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96" name="Group 54"/>
                    <p:cNvGrpSpPr/>
                    <p:nvPr/>
                  </p:nvGrpSpPr>
                  <p:grpSpPr>
                    <a:xfrm>
                      <a:off x="1633320" y="2797920"/>
                      <a:ext cx="2057760" cy="153360"/>
                      <a:chOff x="1633320" y="2797920"/>
                      <a:chExt cx="2057760" cy="153360"/>
                    </a:xfrm>
                  </p:grpSpPr>
                  <p:grpSp>
                    <p:nvGrpSpPr>
                      <p:cNvPr id="797" name="Group 55"/>
                      <p:cNvGrpSpPr/>
                      <p:nvPr/>
                    </p:nvGrpSpPr>
                    <p:grpSpPr>
                      <a:xfrm>
                        <a:off x="1728360" y="2799000"/>
                        <a:ext cx="190800" cy="146880"/>
                        <a:chOff x="1728360" y="2799000"/>
                        <a:chExt cx="190800" cy="146880"/>
                      </a:xfrm>
                    </p:grpSpPr>
                    <p:sp>
                      <p:nvSpPr>
                        <p:cNvPr id="798" name="Line 56"/>
                        <p:cNvSpPr/>
                        <p:nvPr/>
                      </p:nvSpPr>
                      <p:spPr>
                        <a:xfrm flipH="1">
                          <a:off x="1728360" y="2808000"/>
                          <a:ext cx="108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9" name="Line 57"/>
                        <p:cNvSpPr/>
                        <p:nvPr/>
                      </p:nvSpPr>
                      <p:spPr>
                        <a:xfrm flipH="1">
                          <a:off x="1819440" y="2808720"/>
                          <a:ext cx="108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0" name="Line 58"/>
                        <p:cNvSpPr/>
                        <p:nvPr/>
                      </p:nvSpPr>
                      <p:spPr>
                        <a:xfrm flipH="1">
                          <a:off x="1918080" y="2799000"/>
                          <a:ext cx="108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801" name="Group 59"/>
                      <p:cNvGrpSpPr/>
                      <p:nvPr/>
                    </p:nvGrpSpPr>
                    <p:grpSpPr>
                      <a:xfrm>
                        <a:off x="2109600" y="2797920"/>
                        <a:ext cx="190080" cy="148320"/>
                        <a:chOff x="2109600" y="2797920"/>
                        <a:chExt cx="190080" cy="148320"/>
                      </a:xfrm>
                    </p:grpSpPr>
                    <p:sp>
                      <p:nvSpPr>
                        <p:cNvPr id="802" name="Line 60"/>
                        <p:cNvSpPr/>
                        <p:nvPr/>
                      </p:nvSpPr>
                      <p:spPr>
                        <a:xfrm>
                          <a:off x="2109600" y="2809080"/>
                          <a:ext cx="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3" name="Line 61"/>
                        <p:cNvSpPr/>
                        <p:nvPr/>
                      </p:nvSpPr>
                      <p:spPr>
                        <a:xfrm>
                          <a:off x="2201040" y="2808720"/>
                          <a:ext cx="36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4" name="Line 62"/>
                        <p:cNvSpPr/>
                        <p:nvPr/>
                      </p:nvSpPr>
                      <p:spPr>
                        <a:xfrm>
                          <a:off x="2299680" y="2797920"/>
                          <a:ext cx="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805" name="Group 63"/>
                      <p:cNvGrpSpPr/>
                      <p:nvPr/>
                    </p:nvGrpSpPr>
                    <p:grpSpPr>
                      <a:xfrm>
                        <a:off x="2489760" y="2799360"/>
                        <a:ext cx="191520" cy="146520"/>
                        <a:chOff x="2489760" y="2799360"/>
                        <a:chExt cx="191520" cy="146520"/>
                      </a:xfrm>
                    </p:grpSpPr>
                    <p:sp>
                      <p:nvSpPr>
                        <p:cNvPr id="806" name="Line 64"/>
                        <p:cNvSpPr/>
                        <p:nvPr/>
                      </p:nvSpPr>
                      <p:spPr>
                        <a:xfrm flipH="1">
                          <a:off x="2489760" y="2807640"/>
                          <a:ext cx="144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7" name="Line 65"/>
                        <p:cNvSpPr/>
                        <p:nvPr/>
                      </p:nvSpPr>
                      <p:spPr>
                        <a:xfrm flipH="1">
                          <a:off x="2581200" y="2808720"/>
                          <a:ext cx="144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8" name="Line 66"/>
                        <p:cNvSpPr/>
                        <p:nvPr/>
                      </p:nvSpPr>
                      <p:spPr>
                        <a:xfrm flipH="1">
                          <a:off x="2679840" y="2799360"/>
                          <a:ext cx="144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809" name="Group 67"/>
                      <p:cNvGrpSpPr/>
                      <p:nvPr/>
                    </p:nvGrpSpPr>
                    <p:grpSpPr>
                      <a:xfrm>
                        <a:off x="2869920" y="2800800"/>
                        <a:ext cx="193680" cy="145080"/>
                        <a:chOff x="2869920" y="2800800"/>
                        <a:chExt cx="193680" cy="145080"/>
                      </a:xfrm>
                    </p:grpSpPr>
                    <p:sp>
                      <p:nvSpPr>
                        <p:cNvPr id="810" name="Line 68"/>
                        <p:cNvSpPr/>
                        <p:nvPr/>
                      </p:nvSpPr>
                      <p:spPr>
                        <a:xfrm flipH="1">
                          <a:off x="2869920" y="2806200"/>
                          <a:ext cx="360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1" name="Line 69"/>
                        <p:cNvSpPr/>
                        <p:nvPr/>
                      </p:nvSpPr>
                      <p:spPr>
                        <a:xfrm flipH="1">
                          <a:off x="2961360" y="2808720"/>
                          <a:ext cx="360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2" name="Line 70"/>
                        <p:cNvSpPr/>
                        <p:nvPr/>
                      </p:nvSpPr>
                      <p:spPr>
                        <a:xfrm flipH="1">
                          <a:off x="3060000" y="2800800"/>
                          <a:ext cx="360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13" name="Line 71"/>
                      <p:cNvSpPr/>
                      <p:nvPr/>
                    </p:nvSpPr>
                    <p:spPr>
                      <a:xfrm>
                        <a:off x="1633320" y="2951280"/>
                        <a:ext cx="2057760" cy="0"/>
                      </a:xfrm>
                      <a:prstGeom prst="line">
                        <a:avLst/>
                      </a:prstGeom>
                      <a:ln w="475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14" name="Group 72"/>
                      <p:cNvGrpSpPr/>
                      <p:nvPr/>
                    </p:nvGrpSpPr>
                    <p:grpSpPr>
                      <a:xfrm>
                        <a:off x="3251160" y="2800800"/>
                        <a:ext cx="193680" cy="144720"/>
                        <a:chOff x="3251160" y="2800800"/>
                        <a:chExt cx="193680" cy="144720"/>
                      </a:xfrm>
                    </p:grpSpPr>
                    <p:sp>
                      <p:nvSpPr>
                        <p:cNvPr id="815" name="Line 73"/>
                        <p:cNvSpPr/>
                        <p:nvPr/>
                      </p:nvSpPr>
                      <p:spPr>
                        <a:xfrm flipH="1">
                          <a:off x="3251160" y="2806200"/>
                          <a:ext cx="360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6" name="Line 74"/>
                        <p:cNvSpPr/>
                        <p:nvPr/>
                      </p:nvSpPr>
                      <p:spPr>
                        <a:xfrm flipH="1">
                          <a:off x="3342240" y="2808720"/>
                          <a:ext cx="3960" cy="13680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7" name="Line 75"/>
                        <p:cNvSpPr/>
                        <p:nvPr/>
                      </p:nvSpPr>
                      <p:spPr>
                        <a:xfrm flipH="1">
                          <a:off x="3441240" y="2800800"/>
                          <a:ext cx="360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818" name="Group 76"/>
                <p:cNvGrpSpPr/>
                <p:nvPr/>
              </p:nvGrpSpPr>
              <p:grpSpPr>
                <a:xfrm>
                  <a:off x="1239840" y="3322080"/>
                  <a:ext cx="1171440" cy="1415160"/>
                  <a:chOff x="1239840" y="3322080"/>
                  <a:chExt cx="1171440" cy="1415160"/>
                </a:xfrm>
              </p:grpSpPr>
              <p:sp>
                <p:nvSpPr>
                  <p:cNvPr id="819" name="Text Box 77"/>
                  <p:cNvSpPr/>
                  <p:nvPr/>
                </p:nvSpPr>
                <p:spPr>
                  <a:xfrm>
                    <a:off x="1239840" y="3901680"/>
                    <a:ext cx="609480" cy="11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tAR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Text Box 78"/>
                  <p:cNvSpPr/>
                  <p:nvPr/>
                </p:nvSpPr>
                <p:spPr>
                  <a:xfrm>
                    <a:off x="1420560" y="4505760"/>
                    <a:ext cx="990720" cy="231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1400" spc="-1" strike="noStrike">
                        <a:solidFill>
                          <a:srgbClr val="ff3300"/>
                        </a:solidFill>
                        <a:latin typeface="Arial"/>
                      </a:rPr>
                      <a:t>Anticodó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AutoShape 79"/>
                  <p:cNvSpPr/>
                  <p:nvPr/>
                </p:nvSpPr>
                <p:spPr>
                  <a:xfrm rot="5340000">
                    <a:off x="1920600" y="4307760"/>
                    <a:ext cx="114120" cy="335880"/>
                  </a:xfrm>
                  <a:custGeom>
                    <a:avLst/>
                    <a:gdLst>
                      <a:gd name="textAreaLeft" fmla="*/ 0 w 114120"/>
                      <a:gd name="textAreaRight" fmla="*/ 80280 w 114120"/>
                      <a:gd name="textAreaTop" fmla="*/ 20880 h 335880"/>
                      <a:gd name="textAreaBottom" fmla="*/ 315000 h 335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cubicBezTo>
                          <a:pt x="10800" y="0"/>
                          <a:pt x="21600" y="1350"/>
                          <a:pt x="21600" y="2700"/>
                        </a:cubicBezTo>
                        <a:lnTo>
                          <a:pt x="21600" y="18900"/>
                        </a:lnTo>
                        <a:cubicBezTo>
                          <a:pt x="21600" y="20250"/>
                          <a:pt x="10800" y="21600"/>
                          <a:pt x="0" y="2160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22" name="Group 80"/>
                  <p:cNvGrpSpPr/>
                  <p:nvPr/>
                </p:nvGrpSpPr>
                <p:grpSpPr>
                  <a:xfrm>
                    <a:off x="1573200" y="3322080"/>
                    <a:ext cx="755280" cy="1176120"/>
                    <a:chOff x="1573200" y="3322080"/>
                    <a:chExt cx="755280" cy="1176120"/>
                  </a:xfrm>
                </p:grpSpPr>
                <p:grpSp>
                  <p:nvGrpSpPr>
                    <p:cNvPr id="823" name="Group 81"/>
                    <p:cNvGrpSpPr/>
                    <p:nvPr/>
                  </p:nvGrpSpPr>
                  <p:grpSpPr>
                    <a:xfrm>
                      <a:off x="1573200" y="3322080"/>
                      <a:ext cx="755280" cy="1176120"/>
                      <a:chOff x="1573200" y="3322080"/>
                      <a:chExt cx="755280" cy="1176120"/>
                    </a:xfrm>
                  </p:grpSpPr>
                  <p:grpSp>
                    <p:nvGrpSpPr>
                      <p:cNvPr id="824" name="Group 82"/>
                      <p:cNvGrpSpPr/>
                      <p:nvPr/>
                    </p:nvGrpSpPr>
                    <p:grpSpPr>
                      <a:xfrm>
                        <a:off x="1573200" y="3598560"/>
                        <a:ext cx="755280" cy="899640"/>
                        <a:chOff x="1573200" y="3598560"/>
                        <a:chExt cx="755280" cy="899640"/>
                      </a:xfrm>
                    </p:grpSpPr>
                    <p:grpSp>
                      <p:nvGrpSpPr>
                        <p:cNvPr id="825" name="Group 83"/>
                        <p:cNvGrpSpPr/>
                        <p:nvPr/>
                      </p:nvGrpSpPr>
                      <p:grpSpPr>
                        <a:xfrm>
                          <a:off x="1878840" y="4353480"/>
                          <a:ext cx="194400" cy="144720"/>
                          <a:chOff x="1878840" y="4353480"/>
                          <a:chExt cx="194400" cy="144720"/>
                        </a:xfrm>
                      </p:grpSpPr>
                      <p:sp>
                        <p:nvSpPr>
                          <p:cNvPr id="826" name="Line 84"/>
                          <p:cNvSpPr/>
                          <p:nvPr/>
                        </p:nvSpPr>
                        <p:spPr>
                          <a:xfrm flipH="1">
                            <a:off x="1878840" y="4358520"/>
                            <a:ext cx="4320" cy="13752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27" name="Line 85"/>
                          <p:cNvSpPr/>
                          <p:nvPr/>
                        </p:nvSpPr>
                        <p:spPr>
                          <a:xfrm flipH="1">
                            <a:off x="1970640" y="4361040"/>
                            <a:ext cx="360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28" name="Line 86"/>
                          <p:cNvSpPr/>
                          <p:nvPr/>
                        </p:nvSpPr>
                        <p:spPr>
                          <a:xfrm flipH="1">
                            <a:off x="2069280" y="4353480"/>
                            <a:ext cx="396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829" name="Freeform 87"/>
                        <p:cNvSpPr/>
                        <p:nvPr/>
                      </p:nvSpPr>
                      <p:spPr>
                        <a:xfrm rot="3659400">
                          <a:off x="1601280" y="3781440"/>
                          <a:ext cx="698760" cy="476280"/>
                        </a:xfrm>
                        <a:custGeom>
                          <a:avLst/>
                          <a:gdLst>
                            <a:gd name="textAreaLeft" fmla="*/ 0 w 698760"/>
                            <a:gd name="textAreaRight" fmla="*/ 699120 w 698760"/>
                            <a:gd name="textAreaTop" fmla="*/ 0 h 476280"/>
                            <a:gd name="textAreaBottom" fmla="*/ 476640 h 476280"/>
                          </a:gdLst>
                          <a:ahLst/>
                          <a:rect l="textAreaLeft" t="textAreaTop" r="textAreaRight" b="textAreaBottom"/>
                          <a:pathLst>
                            <a:path w="1400" h="1110">
                              <a:moveTo>
                                <a:pt x="140" y="390"/>
                              </a:moveTo>
                              <a:cubicBezTo>
                                <a:pt x="210" y="480"/>
                                <a:pt x="280" y="570"/>
                                <a:pt x="380" y="570"/>
                              </a:cubicBezTo>
                              <a:cubicBezTo>
                                <a:pt x="480" y="570"/>
                                <a:pt x="620" y="420"/>
                                <a:pt x="740" y="390"/>
                              </a:cubicBezTo>
                              <a:cubicBezTo>
                                <a:pt x="860" y="360"/>
                                <a:pt x="1000" y="360"/>
                                <a:pt x="1100" y="390"/>
                              </a:cubicBezTo>
                              <a:cubicBezTo>
                                <a:pt x="1200" y="420"/>
                                <a:pt x="1300" y="480"/>
                                <a:pt x="1340" y="570"/>
                              </a:cubicBezTo>
                              <a:cubicBezTo>
                                <a:pt x="1380" y="660"/>
                                <a:pt x="1400" y="840"/>
                                <a:pt x="1340" y="930"/>
                              </a:cubicBezTo>
                              <a:cubicBezTo>
                                <a:pt x="1280" y="1020"/>
                                <a:pt x="1100" y="1110"/>
                                <a:pt x="980" y="1110"/>
                              </a:cubicBezTo>
                              <a:cubicBezTo>
                                <a:pt x="860" y="1110"/>
                                <a:pt x="700" y="990"/>
                                <a:pt x="620" y="930"/>
                              </a:cubicBezTo>
                              <a:cubicBezTo>
                                <a:pt x="540" y="870"/>
                                <a:pt x="540" y="840"/>
                                <a:pt x="500" y="750"/>
                              </a:cubicBezTo>
                              <a:cubicBezTo>
                                <a:pt x="460" y="660"/>
                                <a:pt x="400" y="480"/>
                                <a:pt x="380" y="390"/>
                              </a:cubicBezTo>
                              <a:cubicBezTo>
                                <a:pt x="360" y="300"/>
                                <a:pt x="400" y="270"/>
                                <a:pt x="380" y="210"/>
                              </a:cubicBezTo>
                              <a:cubicBezTo>
                                <a:pt x="360" y="150"/>
                                <a:pt x="320" y="60"/>
                                <a:pt x="260" y="30"/>
                              </a:cubicBezTo>
                              <a:cubicBezTo>
                                <a:pt x="200" y="0"/>
                                <a:pt x="40" y="30"/>
                                <a:pt x="20" y="30"/>
                              </a:cubicBezTo>
                              <a:cubicBezTo>
                                <a:pt x="0" y="30"/>
                                <a:pt x="70" y="30"/>
                                <a:pt x="140" y="30"/>
                              </a:cubicBezTo>
                            </a:path>
                          </a:pathLst>
                        </a:custGeom>
                        <a:noFill/>
                        <a:ln w="507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30" name="Oval 88"/>
                      <p:cNvSpPr/>
                      <p:nvPr/>
                    </p:nvSpPr>
                    <p:spPr>
                      <a:xfrm rot="1331400">
                        <a:off x="1636560" y="3385440"/>
                        <a:ext cx="380880" cy="22824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831" name="Text Box 89"/>
                    <p:cNvSpPr/>
                    <p:nvPr/>
                  </p:nvSpPr>
                  <p:spPr>
                    <a:xfrm>
                      <a:off x="1696680" y="3444840"/>
                      <a:ext cx="304920" cy="114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Me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2" name="Text Box 90"/>
                    <p:cNvSpPr/>
                    <p:nvPr/>
                  </p:nvSpPr>
                  <p:spPr>
                    <a:xfrm>
                      <a:off x="1803240" y="4130640"/>
                      <a:ext cx="339120" cy="223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A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33" name="Group 91"/>
                <p:cNvGrpSpPr/>
                <p:nvPr/>
              </p:nvGrpSpPr>
              <p:grpSpPr>
                <a:xfrm>
                  <a:off x="2852640" y="3562200"/>
                  <a:ext cx="457200" cy="571320"/>
                  <a:chOff x="2852640" y="3562200"/>
                  <a:chExt cx="457200" cy="571320"/>
                </a:xfrm>
              </p:grpSpPr>
              <p:grpSp>
                <p:nvGrpSpPr>
                  <p:cNvPr id="834" name="Group 92"/>
                  <p:cNvGrpSpPr/>
                  <p:nvPr/>
                </p:nvGrpSpPr>
                <p:grpSpPr>
                  <a:xfrm>
                    <a:off x="2852640" y="3562200"/>
                    <a:ext cx="380880" cy="342720"/>
                    <a:chOff x="2852640" y="3562200"/>
                    <a:chExt cx="380880" cy="342720"/>
                  </a:xfrm>
                </p:grpSpPr>
                <p:sp>
                  <p:nvSpPr>
                    <p:cNvPr id="835" name="Oval 93"/>
                    <p:cNvSpPr/>
                    <p:nvPr/>
                  </p:nvSpPr>
                  <p:spPr>
                    <a:xfrm>
                      <a:off x="2852640" y="3562200"/>
                      <a:ext cx="380880" cy="34272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6" name="Text Box 94"/>
                    <p:cNvSpPr/>
                    <p:nvPr/>
                  </p:nvSpPr>
                  <p:spPr>
                    <a:xfrm>
                      <a:off x="2928600" y="3676320"/>
                      <a:ext cx="304560" cy="114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-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37" name="Line 95"/>
                  <p:cNvSpPr/>
                  <p:nvPr/>
                </p:nvSpPr>
                <p:spPr>
                  <a:xfrm>
                    <a:off x="3081240" y="3904920"/>
                    <a:ext cx="0" cy="114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8" name="Text Box 96"/>
                  <p:cNvSpPr/>
                  <p:nvPr/>
                </p:nvSpPr>
                <p:spPr>
                  <a:xfrm>
                    <a:off x="2852640" y="4019400"/>
                    <a:ext cx="457200" cy="11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GTP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9" name="Group 97"/>
                <p:cNvGrpSpPr/>
                <p:nvPr/>
              </p:nvGrpSpPr>
              <p:grpSpPr>
                <a:xfrm>
                  <a:off x="2223000" y="3676680"/>
                  <a:ext cx="721800" cy="1148760"/>
                  <a:chOff x="2223000" y="3676680"/>
                  <a:chExt cx="721800" cy="1148760"/>
                </a:xfrm>
              </p:grpSpPr>
              <p:grpSp>
                <p:nvGrpSpPr>
                  <p:cNvPr id="840" name="Group 98"/>
                  <p:cNvGrpSpPr/>
                  <p:nvPr/>
                </p:nvGrpSpPr>
                <p:grpSpPr>
                  <a:xfrm>
                    <a:off x="2223000" y="3676680"/>
                    <a:ext cx="344160" cy="1148760"/>
                    <a:chOff x="2223000" y="3676680"/>
                    <a:chExt cx="344160" cy="1148760"/>
                  </a:xfrm>
                </p:grpSpPr>
                <p:sp>
                  <p:nvSpPr>
                    <p:cNvPr id="841" name="Arc 99"/>
                    <p:cNvSpPr/>
                    <p:nvPr/>
                  </p:nvSpPr>
                  <p:spPr>
                    <a:xfrm flipV="1" rot="16349400">
                      <a:off x="1929960" y="4201560"/>
                      <a:ext cx="929520" cy="3042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-360 h 304200"/>
                        <a:gd name="textAreaBottom" fmla="*/ 304200 h 304200"/>
                      </a:gdLst>
                      <a:ahLst/>
                      <a:rect l="textAreaLeft" t="textAreaTop" r="textAreaRight" b="textAreaBottom"/>
                      <a:pathLst>
                        <a:path fill="none" w="21600" h="17104">
                          <a:moveTo>
                            <a:pt x="13191" y="0"/>
                          </a:moveTo>
                          <a:cubicBezTo>
                            <a:pt x="18494" y="4089"/>
                            <a:pt x="21600" y="10407"/>
                            <a:pt x="21600" y="17104"/>
                          </a:cubicBezTo>
                        </a:path>
                        <a:path stroke="0" w="21600" h="17104">
                          <a:moveTo>
                            <a:pt x="13191" y="0"/>
                          </a:moveTo>
                          <a:cubicBezTo>
                            <a:pt x="18494" y="4089"/>
                            <a:pt x="21600" y="10407"/>
                            <a:pt x="21600" y="17104"/>
                          </a:cubicBezTo>
                          <a:lnTo>
                            <a:pt x="0" y="17104"/>
                          </a:lnTo>
                          <a:lnTo>
                            <a:pt x="13191" y="0"/>
                          </a:lnTo>
                          <a:close/>
                        </a:path>
                      </a:pathLst>
                    </a:custGeom>
                    <a:noFill/>
                    <a:ln w="158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2" name="Line 100"/>
                    <p:cNvSpPr/>
                    <p:nvPr/>
                  </p:nvSpPr>
                  <p:spPr>
                    <a:xfrm>
                      <a:off x="2548080" y="3676680"/>
                      <a:ext cx="0" cy="9496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43" name="Arc 101"/>
                  <p:cNvSpPr/>
                  <p:nvPr/>
                </p:nvSpPr>
                <p:spPr>
                  <a:xfrm flipH="1" flipV="1" rot="4257600">
                    <a:off x="2388600" y="4216320"/>
                    <a:ext cx="621360" cy="304200"/>
                  </a:xfrm>
                  <a:custGeom>
                    <a:avLst/>
                    <a:gdLst>
                      <a:gd name="textAreaLeft" fmla="*/ 360 w 621360"/>
                      <a:gd name="textAreaRight" fmla="*/ 622080 w 621360"/>
                      <a:gd name="textAreaTop" fmla="*/ -360 h 304200"/>
                      <a:gd name="textAreaBottom" fmla="*/ 304200 h 304200"/>
                    </a:gdLst>
                    <a:ahLst/>
                    <a:rect l="textAreaLeft" t="textAreaTop" r="textAreaRight" b="textAreaBottom"/>
                    <a:pathLst>
                      <a:path fill="none" w="21600" h="17104">
                        <a:moveTo>
                          <a:pt x="13191" y="0"/>
                        </a:moveTo>
                        <a:cubicBezTo>
                          <a:pt x="18494" y="4089"/>
                          <a:pt x="21600" y="10407"/>
                          <a:pt x="21600" y="17104"/>
                        </a:cubicBezTo>
                      </a:path>
                      <a:path stroke="0" w="21600" h="17104">
                        <a:moveTo>
                          <a:pt x="13191" y="0"/>
                        </a:moveTo>
                        <a:cubicBezTo>
                          <a:pt x="18494" y="4089"/>
                          <a:pt x="21600" y="10407"/>
                          <a:pt x="21600" y="17104"/>
                        </a:cubicBezTo>
                        <a:lnTo>
                          <a:pt x="0" y="17104"/>
                        </a:lnTo>
                        <a:lnTo>
                          <a:pt x="13191" y="0"/>
                        </a:lnTo>
                        <a:close/>
                      </a:path>
                    </a:pathLst>
                  </a:custGeom>
                  <a:noFill/>
                  <a:ln w="158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4" name="Group 102"/>
                <p:cNvGrpSpPr/>
                <p:nvPr/>
              </p:nvGrpSpPr>
              <p:grpSpPr>
                <a:xfrm>
                  <a:off x="1481040" y="4633920"/>
                  <a:ext cx="2514600" cy="1813680"/>
                  <a:chOff x="1481040" y="4633920"/>
                  <a:chExt cx="2514600" cy="1813680"/>
                </a:xfrm>
              </p:grpSpPr>
              <p:grpSp>
                <p:nvGrpSpPr>
                  <p:cNvPr id="845" name="Group 103"/>
                  <p:cNvGrpSpPr/>
                  <p:nvPr/>
                </p:nvGrpSpPr>
                <p:grpSpPr>
                  <a:xfrm>
                    <a:off x="1481040" y="4633920"/>
                    <a:ext cx="2514600" cy="1813680"/>
                    <a:chOff x="1481040" y="4633920"/>
                    <a:chExt cx="2514600" cy="1813680"/>
                  </a:xfrm>
                </p:grpSpPr>
                <p:grpSp>
                  <p:nvGrpSpPr>
                    <p:cNvPr id="846" name="Group 104"/>
                    <p:cNvGrpSpPr/>
                    <p:nvPr/>
                  </p:nvGrpSpPr>
                  <p:grpSpPr>
                    <a:xfrm>
                      <a:off x="1481040" y="5825160"/>
                      <a:ext cx="2514600" cy="622440"/>
                      <a:chOff x="1481040" y="5825160"/>
                      <a:chExt cx="2514600" cy="622440"/>
                    </a:xfrm>
                  </p:grpSpPr>
                  <p:sp>
                    <p:nvSpPr>
                      <p:cNvPr id="847" name="Oval 105"/>
                      <p:cNvSpPr/>
                      <p:nvPr/>
                    </p:nvSpPr>
                    <p:spPr>
                      <a:xfrm rot="21459600">
                        <a:off x="2090160" y="5968440"/>
                        <a:ext cx="1371600" cy="45108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767676"/>
                          </a:gs>
                        </a:gsLst>
                        <a:lin ang="5538000"/>
                      </a:gra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48" name="Group 106"/>
                      <p:cNvGrpSpPr/>
                      <p:nvPr/>
                    </p:nvGrpSpPr>
                    <p:grpSpPr>
                      <a:xfrm>
                        <a:off x="2471400" y="5995800"/>
                        <a:ext cx="380880" cy="343080"/>
                        <a:chOff x="2471400" y="5995800"/>
                        <a:chExt cx="380880" cy="343080"/>
                      </a:xfrm>
                    </p:grpSpPr>
                    <p:sp>
                      <p:nvSpPr>
                        <p:cNvPr id="849" name="AutoShape 107"/>
                        <p:cNvSpPr/>
                        <p:nvPr/>
                      </p:nvSpPr>
                      <p:spPr>
                        <a:xfrm>
                          <a:off x="2471400" y="5995800"/>
                          <a:ext cx="380880" cy="343080"/>
                        </a:xfrm>
                        <a:prstGeom prst="roundRect">
                          <a:avLst>
                            <a:gd name="adj" fmla="val 16667"/>
                          </a:avLst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prstDash val="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0" name="Text Box 108"/>
                        <p:cNvSpPr/>
                        <p:nvPr/>
                      </p:nvSpPr>
                      <p:spPr>
                        <a:xfrm>
                          <a:off x="2509560" y="6109920"/>
                          <a:ext cx="342720" cy="2037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P</a:t>
                          </a:r>
                          <a:endParaRPr b="0" lang="en-US" sz="12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851" name="Group 109"/>
                      <p:cNvGrpSpPr/>
                      <p:nvPr/>
                    </p:nvGrpSpPr>
                    <p:grpSpPr>
                      <a:xfrm>
                        <a:off x="2928960" y="6076800"/>
                        <a:ext cx="304560" cy="228600"/>
                        <a:chOff x="2928960" y="6076800"/>
                        <a:chExt cx="304560" cy="228600"/>
                      </a:xfrm>
                    </p:grpSpPr>
                    <p:sp>
                      <p:nvSpPr>
                        <p:cNvPr id="852" name="AutoShape 110"/>
                        <p:cNvSpPr/>
                        <p:nvPr/>
                      </p:nvSpPr>
                      <p:spPr>
                        <a:xfrm>
                          <a:off x="2928960" y="6076800"/>
                          <a:ext cx="304560" cy="228600"/>
                        </a:xfrm>
                        <a:prstGeom prst="roundRect">
                          <a:avLst>
                            <a:gd name="adj" fmla="val 16667"/>
                          </a:avLst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prstDash val="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3" name="Text Box 111"/>
                        <p:cNvSpPr/>
                        <p:nvPr/>
                      </p:nvSpPr>
                      <p:spPr>
                        <a:xfrm>
                          <a:off x="2959200" y="6152760"/>
                          <a:ext cx="273960" cy="135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A</a:t>
                          </a:r>
                          <a:endParaRPr b="0" lang="en-US" sz="12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54" name="Oval 112"/>
                      <p:cNvSpPr/>
                      <p:nvPr/>
                    </p:nvSpPr>
                    <p:spPr>
                      <a:xfrm>
                        <a:off x="2014200" y="6076800"/>
                        <a:ext cx="380880" cy="34308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55" name="Text Box 113"/>
                      <p:cNvSpPr/>
                      <p:nvPr/>
                    </p:nvSpPr>
                    <p:spPr>
                      <a:xfrm>
                        <a:off x="2090520" y="6190920"/>
                        <a:ext cx="304560" cy="114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IF-3</a:t>
                        </a:r>
                        <a:endParaRPr b="0" lang="en-US" sz="12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56" name="Oval 114"/>
                      <p:cNvSpPr/>
                      <p:nvPr/>
                    </p:nvSpPr>
                    <p:spPr>
                      <a:xfrm>
                        <a:off x="2928960" y="5962320"/>
                        <a:ext cx="380880" cy="34308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57" name="Text Box 115"/>
                      <p:cNvSpPr/>
                      <p:nvPr/>
                    </p:nvSpPr>
                    <p:spPr>
                      <a:xfrm>
                        <a:off x="3004920" y="6076800"/>
                        <a:ext cx="304560" cy="114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IF-1</a:t>
                        </a:r>
                        <a:endParaRPr b="0" lang="en-US" sz="12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58" name="Text Box 116"/>
                      <p:cNvSpPr/>
                      <p:nvPr/>
                    </p:nvSpPr>
                    <p:spPr>
                      <a:xfrm>
                        <a:off x="3691080" y="5899320"/>
                        <a:ext cx="304560" cy="118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3’</a:t>
                        </a:r>
                        <a:endParaRPr b="0" lang="en-US" sz="9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59" name="Text Box 117"/>
                      <p:cNvSpPr/>
                      <p:nvPr/>
                    </p:nvSpPr>
                    <p:spPr>
                      <a:xfrm>
                        <a:off x="1481040" y="5899320"/>
                        <a:ext cx="304560" cy="118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5’</a:t>
                        </a:r>
                        <a:endParaRPr b="0" lang="en-US" sz="9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0" name="Text Box 118"/>
                      <p:cNvSpPr/>
                      <p:nvPr/>
                    </p:nvSpPr>
                    <p:spPr>
                      <a:xfrm>
                        <a:off x="2456280" y="6013800"/>
                        <a:ext cx="457200" cy="114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AUG</a:t>
                        </a:r>
                        <a:endParaRPr b="0" lang="en-US" sz="12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61" name="Group 119"/>
                      <p:cNvGrpSpPr/>
                      <p:nvPr/>
                    </p:nvGrpSpPr>
                    <p:grpSpPr>
                      <a:xfrm>
                        <a:off x="1709280" y="5825160"/>
                        <a:ext cx="2057400" cy="153720"/>
                        <a:chOff x="1709280" y="5825160"/>
                        <a:chExt cx="2057400" cy="153720"/>
                      </a:xfrm>
                    </p:grpSpPr>
                    <p:grpSp>
                      <p:nvGrpSpPr>
                        <p:cNvPr id="862" name="Group 120"/>
                        <p:cNvGrpSpPr/>
                        <p:nvPr/>
                      </p:nvGrpSpPr>
                      <p:grpSpPr>
                        <a:xfrm>
                          <a:off x="1803960" y="5826240"/>
                          <a:ext cx="191160" cy="146880"/>
                          <a:chOff x="1803960" y="5826240"/>
                          <a:chExt cx="191160" cy="146880"/>
                        </a:xfrm>
                      </p:grpSpPr>
                      <p:sp>
                        <p:nvSpPr>
                          <p:cNvPr id="863" name="Line 121"/>
                          <p:cNvSpPr/>
                          <p:nvPr/>
                        </p:nvSpPr>
                        <p:spPr>
                          <a:xfrm flipH="1">
                            <a:off x="1803960" y="5835240"/>
                            <a:ext cx="1440" cy="13752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64" name="Line 122"/>
                          <p:cNvSpPr/>
                          <p:nvPr/>
                        </p:nvSpPr>
                        <p:spPr>
                          <a:xfrm flipH="1">
                            <a:off x="1895400" y="5835960"/>
                            <a:ext cx="108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65" name="Line 123"/>
                          <p:cNvSpPr/>
                          <p:nvPr/>
                        </p:nvSpPr>
                        <p:spPr>
                          <a:xfrm flipH="1">
                            <a:off x="1994040" y="5826240"/>
                            <a:ext cx="108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66" name="Group 124"/>
                        <p:cNvGrpSpPr/>
                        <p:nvPr/>
                      </p:nvGrpSpPr>
                      <p:grpSpPr>
                        <a:xfrm>
                          <a:off x="2185560" y="5825160"/>
                          <a:ext cx="190080" cy="148320"/>
                          <a:chOff x="2185560" y="5825160"/>
                          <a:chExt cx="190080" cy="148320"/>
                        </a:xfrm>
                      </p:grpSpPr>
                      <p:sp>
                        <p:nvSpPr>
                          <p:cNvPr id="867" name="Line 125"/>
                          <p:cNvSpPr/>
                          <p:nvPr/>
                        </p:nvSpPr>
                        <p:spPr>
                          <a:xfrm>
                            <a:off x="2185560" y="5836320"/>
                            <a:ext cx="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68" name="Line 126"/>
                          <p:cNvSpPr/>
                          <p:nvPr/>
                        </p:nvSpPr>
                        <p:spPr>
                          <a:xfrm>
                            <a:off x="2277000" y="5835960"/>
                            <a:ext cx="36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69" name="Line 127"/>
                          <p:cNvSpPr/>
                          <p:nvPr/>
                        </p:nvSpPr>
                        <p:spPr>
                          <a:xfrm>
                            <a:off x="2375640" y="5825160"/>
                            <a:ext cx="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70" name="Group 128"/>
                        <p:cNvGrpSpPr/>
                        <p:nvPr/>
                      </p:nvGrpSpPr>
                      <p:grpSpPr>
                        <a:xfrm>
                          <a:off x="2565360" y="5826600"/>
                          <a:ext cx="191880" cy="146520"/>
                          <a:chOff x="2565360" y="5826600"/>
                          <a:chExt cx="191880" cy="146520"/>
                        </a:xfrm>
                      </p:grpSpPr>
                      <p:sp>
                        <p:nvSpPr>
                          <p:cNvPr id="871" name="Line 129"/>
                          <p:cNvSpPr/>
                          <p:nvPr/>
                        </p:nvSpPr>
                        <p:spPr>
                          <a:xfrm flipH="1">
                            <a:off x="2565360" y="5834880"/>
                            <a:ext cx="1800" cy="13752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72" name="Line 130"/>
                          <p:cNvSpPr/>
                          <p:nvPr/>
                        </p:nvSpPr>
                        <p:spPr>
                          <a:xfrm flipH="1">
                            <a:off x="2657160" y="5835960"/>
                            <a:ext cx="144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73" name="Line 131"/>
                          <p:cNvSpPr/>
                          <p:nvPr/>
                        </p:nvSpPr>
                        <p:spPr>
                          <a:xfrm flipH="1">
                            <a:off x="2755800" y="5826600"/>
                            <a:ext cx="144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74" name="Group 132"/>
                        <p:cNvGrpSpPr/>
                        <p:nvPr/>
                      </p:nvGrpSpPr>
                      <p:grpSpPr>
                        <a:xfrm>
                          <a:off x="2945520" y="5828040"/>
                          <a:ext cx="194040" cy="145080"/>
                          <a:chOff x="2945520" y="5828040"/>
                          <a:chExt cx="194040" cy="145080"/>
                        </a:xfrm>
                      </p:grpSpPr>
                      <p:sp>
                        <p:nvSpPr>
                          <p:cNvPr id="875" name="Line 133"/>
                          <p:cNvSpPr/>
                          <p:nvPr/>
                        </p:nvSpPr>
                        <p:spPr>
                          <a:xfrm flipH="1">
                            <a:off x="2945520" y="5833440"/>
                            <a:ext cx="3960" cy="13752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76" name="Line 134"/>
                          <p:cNvSpPr/>
                          <p:nvPr/>
                        </p:nvSpPr>
                        <p:spPr>
                          <a:xfrm flipH="1">
                            <a:off x="3037320" y="5835960"/>
                            <a:ext cx="360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77" name="Line 135"/>
                          <p:cNvSpPr/>
                          <p:nvPr/>
                        </p:nvSpPr>
                        <p:spPr>
                          <a:xfrm flipH="1">
                            <a:off x="3135960" y="5828040"/>
                            <a:ext cx="360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878" name="Line 136"/>
                        <p:cNvSpPr/>
                        <p:nvPr/>
                      </p:nvSpPr>
                      <p:spPr>
                        <a:xfrm>
                          <a:off x="1709280" y="5978880"/>
                          <a:ext cx="2057400" cy="0"/>
                        </a:xfrm>
                        <a:prstGeom prst="line">
                          <a:avLst/>
                        </a:prstGeom>
                        <a:ln w="4752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879" name="Group 137"/>
                        <p:cNvGrpSpPr/>
                        <p:nvPr/>
                      </p:nvGrpSpPr>
                      <p:grpSpPr>
                        <a:xfrm>
                          <a:off x="3326400" y="5828040"/>
                          <a:ext cx="194040" cy="144720"/>
                          <a:chOff x="3326400" y="5828040"/>
                          <a:chExt cx="194040" cy="144720"/>
                        </a:xfrm>
                      </p:grpSpPr>
                      <p:sp>
                        <p:nvSpPr>
                          <p:cNvPr id="880" name="Line 138"/>
                          <p:cNvSpPr/>
                          <p:nvPr/>
                        </p:nvSpPr>
                        <p:spPr>
                          <a:xfrm flipH="1">
                            <a:off x="3326400" y="5833440"/>
                            <a:ext cx="3960" cy="13752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81" name="Line 139"/>
                          <p:cNvSpPr/>
                          <p:nvPr/>
                        </p:nvSpPr>
                        <p:spPr>
                          <a:xfrm flipH="1">
                            <a:off x="3417840" y="5835960"/>
                            <a:ext cx="3960" cy="13680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82" name="Line 140"/>
                          <p:cNvSpPr/>
                          <p:nvPr/>
                        </p:nvSpPr>
                        <p:spPr>
                          <a:xfrm flipH="1">
                            <a:off x="3516840" y="5828040"/>
                            <a:ext cx="360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883" name="Group 141"/>
                    <p:cNvGrpSpPr/>
                    <p:nvPr/>
                  </p:nvGrpSpPr>
                  <p:grpSpPr>
                    <a:xfrm>
                      <a:off x="2776320" y="5442120"/>
                      <a:ext cx="380880" cy="342720"/>
                      <a:chOff x="2776320" y="5442120"/>
                      <a:chExt cx="380880" cy="342720"/>
                    </a:xfrm>
                  </p:grpSpPr>
                  <p:sp>
                    <p:nvSpPr>
                      <p:cNvPr id="884" name="Oval 142"/>
                      <p:cNvSpPr/>
                      <p:nvPr/>
                    </p:nvSpPr>
                    <p:spPr>
                      <a:xfrm>
                        <a:off x="2776320" y="5442120"/>
                        <a:ext cx="380880" cy="34272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85" name="Text Box 143"/>
                      <p:cNvSpPr/>
                      <p:nvPr/>
                    </p:nvSpPr>
                    <p:spPr>
                      <a:xfrm>
                        <a:off x="2852280" y="5556240"/>
                        <a:ext cx="304560" cy="114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IF-2</a:t>
                        </a:r>
                        <a:endParaRPr b="0" lang="en-US" sz="12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86" name="Group 144"/>
                    <p:cNvGrpSpPr/>
                    <p:nvPr/>
                  </p:nvGrpSpPr>
                  <p:grpSpPr>
                    <a:xfrm>
                      <a:off x="2271960" y="4633920"/>
                      <a:ext cx="755280" cy="1176120"/>
                      <a:chOff x="2271960" y="4633920"/>
                      <a:chExt cx="755280" cy="1176120"/>
                    </a:xfrm>
                  </p:grpSpPr>
                  <p:grpSp>
                    <p:nvGrpSpPr>
                      <p:cNvPr id="887" name="Group 145"/>
                      <p:cNvGrpSpPr/>
                      <p:nvPr/>
                    </p:nvGrpSpPr>
                    <p:grpSpPr>
                      <a:xfrm>
                        <a:off x="2271960" y="4633920"/>
                        <a:ext cx="755280" cy="1176120"/>
                        <a:chOff x="2271960" y="4633920"/>
                        <a:chExt cx="755280" cy="1176120"/>
                      </a:xfrm>
                    </p:grpSpPr>
                    <p:grpSp>
                      <p:nvGrpSpPr>
                        <p:cNvPr id="888" name="Group 146"/>
                        <p:cNvGrpSpPr/>
                        <p:nvPr/>
                      </p:nvGrpSpPr>
                      <p:grpSpPr>
                        <a:xfrm>
                          <a:off x="2271960" y="4910040"/>
                          <a:ext cx="755280" cy="900000"/>
                          <a:chOff x="2271960" y="4910040"/>
                          <a:chExt cx="755280" cy="900000"/>
                        </a:xfrm>
                      </p:grpSpPr>
                      <p:grpSp>
                        <p:nvGrpSpPr>
                          <p:cNvPr id="889" name="Group 147"/>
                          <p:cNvGrpSpPr/>
                          <p:nvPr/>
                        </p:nvGrpSpPr>
                        <p:grpSpPr>
                          <a:xfrm>
                            <a:off x="2577600" y="5665320"/>
                            <a:ext cx="194760" cy="144720"/>
                            <a:chOff x="2577600" y="5665320"/>
                            <a:chExt cx="194760" cy="144720"/>
                          </a:xfrm>
                        </p:grpSpPr>
                        <p:sp>
                          <p:nvSpPr>
                            <p:cNvPr id="890" name="Line 148"/>
                            <p:cNvSpPr/>
                            <p:nvPr/>
                          </p:nvSpPr>
                          <p:spPr>
                            <a:xfrm flipH="1">
                              <a:off x="2577600" y="5670360"/>
                              <a:ext cx="4320" cy="137160"/>
                            </a:xfrm>
                            <a:prstGeom prst="line">
                              <a:avLst/>
                            </a:prstGeom>
                            <a:ln w="507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91" name="Line 149"/>
                            <p:cNvSpPr/>
                            <p:nvPr/>
                          </p:nvSpPr>
                          <p:spPr>
                            <a:xfrm flipH="1">
                              <a:off x="2669760" y="5672880"/>
                              <a:ext cx="3600" cy="137160"/>
                            </a:xfrm>
                            <a:prstGeom prst="line">
                              <a:avLst/>
                            </a:prstGeom>
                            <a:ln w="507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92" name="Line 150"/>
                            <p:cNvSpPr/>
                            <p:nvPr/>
                          </p:nvSpPr>
                          <p:spPr>
                            <a:xfrm flipH="1">
                              <a:off x="2768040" y="5665320"/>
                              <a:ext cx="4320" cy="136800"/>
                            </a:xfrm>
                            <a:prstGeom prst="line">
                              <a:avLst/>
                            </a:prstGeom>
                            <a:ln w="507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893" name="Freeform 151"/>
                          <p:cNvSpPr/>
                          <p:nvPr/>
                        </p:nvSpPr>
                        <p:spPr>
                          <a:xfrm rot="3659400">
                            <a:off x="2300040" y="5092560"/>
                            <a:ext cx="698400" cy="476280"/>
                          </a:xfrm>
                          <a:custGeom>
                            <a:avLst/>
                            <a:gdLst>
                              <a:gd name="textAreaLeft" fmla="*/ 0 w 698400"/>
                              <a:gd name="textAreaRight" fmla="*/ 698400 w 698400"/>
                              <a:gd name="textAreaTop" fmla="*/ 0 h 476280"/>
                              <a:gd name="textAreaBottom" fmla="*/ 476640 h 476280"/>
                            </a:gdLst>
                            <a:ahLst/>
                            <a:rect l="textAreaLeft" t="textAreaTop" r="textAreaRight" b="textAreaBottom"/>
                            <a:pathLst>
                              <a:path w="1400" h="1110">
                                <a:moveTo>
                                  <a:pt x="140" y="390"/>
                                </a:moveTo>
                                <a:cubicBezTo>
                                  <a:pt x="210" y="480"/>
                                  <a:pt x="280" y="570"/>
                                  <a:pt x="380" y="570"/>
                                </a:cubicBezTo>
                                <a:cubicBezTo>
                                  <a:pt x="480" y="570"/>
                                  <a:pt x="620" y="420"/>
                                  <a:pt x="740" y="390"/>
                                </a:cubicBezTo>
                                <a:cubicBezTo>
                                  <a:pt x="860" y="360"/>
                                  <a:pt x="1000" y="360"/>
                                  <a:pt x="1100" y="390"/>
                                </a:cubicBezTo>
                                <a:cubicBezTo>
                                  <a:pt x="1200" y="420"/>
                                  <a:pt x="1300" y="480"/>
                                  <a:pt x="1340" y="570"/>
                                </a:cubicBezTo>
                                <a:cubicBezTo>
                                  <a:pt x="1380" y="660"/>
                                  <a:pt x="1400" y="840"/>
                                  <a:pt x="1340" y="930"/>
                                </a:cubicBezTo>
                                <a:cubicBezTo>
                                  <a:pt x="1280" y="1020"/>
                                  <a:pt x="1100" y="1110"/>
                                  <a:pt x="980" y="1110"/>
                                </a:cubicBezTo>
                                <a:cubicBezTo>
                                  <a:pt x="860" y="1110"/>
                                  <a:pt x="700" y="990"/>
                                  <a:pt x="620" y="930"/>
                                </a:cubicBezTo>
                                <a:cubicBezTo>
                                  <a:pt x="540" y="870"/>
                                  <a:pt x="540" y="840"/>
                                  <a:pt x="500" y="750"/>
                                </a:cubicBezTo>
                                <a:cubicBezTo>
                                  <a:pt x="460" y="660"/>
                                  <a:pt x="400" y="480"/>
                                  <a:pt x="380" y="390"/>
                                </a:cubicBezTo>
                                <a:cubicBezTo>
                                  <a:pt x="360" y="300"/>
                                  <a:pt x="400" y="270"/>
                                  <a:pt x="380" y="210"/>
                                </a:cubicBezTo>
                                <a:cubicBezTo>
                                  <a:pt x="360" y="150"/>
                                  <a:pt x="320" y="60"/>
                                  <a:pt x="260" y="30"/>
                                </a:cubicBezTo>
                                <a:cubicBezTo>
                                  <a:pt x="200" y="0"/>
                                  <a:pt x="40" y="30"/>
                                  <a:pt x="20" y="30"/>
                                </a:cubicBezTo>
                                <a:cubicBezTo>
                                  <a:pt x="0" y="30"/>
                                  <a:pt x="70" y="30"/>
                                  <a:pt x="140" y="30"/>
                                </a:cubicBezTo>
                              </a:path>
                            </a:pathLst>
                          </a:custGeom>
                          <a:noFill/>
                          <a:ln w="507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894" name="Oval 152"/>
                        <p:cNvSpPr/>
                        <p:nvPr/>
                      </p:nvSpPr>
                      <p:spPr>
                        <a:xfrm rot="1331400">
                          <a:off x="2334960" y="4697280"/>
                          <a:ext cx="380880" cy="228600"/>
                        </a:xfrm>
                        <a:prstGeom prst="ellipse">
                          <a:avLst/>
                        </a:prstGeom>
                        <a:solidFill>
                          <a:srgbClr val="c0c0c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95" name="Text Box 153"/>
                      <p:cNvSpPr/>
                      <p:nvPr/>
                    </p:nvSpPr>
                    <p:spPr>
                      <a:xfrm>
                        <a:off x="2395080" y="4756320"/>
                        <a:ext cx="304560" cy="114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fMet</a:t>
                        </a:r>
                        <a:endParaRPr b="0" lang="en-US" sz="9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96" name="Text Box 154"/>
                      <p:cNvSpPr/>
                      <p:nvPr/>
                    </p:nvSpPr>
                    <p:spPr>
                      <a:xfrm>
                        <a:off x="2502000" y="5442120"/>
                        <a:ext cx="354960" cy="200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1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UAC</a:t>
                        </a:r>
                        <a:endParaRPr b="0" lang="en-US" sz="11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897" name="Text Box 155"/>
                  <p:cNvSpPr/>
                  <p:nvPr/>
                </p:nvSpPr>
                <p:spPr>
                  <a:xfrm>
                    <a:off x="3157200" y="5556600"/>
                    <a:ext cx="457200" cy="11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GTP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" name="Line 156"/>
                  <p:cNvSpPr/>
                  <p:nvPr/>
                </p:nvSpPr>
                <p:spPr>
                  <a:xfrm>
                    <a:off x="3157200" y="5599800"/>
                    <a:ext cx="76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99" name="Line 157"/>
              <p:cNvSpPr/>
              <p:nvPr/>
            </p:nvSpPr>
            <p:spPr>
              <a:xfrm>
                <a:off x="3419640" y="314172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00" name="Text Box 158"/>
            <p:cNvSpPr/>
            <p:nvPr/>
          </p:nvSpPr>
          <p:spPr>
            <a:xfrm>
              <a:off x="1195920" y="3284640"/>
              <a:ext cx="554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Text Box 159"/>
            <p:cNvSpPr/>
            <p:nvPr/>
          </p:nvSpPr>
          <p:spPr>
            <a:xfrm>
              <a:off x="1929600" y="4637160"/>
              <a:ext cx="554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2" name="Group 160"/>
          <p:cNvGrpSpPr/>
          <p:nvPr/>
        </p:nvGrpSpPr>
        <p:grpSpPr>
          <a:xfrm>
            <a:off x="5113440" y="1484280"/>
            <a:ext cx="3888360" cy="4528080"/>
            <a:chOff x="5113440" y="1484280"/>
            <a:chExt cx="3888360" cy="4528080"/>
          </a:xfrm>
        </p:grpSpPr>
        <p:grpSp>
          <p:nvGrpSpPr>
            <p:cNvPr id="903" name="Group 161"/>
            <p:cNvGrpSpPr/>
            <p:nvPr/>
          </p:nvGrpSpPr>
          <p:grpSpPr>
            <a:xfrm>
              <a:off x="5113440" y="1484280"/>
              <a:ext cx="3888360" cy="4528080"/>
              <a:chOff x="5113440" y="1484280"/>
              <a:chExt cx="3888360" cy="4528080"/>
            </a:xfrm>
          </p:grpSpPr>
          <p:grpSp>
            <p:nvGrpSpPr>
              <p:cNvPr id="904" name="Group 162"/>
              <p:cNvGrpSpPr/>
              <p:nvPr/>
            </p:nvGrpSpPr>
            <p:grpSpPr>
              <a:xfrm>
                <a:off x="5113440" y="1506240"/>
                <a:ext cx="2625480" cy="4506120"/>
                <a:chOff x="5113440" y="1506240"/>
                <a:chExt cx="2625480" cy="4506120"/>
              </a:xfrm>
            </p:grpSpPr>
            <p:grpSp>
              <p:nvGrpSpPr>
                <p:cNvPr id="905" name="Group 163"/>
                <p:cNvGrpSpPr/>
                <p:nvPr/>
              </p:nvGrpSpPr>
              <p:grpSpPr>
                <a:xfrm>
                  <a:off x="5148000" y="4199040"/>
                  <a:ext cx="2514240" cy="1813320"/>
                  <a:chOff x="5148000" y="4199040"/>
                  <a:chExt cx="2514240" cy="1813320"/>
                </a:xfrm>
              </p:grpSpPr>
              <p:sp>
                <p:nvSpPr>
                  <p:cNvPr id="906" name="Text Box 164"/>
                  <p:cNvSpPr/>
                  <p:nvPr/>
                </p:nvSpPr>
                <p:spPr>
                  <a:xfrm>
                    <a:off x="7357680" y="5413320"/>
                    <a:ext cx="304560" cy="118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3’</a:t>
                    </a:r>
                    <a:endParaRPr b="0" lang="en-US" sz="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07" name="Group 165"/>
                  <p:cNvGrpSpPr/>
                  <p:nvPr/>
                </p:nvGrpSpPr>
                <p:grpSpPr>
                  <a:xfrm>
                    <a:off x="5148000" y="4199040"/>
                    <a:ext cx="2285640" cy="1813320"/>
                    <a:chOff x="5148000" y="4199040"/>
                    <a:chExt cx="2285640" cy="1813320"/>
                  </a:xfrm>
                </p:grpSpPr>
                <p:sp>
                  <p:nvSpPr>
                    <p:cNvPr id="908" name="Oval 166"/>
                    <p:cNvSpPr/>
                    <p:nvPr/>
                  </p:nvSpPr>
                  <p:spPr>
                    <a:xfrm>
                      <a:off x="5757480" y="4740480"/>
                      <a:ext cx="1371600" cy="908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767676"/>
                        </a:gs>
                        <a:gs pos="100000">
                          <a:srgbClr val="ffffff">
                            <a:alpha val="47058"/>
                          </a:srgbClr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9" name="Oval 167"/>
                    <p:cNvSpPr/>
                    <p:nvPr/>
                  </p:nvSpPr>
                  <p:spPr>
                    <a:xfrm rot="21459600">
                      <a:off x="5757120" y="5533560"/>
                      <a:ext cx="1371600" cy="4507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538000"/>
                    </a:gradFill>
                    <a:ln w="936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910" name="Group 168"/>
                    <p:cNvGrpSpPr/>
                    <p:nvPr/>
                  </p:nvGrpSpPr>
                  <p:grpSpPr>
                    <a:xfrm>
                      <a:off x="6595560" y="4854960"/>
                      <a:ext cx="304560" cy="1015560"/>
                      <a:chOff x="6595560" y="4854960"/>
                      <a:chExt cx="304560" cy="1015560"/>
                    </a:xfrm>
                  </p:grpSpPr>
                  <p:sp>
                    <p:nvSpPr>
                      <p:cNvPr id="911" name="AutoShape 169"/>
                      <p:cNvSpPr/>
                      <p:nvPr/>
                    </p:nvSpPr>
                    <p:spPr>
                      <a:xfrm>
                        <a:off x="6595560" y="4854960"/>
                        <a:ext cx="304560" cy="1015560"/>
                      </a:xfrm>
                      <a:custGeom>
                        <a:avLst/>
                        <a:gdLst>
                          <a:gd name="textAreaLeft" fmla="*/ 14760 w 304560"/>
                          <a:gd name="textAreaRight" fmla="*/ 289800 w 304560"/>
                          <a:gd name="textAreaTop" fmla="*/ 14760 h 1015560"/>
                          <a:gd name="textAreaBottom" fmla="*/ 1000800 h 1015560"/>
                        </a:gdLst>
                        <a:ahLst/>
                        <a:rect l="textAreaLeft" t="textAreaTop" r="textAreaRight" b="textAreaBottom"/>
                        <a:pathLst>
                          <a:path w="21600" h="71966">
                            <a:moveTo>
                              <a:pt x="3600" y="0"/>
                            </a:moveTo>
                            <a:arcTo wR="3600" hR="3600" stAng="16200000" swAng="-5400000"/>
                            <a:lnTo>
                              <a:pt x="0" y="68366"/>
                            </a:lnTo>
                            <a:arcTo wR="3600" hR="3600" stAng="10800000" swAng="-5400000"/>
                            <a:lnTo>
                              <a:pt x="18000" y="71966"/>
                            </a:lnTo>
                            <a:arcTo wR="3600" hR="3600" stAng="5400000" swAng="-5400000"/>
                            <a:lnTo>
                              <a:pt x="21600" y="3600"/>
                            </a:lnTo>
                            <a:arcTo wR="3600" hR="3600" stAng="0" swAng="-5400000"/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12" name="Text Box 170"/>
                      <p:cNvSpPr/>
                      <p:nvPr/>
                    </p:nvSpPr>
                    <p:spPr>
                      <a:xfrm>
                        <a:off x="6595560" y="5655240"/>
                        <a:ext cx="273960" cy="142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A</a:t>
                        </a:r>
                        <a:endParaRPr b="0" lang="en-US" sz="12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13" name="Text Box 171"/>
                    <p:cNvSpPr/>
                    <p:nvPr/>
                  </p:nvSpPr>
                  <p:spPr>
                    <a:xfrm>
                      <a:off x="5148000" y="5464800"/>
                      <a:ext cx="304560" cy="118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’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914" name="Group 172"/>
                    <p:cNvGrpSpPr/>
                    <p:nvPr/>
                  </p:nvGrpSpPr>
                  <p:grpSpPr>
                    <a:xfrm>
                      <a:off x="6123240" y="4854960"/>
                      <a:ext cx="457200" cy="1049400"/>
                      <a:chOff x="6123240" y="4854960"/>
                      <a:chExt cx="457200" cy="1049400"/>
                    </a:xfrm>
                  </p:grpSpPr>
                  <p:sp>
                    <p:nvSpPr>
                      <p:cNvPr id="915" name="AutoShape 173"/>
                      <p:cNvSpPr/>
                      <p:nvPr/>
                    </p:nvSpPr>
                    <p:spPr>
                      <a:xfrm>
                        <a:off x="6138360" y="4854960"/>
                        <a:ext cx="380880" cy="1049400"/>
                      </a:xfrm>
                      <a:custGeom>
                        <a:avLst/>
                        <a:gdLst>
                          <a:gd name="textAreaLeft" fmla="*/ 18360 w 380880"/>
                          <a:gd name="textAreaRight" fmla="*/ 362520 w 380880"/>
                          <a:gd name="textAreaTop" fmla="*/ 18360 h 1049400"/>
                          <a:gd name="textAreaBottom" fmla="*/ 1031040 h 1049400"/>
                        </a:gdLst>
                        <a:ahLst/>
                        <a:rect l="textAreaLeft" t="textAreaTop" r="textAreaRight" b="textAreaBottom"/>
                        <a:pathLst>
                          <a:path w="21600" h="59476">
                            <a:moveTo>
                              <a:pt x="3600" y="0"/>
                            </a:moveTo>
                            <a:arcTo wR="3600" hR="3600" stAng="16200000" swAng="-5400000"/>
                            <a:lnTo>
                              <a:pt x="0" y="55876"/>
                            </a:lnTo>
                            <a:arcTo wR="3600" hR="3600" stAng="10800000" swAng="-5400000"/>
                            <a:lnTo>
                              <a:pt x="18000" y="59476"/>
                            </a:lnTo>
                            <a:arcTo wR="3600" hR="3600" stAng="5400000" swAng="-5400000"/>
                            <a:lnTo>
                              <a:pt x="21600" y="3600"/>
                            </a:lnTo>
                            <a:arcTo wR="3600" hR="3600" stAng="0" swAng="-5400000"/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16" name="Text Box 174"/>
                      <p:cNvSpPr/>
                      <p:nvPr/>
                    </p:nvSpPr>
                    <p:spPr>
                      <a:xfrm>
                        <a:off x="6176520" y="5710680"/>
                        <a:ext cx="343080" cy="173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P</a:t>
                        </a:r>
                        <a:endParaRPr b="0" lang="en-US" sz="12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17" name="Text Box 175"/>
                      <p:cNvSpPr/>
                      <p:nvPr/>
                    </p:nvSpPr>
                    <p:spPr>
                      <a:xfrm>
                        <a:off x="6123240" y="5578920"/>
                        <a:ext cx="457200" cy="114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AUG</a:t>
                        </a:r>
                        <a:endParaRPr b="0" lang="en-US" sz="12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18" name="Group 176"/>
                    <p:cNvGrpSpPr/>
                    <p:nvPr/>
                  </p:nvGrpSpPr>
                  <p:grpSpPr>
                    <a:xfrm>
                      <a:off x="5376240" y="5390280"/>
                      <a:ext cx="2057400" cy="153720"/>
                      <a:chOff x="5376240" y="5390280"/>
                      <a:chExt cx="2057400" cy="153720"/>
                    </a:xfrm>
                  </p:grpSpPr>
                  <p:grpSp>
                    <p:nvGrpSpPr>
                      <p:cNvPr id="919" name="Group 177"/>
                      <p:cNvGrpSpPr/>
                      <p:nvPr/>
                    </p:nvGrpSpPr>
                    <p:grpSpPr>
                      <a:xfrm>
                        <a:off x="5470920" y="5391360"/>
                        <a:ext cx="191160" cy="146880"/>
                        <a:chOff x="5470920" y="5391360"/>
                        <a:chExt cx="191160" cy="146880"/>
                      </a:xfrm>
                    </p:grpSpPr>
                    <p:sp>
                      <p:nvSpPr>
                        <p:cNvPr id="920" name="Line 178"/>
                        <p:cNvSpPr/>
                        <p:nvPr/>
                      </p:nvSpPr>
                      <p:spPr>
                        <a:xfrm flipH="1">
                          <a:off x="5470920" y="5400360"/>
                          <a:ext cx="1440" cy="13752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1" name="Line 179"/>
                        <p:cNvSpPr/>
                        <p:nvPr/>
                      </p:nvSpPr>
                      <p:spPr>
                        <a:xfrm flipH="1">
                          <a:off x="5562360" y="5401080"/>
                          <a:ext cx="108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2" name="Line 180"/>
                        <p:cNvSpPr/>
                        <p:nvPr/>
                      </p:nvSpPr>
                      <p:spPr>
                        <a:xfrm flipH="1">
                          <a:off x="5661000" y="5391360"/>
                          <a:ext cx="108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923" name="Group 181"/>
                      <p:cNvGrpSpPr/>
                      <p:nvPr/>
                    </p:nvGrpSpPr>
                    <p:grpSpPr>
                      <a:xfrm>
                        <a:off x="5852520" y="5390280"/>
                        <a:ext cx="190080" cy="148320"/>
                        <a:chOff x="5852520" y="5390280"/>
                        <a:chExt cx="190080" cy="148320"/>
                      </a:xfrm>
                    </p:grpSpPr>
                    <p:sp>
                      <p:nvSpPr>
                        <p:cNvPr id="924" name="Line 182"/>
                        <p:cNvSpPr/>
                        <p:nvPr/>
                      </p:nvSpPr>
                      <p:spPr>
                        <a:xfrm>
                          <a:off x="5852520" y="5401440"/>
                          <a:ext cx="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5" name="Line 183"/>
                        <p:cNvSpPr/>
                        <p:nvPr/>
                      </p:nvSpPr>
                      <p:spPr>
                        <a:xfrm>
                          <a:off x="5943960" y="5401080"/>
                          <a:ext cx="36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6" name="Line 184"/>
                        <p:cNvSpPr/>
                        <p:nvPr/>
                      </p:nvSpPr>
                      <p:spPr>
                        <a:xfrm>
                          <a:off x="6042600" y="5390280"/>
                          <a:ext cx="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927" name="Group 185"/>
                      <p:cNvGrpSpPr/>
                      <p:nvPr/>
                    </p:nvGrpSpPr>
                    <p:grpSpPr>
                      <a:xfrm>
                        <a:off x="6232320" y="5391720"/>
                        <a:ext cx="191880" cy="146520"/>
                        <a:chOff x="6232320" y="5391720"/>
                        <a:chExt cx="191880" cy="146520"/>
                      </a:xfrm>
                    </p:grpSpPr>
                    <p:sp>
                      <p:nvSpPr>
                        <p:cNvPr id="928" name="Line 186"/>
                        <p:cNvSpPr/>
                        <p:nvPr/>
                      </p:nvSpPr>
                      <p:spPr>
                        <a:xfrm flipH="1">
                          <a:off x="6232320" y="5400000"/>
                          <a:ext cx="1800" cy="13752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9" name="Line 187"/>
                        <p:cNvSpPr/>
                        <p:nvPr/>
                      </p:nvSpPr>
                      <p:spPr>
                        <a:xfrm flipH="1">
                          <a:off x="6324120" y="5401080"/>
                          <a:ext cx="144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0" name="Line 188"/>
                        <p:cNvSpPr/>
                        <p:nvPr/>
                      </p:nvSpPr>
                      <p:spPr>
                        <a:xfrm flipH="1">
                          <a:off x="6422760" y="5391720"/>
                          <a:ext cx="144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931" name="Group 189"/>
                      <p:cNvGrpSpPr/>
                      <p:nvPr/>
                    </p:nvGrpSpPr>
                    <p:grpSpPr>
                      <a:xfrm>
                        <a:off x="6612480" y="5393160"/>
                        <a:ext cx="194040" cy="145080"/>
                        <a:chOff x="6612480" y="5393160"/>
                        <a:chExt cx="194040" cy="145080"/>
                      </a:xfrm>
                    </p:grpSpPr>
                    <p:sp>
                      <p:nvSpPr>
                        <p:cNvPr id="932" name="Line 190"/>
                        <p:cNvSpPr/>
                        <p:nvPr/>
                      </p:nvSpPr>
                      <p:spPr>
                        <a:xfrm flipH="1">
                          <a:off x="6612480" y="5398560"/>
                          <a:ext cx="3960" cy="13752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3" name="Line 191"/>
                        <p:cNvSpPr/>
                        <p:nvPr/>
                      </p:nvSpPr>
                      <p:spPr>
                        <a:xfrm flipH="1">
                          <a:off x="6704280" y="5401080"/>
                          <a:ext cx="360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4" name="Line 192"/>
                        <p:cNvSpPr/>
                        <p:nvPr/>
                      </p:nvSpPr>
                      <p:spPr>
                        <a:xfrm flipH="1">
                          <a:off x="6802920" y="5393160"/>
                          <a:ext cx="360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935" name="Line 193"/>
                      <p:cNvSpPr/>
                      <p:nvPr/>
                    </p:nvSpPr>
                    <p:spPr>
                      <a:xfrm>
                        <a:off x="5376240" y="5544000"/>
                        <a:ext cx="2057400" cy="0"/>
                      </a:xfrm>
                      <a:prstGeom prst="line">
                        <a:avLst/>
                      </a:prstGeom>
                      <a:ln w="475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936" name="Group 194"/>
                      <p:cNvGrpSpPr/>
                      <p:nvPr/>
                    </p:nvGrpSpPr>
                    <p:grpSpPr>
                      <a:xfrm>
                        <a:off x="6993360" y="5393160"/>
                        <a:ext cx="194040" cy="144720"/>
                        <a:chOff x="6993360" y="5393160"/>
                        <a:chExt cx="194040" cy="144720"/>
                      </a:xfrm>
                    </p:grpSpPr>
                    <p:sp>
                      <p:nvSpPr>
                        <p:cNvPr id="937" name="Line 195"/>
                        <p:cNvSpPr/>
                        <p:nvPr/>
                      </p:nvSpPr>
                      <p:spPr>
                        <a:xfrm flipH="1">
                          <a:off x="6993360" y="5398560"/>
                          <a:ext cx="3960" cy="13752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8" name="Line 196"/>
                        <p:cNvSpPr/>
                        <p:nvPr/>
                      </p:nvSpPr>
                      <p:spPr>
                        <a:xfrm flipH="1">
                          <a:off x="7084800" y="5401080"/>
                          <a:ext cx="3960" cy="13680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9" name="Line 197"/>
                        <p:cNvSpPr/>
                        <p:nvPr/>
                      </p:nvSpPr>
                      <p:spPr>
                        <a:xfrm flipH="1">
                          <a:off x="7183800" y="5393160"/>
                          <a:ext cx="360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940" name="Group 198"/>
                    <p:cNvGrpSpPr/>
                    <p:nvPr/>
                  </p:nvGrpSpPr>
                  <p:grpSpPr>
                    <a:xfrm>
                      <a:off x="5938560" y="4199040"/>
                      <a:ext cx="755280" cy="1176120"/>
                      <a:chOff x="5938560" y="4199040"/>
                      <a:chExt cx="755280" cy="1176120"/>
                    </a:xfrm>
                  </p:grpSpPr>
                  <p:grpSp>
                    <p:nvGrpSpPr>
                      <p:cNvPr id="941" name="Group 199"/>
                      <p:cNvGrpSpPr/>
                      <p:nvPr/>
                    </p:nvGrpSpPr>
                    <p:grpSpPr>
                      <a:xfrm>
                        <a:off x="5938560" y="4199040"/>
                        <a:ext cx="755280" cy="1176120"/>
                        <a:chOff x="5938560" y="4199040"/>
                        <a:chExt cx="755280" cy="1176120"/>
                      </a:xfrm>
                    </p:grpSpPr>
                    <p:grpSp>
                      <p:nvGrpSpPr>
                        <p:cNvPr id="942" name="Group 200"/>
                        <p:cNvGrpSpPr/>
                        <p:nvPr/>
                      </p:nvGrpSpPr>
                      <p:grpSpPr>
                        <a:xfrm>
                          <a:off x="5938560" y="4475160"/>
                          <a:ext cx="755280" cy="900000"/>
                          <a:chOff x="5938560" y="4475160"/>
                          <a:chExt cx="755280" cy="900000"/>
                        </a:xfrm>
                      </p:grpSpPr>
                      <p:grpSp>
                        <p:nvGrpSpPr>
                          <p:cNvPr id="943" name="Group 201"/>
                          <p:cNvGrpSpPr/>
                          <p:nvPr/>
                        </p:nvGrpSpPr>
                        <p:grpSpPr>
                          <a:xfrm>
                            <a:off x="6244200" y="5230440"/>
                            <a:ext cx="194760" cy="144720"/>
                            <a:chOff x="6244200" y="5230440"/>
                            <a:chExt cx="194760" cy="144720"/>
                          </a:xfrm>
                        </p:grpSpPr>
                        <p:sp>
                          <p:nvSpPr>
                            <p:cNvPr id="944" name="Line 202"/>
                            <p:cNvSpPr/>
                            <p:nvPr/>
                          </p:nvSpPr>
                          <p:spPr>
                            <a:xfrm flipH="1">
                              <a:off x="6244200" y="5235480"/>
                              <a:ext cx="4320" cy="137160"/>
                            </a:xfrm>
                            <a:prstGeom prst="line">
                              <a:avLst/>
                            </a:prstGeom>
                            <a:ln w="507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945" name="Line 203"/>
                            <p:cNvSpPr/>
                            <p:nvPr/>
                          </p:nvSpPr>
                          <p:spPr>
                            <a:xfrm flipH="1">
                              <a:off x="6336360" y="5238000"/>
                              <a:ext cx="3600" cy="137160"/>
                            </a:xfrm>
                            <a:prstGeom prst="line">
                              <a:avLst/>
                            </a:prstGeom>
                            <a:ln w="507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946" name="Line 204"/>
                            <p:cNvSpPr/>
                            <p:nvPr/>
                          </p:nvSpPr>
                          <p:spPr>
                            <a:xfrm flipH="1">
                              <a:off x="6434640" y="5230440"/>
                              <a:ext cx="4320" cy="136800"/>
                            </a:xfrm>
                            <a:prstGeom prst="line">
                              <a:avLst/>
                            </a:prstGeom>
                            <a:ln w="507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947" name="Freeform 205"/>
                          <p:cNvSpPr/>
                          <p:nvPr/>
                        </p:nvSpPr>
                        <p:spPr>
                          <a:xfrm rot="3659400">
                            <a:off x="5966640" y="4657680"/>
                            <a:ext cx="698400" cy="476280"/>
                          </a:xfrm>
                          <a:custGeom>
                            <a:avLst/>
                            <a:gdLst>
                              <a:gd name="textAreaLeft" fmla="*/ 0 w 698400"/>
                              <a:gd name="textAreaRight" fmla="*/ 698400 w 698400"/>
                              <a:gd name="textAreaTop" fmla="*/ 0 h 476280"/>
                              <a:gd name="textAreaBottom" fmla="*/ 476640 h 476280"/>
                            </a:gdLst>
                            <a:ahLst/>
                            <a:rect l="textAreaLeft" t="textAreaTop" r="textAreaRight" b="textAreaBottom"/>
                            <a:pathLst>
                              <a:path w="1400" h="1110">
                                <a:moveTo>
                                  <a:pt x="140" y="390"/>
                                </a:moveTo>
                                <a:cubicBezTo>
                                  <a:pt x="210" y="480"/>
                                  <a:pt x="280" y="570"/>
                                  <a:pt x="380" y="570"/>
                                </a:cubicBezTo>
                                <a:cubicBezTo>
                                  <a:pt x="480" y="570"/>
                                  <a:pt x="620" y="420"/>
                                  <a:pt x="740" y="390"/>
                                </a:cubicBezTo>
                                <a:cubicBezTo>
                                  <a:pt x="860" y="360"/>
                                  <a:pt x="1000" y="360"/>
                                  <a:pt x="1100" y="390"/>
                                </a:cubicBezTo>
                                <a:cubicBezTo>
                                  <a:pt x="1200" y="420"/>
                                  <a:pt x="1300" y="480"/>
                                  <a:pt x="1340" y="570"/>
                                </a:cubicBezTo>
                                <a:cubicBezTo>
                                  <a:pt x="1380" y="660"/>
                                  <a:pt x="1400" y="840"/>
                                  <a:pt x="1340" y="930"/>
                                </a:cubicBezTo>
                                <a:cubicBezTo>
                                  <a:pt x="1280" y="1020"/>
                                  <a:pt x="1100" y="1110"/>
                                  <a:pt x="980" y="1110"/>
                                </a:cubicBezTo>
                                <a:cubicBezTo>
                                  <a:pt x="860" y="1110"/>
                                  <a:pt x="700" y="990"/>
                                  <a:pt x="620" y="930"/>
                                </a:cubicBezTo>
                                <a:cubicBezTo>
                                  <a:pt x="540" y="870"/>
                                  <a:pt x="540" y="840"/>
                                  <a:pt x="500" y="750"/>
                                </a:cubicBezTo>
                                <a:cubicBezTo>
                                  <a:pt x="460" y="660"/>
                                  <a:pt x="400" y="480"/>
                                  <a:pt x="380" y="390"/>
                                </a:cubicBezTo>
                                <a:cubicBezTo>
                                  <a:pt x="360" y="300"/>
                                  <a:pt x="400" y="270"/>
                                  <a:pt x="380" y="210"/>
                                </a:cubicBezTo>
                                <a:cubicBezTo>
                                  <a:pt x="360" y="150"/>
                                  <a:pt x="320" y="60"/>
                                  <a:pt x="260" y="30"/>
                                </a:cubicBezTo>
                                <a:cubicBezTo>
                                  <a:pt x="200" y="0"/>
                                  <a:pt x="40" y="30"/>
                                  <a:pt x="20" y="30"/>
                                </a:cubicBezTo>
                                <a:cubicBezTo>
                                  <a:pt x="0" y="30"/>
                                  <a:pt x="70" y="30"/>
                                  <a:pt x="140" y="30"/>
                                </a:cubicBezTo>
                              </a:path>
                            </a:pathLst>
                          </a:custGeom>
                          <a:noFill/>
                          <a:ln w="507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948" name="Oval 206"/>
                        <p:cNvSpPr/>
                        <p:nvPr/>
                      </p:nvSpPr>
                      <p:spPr>
                        <a:xfrm rot="1331400">
                          <a:off x="6001560" y="4262400"/>
                          <a:ext cx="380880" cy="228600"/>
                        </a:xfrm>
                        <a:prstGeom prst="ellipse">
                          <a:avLst/>
                        </a:prstGeom>
                        <a:solidFill>
                          <a:srgbClr val="c0c0c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949" name="Text Box 207"/>
                      <p:cNvSpPr/>
                      <p:nvPr/>
                    </p:nvSpPr>
                    <p:spPr>
                      <a:xfrm>
                        <a:off x="6061680" y="4321440"/>
                        <a:ext cx="304560" cy="114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fMet</a:t>
                        </a:r>
                        <a:endParaRPr b="0" lang="en-US" sz="9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50" name="Text Box 208"/>
                      <p:cNvSpPr/>
                      <p:nvPr/>
                    </p:nvSpPr>
                    <p:spPr>
                      <a:xfrm>
                        <a:off x="6168600" y="5007240"/>
                        <a:ext cx="331200" cy="135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1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UAC</a:t>
                        </a:r>
                        <a:endParaRPr b="0" lang="en-US" sz="11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951" name="Group 209"/>
                <p:cNvGrpSpPr/>
                <p:nvPr/>
              </p:nvGrpSpPr>
              <p:grpSpPr>
                <a:xfrm>
                  <a:off x="5148000" y="1506240"/>
                  <a:ext cx="2514600" cy="1813680"/>
                  <a:chOff x="5148000" y="1506240"/>
                  <a:chExt cx="2514600" cy="1813680"/>
                </a:xfrm>
              </p:grpSpPr>
              <p:grpSp>
                <p:nvGrpSpPr>
                  <p:cNvPr id="952" name="Group 210"/>
                  <p:cNvGrpSpPr/>
                  <p:nvPr/>
                </p:nvGrpSpPr>
                <p:grpSpPr>
                  <a:xfrm>
                    <a:off x="5148000" y="1506240"/>
                    <a:ext cx="2514600" cy="1813680"/>
                    <a:chOff x="5148000" y="1506240"/>
                    <a:chExt cx="2514600" cy="1813680"/>
                  </a:xfrm>
                </p:grpSpPr>
                <p:grpSp>
                  <p:nvGrpSpPr>
                    <p:cNvPr id="953" name="Group 211"/>
                    <p:cNvGrpSpPr/>
                    <p:nvPr/>
                  </p:nvGrpSpPr>
                  <p:grpSpPr>
                    <a:xfrm>
                      <a:off x="5148000" y="2697480"/>
                      <a:ext cx="2514600" cy="622440"/>
                      <a:chOff x="5148000" y="2697480"/>
                      <a:chExt cx="2514600" cy="622440"/>
                    </a:xfrm>
                  </p:grpSpPr>
                  <p:sp>
                    <p:nvSpPr>
                      <p:cNvPr id="954" name="Oval 212"/>
                      <p:cNvSpPr/>
                      <p:nvPr/>
                    </p:nvSpPr>
                    <p:spPr>
                      <a:xfrm rot="21459600">
                        <a:off x="5757120" y="2840760"/>
                        <a:ext cx="1371600" cy="45108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767676"/>
                          </a:gs>
                        </a:gsLst>
                        <a:lin ang="5538000"/>
                      </a:gra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955" name="Group 213"/>
                      <p:cNvGrpSpPr/>
                      <p:nvPr/>
                    </p:nvGrpSpPr>
                    <p:grpSpPr>
                      <a:xfrm>
                        <a:off x="6138360" y="2868120"/>
                        <a:ext cx="380880" cy="343080"/>
                        <a:chOff x="6138360" y="2868120"/>
                        <a:chExt cx="380880" cy="343080"/>
                      </a:xfrm>
                    </p:grpSpPr>
                    <p:sp>
                      <p:nvSpPr>
                        <p:cNvPr id="956" name="AutoShape 214"/>
                        <p:cNvSpPr/>
                        <p:nvPr/>
                      </p:nvSpPr>
                      <p:spPr>
                        <a:xfrm>
                          <a:off x="6138360" y="2868120"/>
                          <a:ext cx="380880" cy="343080"/>
                        </a:xfrm>
                        <a:prstGeom prst="roundRect">
                          <a:avLst>
                            <a:gd name="adj" fmla="val 16667"/>
                          </a:avLst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prstDash val="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7" name="Text Box 215"/>
                        <p:cNvSpPr/>
                        <p:nvPr/>
                      </p:nvSpPr>
                      <p:spPr>
                        <a:xfrm>
                          <a:off x="6176520" y="2982240"/>
                          <a:ext cx="342720" cy="2037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P</a:t>
                          </a:r>
                          <a:endParaRPr b="0" lang="en-US" sz="12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958" name="Group 216"/>
                      <p:cNvGrpSpPr/>
                      <p:nvPr/>
                    </p:nvGrpSpPr>
                    <p:grpSpPr>
                      <a:xfrm>
                        <a:off x="6595920" y="2949120"/>
                        <a:ext cx="304560" cy="228600"/>
                        <a:chOff x="6595920" y="2949120"/>
                        <a:chExt cx="304560" cy="228600"/>
                      </a:xfrm>
                    </p:grpSpPr>
                    <p:sp>
                      <p:nvSpPr>
                        <p:cNvPr id="959" name="AutoShape 217"/>
                        <p:cNvSpPr/>
                        <p:nvPr/>
                      </p:nvSpPr>
                      <p:spPr>
                        <a:xfrm>
                          <a:off x="6595920" y="2949120"/>
                          <a:ext cx="304560" cy="228600"/>
                        </a:xfrm>
                        <a:prstGeom prst="roundRect">
                          <a:avLst>
                            <a:gd name="adj" fmla="val 16667"/>
                          </a:avLst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prstDash val="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0" name="Text Box 218"/>
                        <p:cNvSpPr/>
                        <p:nvPr/>
                      </p:nvSpPr>
                      <p:spPr>
                        <a:xfrm>
                          <a:off x="6626160" y="3025080"/>
                          <a:ext cx="273960" cy="135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A</a:t>
                          </a:r>
                          <a:endParaRPr b="0" lang="en-US" sz="12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961" name="Oval 219"/>
                      <p:cNvSpPr/>
                      <p:nvPr/>
                    </p:nvSpPr>
                    <p:spPr>
                      <a:xfrm>
                        <a:off x="5681160" y="2949120"/>
                        <a:ext cx="380880" cy="34308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2" name="Text Box 220"/>
                      <p:cNvSpPr/>
                      <p:nvPr/>
                    </p:nvSpPr>
                    <p:spPr>
                      <a:xfrm>
                        <a:off x="5757480" y="3063240"/>
                        <a:ext cx="304560" cy="114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IF-3</a:t>
                        </a:r>
                        <a:endParaRPr b="0" lang="en-US" sz="12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3" name="Oval 221"/>
                      <p:cNvSpPr/>
                      <p:nvPr/>
                    </p:nvSpPr>
                    <p:spPr>
                      <a:xfrm>
                        <a:off x="6595920" y="2834640"/>
                        <a:ext cx="380880" cy="34308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4" name="Text Box 222"/>
                      <p:cNvSpPr/>
                      <p:nvPr/>
                    </p:nvSpPr>
                    <p:spPr>
                      <a:xfrm>
                        <a:off x="6671880" y="2949120"/>
                        <a:ext cx="304560" cy="114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IF-1</a:t>
                        </a:r>
                        <a:endParaRPr b="0" lang="en-US" sz="12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5" name="Text Box 223"/>
                      <p:cNvSpPr/>
                      <p:nvPr/>
                    </p:nvSpPr>
                    <p:spPr>
                      <a:xfrm>
                        <a:off x="7358040" y="2771640"/>
                        <a:ext cx="304560" cy="118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3’</a:t>
                        </a:r>
                        <a:endParaRPr b="0" lang="en-US" sz="9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6" name="Text Box 224"/>
                      <p:cNvSpPr/>
                      <p:nvPr/>
                    </p:nvSpPr>
                    <p:spPr>
                      <a:xfrm>
                        <a:off x="5148000" y="2771640"/>
                        <a:ext cx="304560" cy="118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5’</a:t>
                        </a:r>
                        <a:endParaRPr b="0" lang="en-US" sz="9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7" name="Text Box 225"/>
                      <p:cNvSpPr/>
                      <p:nvPr/>
                    </p:nvSpPr>
                    <p:spPr>
                      <a:xfrm>
                        <a:off x="6123240" y="2886120"/>
                        <a:ext cx="457200" cy="114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AUG</a:t>
                        </a:r>
                        <a:endParaRPr b="0" lang="en-US" sz="12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968" name="Group 226"/>
                      <p:cNvGrpSpPr/>
                      <p:nvPr/>
                    </p:nvGrpSpPr>
                    <p:grpSpPr>
                      <a:xfrm>
                        <a:off x="5376240" y="2697480"/>
                        <a:ext cx="2057400" cy="153720"/>
                        <a:chOff x="5376240" y="2697480"/>
                        <a:chExt cx="2057400" cy="153720"/>
                      </a:xfrm>
                    </p:grpSpPr>
                    <p:grpSp>
                      <p:nvGrpSpPr>
                        <p:cNvPr id="969" name="Group 227"/>
                        <p:cNvGrpSpPr/>
                        <p:nvPr/>
                      </p:nvGrpSpPr>
                      <p:grpSpPr>
                        <a:xfrm>
                          <a:off x="5470920" y="2698560"/>
                          <a:ext cx="191160" cy="146880"/>
                          <a:chOff x="5470920" y="2698560"/>
                          <a:chExt cx="191160" cy="146880"/>
                        </a:xfrm>
                      </p:grpSpPr>
                      <p:sp>
                        <p:nvSpPr>
                          <p:cNvPr id="970" name="Line 228"/>
                          <p:cNvSpPr/>
                          <p:nvPr/>
                        </p:nvSpPr>
                        <p:spPr>
                          <a:xfrm flipH="1">
                            <a:off x="5470920" y="2707560"/>
                            <a:ext cx="1440" cy="13752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1" name="Line 229"/>
                          <p:cNvSpPr/>
                          <p:nvPr/>
                        </p:nvSpPr>
                        <p:spPr>
                          <a:xfrm flipH="1">
                            <a:off x="5562360" y="2708280"/>
                            <a:ext cx="108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2" name="Line 230"/>
                          <p:cNvSpPr/>
                          <p:nvPr/>
                        </p:nvSpPr>
                        <p:spPr>
                          <a:xfrm flipH="1">
                            <a:off x="5661000" y="2698560"/>
                            <a:ext cx="108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73" name="Group 231"/>
                        <p:cNvGrpSpPr/>
                        <p:nvPr/>
                      </p:nvGrpSpPr>
                      <p:grpSpPr>
                        <a:xfrm>
                          <a:off x="5852520" y="2697480"/>
                          <a:ext cx="190080" cy="148320"/>
                          <a:chOff x="5852520" y="2697480"/>
                          <a:chExt cx="190080" cy="148320"/>
                        </a:xfrm>
                      </p:grpSpPr>
                      <p:sp>
                        <p:nvSpPr>
                          <p:cNvPr id="974" name="Line 232"/>
                          <p:cNvSpPr/>
                          <p:nvPr/>
                        </p:nvSpPr>
                        <p:spPr>
                          <a:xfrm>
                            <a:off x="5852520" y="2708640"/>
                            <a:ext cx="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5" name="Line 233"/>
                          <p:cNvSpPr/>
                          <p:nvPr/>
                        </p:nvSpPr>
                        <p:spPr>
                          <a:xfrm>
                            <a:off x="5943960" y="2708280"/>
                            <a:ext cx="36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6" name="Line 234"/>
                          <p:cNvSpPr/>
                          <p:nvPr/>
                        </p:nvSpPr>
                        <p:spPr>
                          <a:xfrm>
                            <a:off x="6042600" y="2697480"/>
                            <a:ext cx="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77" name="Group 235"/>
                        <p:cNvGrpSpPr/>
                        <p:nvPr/>
                      </p:nvGrpSpPr>
                      <p:grpSpPr>
                        <a:xfrm>
                          <a:off x="6232320" y="2698920"/>
                          <a:ext cx="191880" cy="146520"/>
                          <a:chOff x="6232320" y="2698920"/>
                          <a:chExt cx="191880" cy="146520"/>
                        </a:xfrm>
                      </p:grpSpPr>
                      <p:sp>
                        <p:nvSpPr>
                          <p:cNvPr id="978" name="Line 236"/>
                          <p:cNvSpPr/>
                          <p:nvPr/>
                        </p:nvSpPr>
                        <p:spPr>
                          <a:xfrm flipH="1">
                            <a:off x="6232320" y="2707200"/>
                            <a:ext cx="1800" cy="13752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9" name="Line 237"/>
                          <p:cNvSpPr/>
                          <p:nvPr/>
                        </p:nvSpPr>
                        <p:spPr>
                          <a:xfrm flipH="1">
                            <a:off x="6324120" y="2708280"/>
                            <a:ext cx="144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80" name="Line 238"/>
                          <p:cNvSpPr/>
                          <p:nvPr/>
                        </p:nvSpPr>
                        <p:spPr>
                          <a:xfrm flipH="1">
                            <a:off x="6422760" y="2698920"/>
                            <a:ext cx="144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81" name="Group 239"/>
                        <p:cNvGrpSpPr/>
                        <p:nvPr/>
                      </p:nvGrpSpPr>
                      <p:grpSpPr>
                        <a:xfrm>
                          <a:off x="6612480" y="2700360"/>
                          <a:ext cx="194040" cy="145080"/>
                          <a:chOff x="6612480" y="2700360"/>
                          <a:chExt cx="194040" cy="145080"/>
                        </a:xfrm>
                      </p:grpSpPr>
                      <p:sp>
                        <p:nvSpPr>
                          <p:cNvPr id="982" name="Line 240"/>
                          <p:cNvSpPr/>
                          <p:nvPr/>
                        </p:nvSpPr>
                        <p:spPr>
                          <a:xfrm flipH="1">
                            <a:off x="6612480" y="2705760"/>
                            <a:ext cx="3960" cy="13752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83" name="Line 241"/>
                          <p:cNvSpPr/>
                          <p:nvPr/>
                        </p:nvSpPr>
                        <p:spPr>
                          <a:xfrm flipH="1">
                            <a:off x="6704280" y="2708280"/>
                            <a:ext cx="360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84" name="Line 242"/>
                          <p:cNvSpPr/>
                          <p:nvPr/>
                        </p:nvSpPr>
                        <p:spPr>
                          <a:xfrm flipH="1">
                            <a:off x="6802920" y="2700360"/>
                            <a:ext cx="360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985" name="Line 243"/>
                        <p:cNvSpPr/>
                        <p:nvPr/>
                      </p:nvSpPr>
                      <p:spPr>
                        <a:xfrm>
                          <a:off x="5376240" y="2851200"/>
                          <a:ext cx="2057400" cy="0"/>
                        </a:xfrm>
                        <a:prstGeom prst="line">
                          <a:avLst/>
                        </a:prstGeom>
                        <a:ln w="4752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986" name="Group 244"/>
                        <p:cNvGrpSpPr/>
                        <p:nvPr/>
                      </p:nvGrpSpPr>
                      <p:grpSpPr>
                        <a:xfrm>
                          <a:off x="6993360" y="2700360"/>
                          <a:ext cx="194040" cy="144720"/>
                          <a:chOff x="6993360" y="2700360"/>
                          <a:chExt cx="194040" cy="144720"/>
                        </a:xfrm>
                      </p:grpSpPr>
                      <p:sp>
                        <p:nvSpPr>
                          <p:cNvPr id="987" name="Line 245"/>
                          <p:cNvSpPr/>
                          <p:nvPr/>
                        </p:nvSpPr>
                        <p:spPr>
                          <a:xfrm flipH="1">
                            <a:off x="6993360" y="2705760"/>
                            <a:ext cx="3960" cy="13752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88" name="Line 246"/>
                          <p:cNvSpPr/>
                          <p:nvPr/>
                        </p:nvSpPr>
                        <p:spPr>
                          <a:xfrm flipH="1">
                            <a:off x="7084800" y="2708280"/>
                            <a:ext cx="3960" cy="13680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89" name="Line 247"/>
                          <p:cNvSpPr/>
                          <p:nvPr/>
                        </p:nvSpPr>
                        <p:spPr>
                          <a:xfrm flipH="1">
                            <a:off x="7183800" y="2700360"/>
                            <a:ext cx="360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990" name="Group 248"/>
                    <p:cNvGrpSpPr/>
                    <p:nvPr/>
                  </p:nvGrpSpPr>
                  <p:grpSpPr>
                    <a:xfrm>
                      <a:off x="6443280" y="2314440"/>
                      <a:ext cx="380880" cy="342720"/>
                      <a:chOff x="6443280" y="2314440"/>
                      <a:chExt cx="380880" cy="342720"/>
                    </a:xfrm>
                  </p:grpSpPr>
                  <p:sp>
                    <p:nvSpPr>
                      <p:cNvPr id="991" name="Oval 249"/>
                      <p:cNvSpPr/>
                      <p:nvPr/>
                    </p:nvSpPr>
                    <p:spPr>
                      <a:xfrm>
                        <a:off x="6443280" y="2314440"/>
                        <a:ext cx="380880" cy="34272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92" name="Text Box 250"/>
                      <p:cNvSpPr/>
                      <p:nvPr/>
                    </p:nvSpPr>
                    <p:spPr>
                      <a:xfrm>
                        <a:off x="6519240" y="2428560"/>
                        <a:ext cx="304560" cy="114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IF-2</a:t>
                        </a:r>
                        <a:endParaRPr b="0" lang="en-US" sz="12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93" name="Group 251"/>
                    <p:cNvGrpSpPr/>
                    <p:nvPr/>
                  </p:nvGrpSpPr>
                  <p:grpSpPr>
                    <a:xfrm>
                      <a:off x="5938920" y="1506240"/>
                      <a:ext cx="755280" cy="1176120"/>
                      <a:chOff x="5938920" y="1506240"/>
                      <a:chExt cx="755280" cy="1176120"/>
                    </a:xfrm>
                  </p:grpSpPr>
                  <p:grpSp>
                    <p:nvGrpSpPr>
                      <p:cNvPr id="994" name="Group 252"/>
                      <p:cNvGrpSpPr/>
                      <p:nvPr/>
                    </p:nvGrpSpPr>
                    <p:grpSpPr>
                      <a:xfrm>
                        <a:off x="5938920" y="1506240"/>
                        <a:ext cx="755280" cy="1176120"/>
                        <a:chOff x="5938920" y="1506240"/>
                        <a:chExt cx="755280" cy="1176120"/>
                      </a:xfrm>
                    </p:grpSpPr>
                    <p:grpSp>
                      <p:nvGrpSpPr>
                        <p:cNvPr id="995" name="Group 253"/>
                        <p:cNvGrpSpPr/>
                        <p:nvPr/>
                      </p:nvGrpSpPr>
                      <p:grpSpPr>
                        <a:xfrm>
                          <a:off x="5938920" y="1782360"/>
                          <a:ext cx="755280" cy="900000"/>
                          <a:chOff x="5938920" y="1782360"/>
                          <a:chExt cx="755280" cy="900000"/>
                        </a:xfrm>
                      </p:grpSpPr>
                      <p:grpSp>
                        <p:nvGrpSpPr>
                          <p:cNvPr id="996" name="Group 254"/>
                          <p:cNvGrpSpPr/>
                          <p:nvPr/>
                        </p:nvGrpSpPr>
                        <p:grpSpPr>
                          <a:xfrm>
                            <a:off x="6244560" y="2537640"/>
                            <a:ext cx="194760" cy="144720"/>
                            <a:chOff x="6244560" y="2537640"/>
                            <a:chExt cx="194760" cy="144720"/>
                          </a:xfrm>
                        </p:grpSpPr>
                        <p:sp>
                          <p:nvSpPr>
                            <p:cNvPr id="997" name="Line 255"/>
                            <p:cNvSpPr/>
                            <p:nvPr/>
                          </p:nvSpPr>
                          <p:spPr>
                            <a:xfrm flipH="1">
                              <a:off x="6244560" y="2542680"/>
                              <a:ext cx="4320" cy="137160"/>
                            </a:xfrm>
                            <a:prstGeom prst="line">
                              <a:avLst/>
                            </a:prstGeom>
                            <a:ln w="507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998" name="Line 256"/>
                            <p:cNvSpPr/>
                            <p:nvPr/>
                          </p:nvSpPr>
                          <p:spPr>
                            <a:xfrm flipH="1">
                              <a:off x="6336720" y="2545200"/>
                              <a:ext cx="3600" cy="137160"/>
                            </a:xfrm>
                            <a:prstGeom prst="line">
                              <a:avLst/>
                            </a:prstGeom>
                            <a:ln w="507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999" name="Line 257"/>
                            <p:cNvSpPr/>
                            <p:nvPr/>
                          </p:nvSpPr>
                          <p:spPr>
                            <a:xfrm flipH="1">
                              <a:off x="6435000" y="2537640"/>
                              <a:ext cx="4320" cy="136800"/>
                            </a:xfrm>
                            <a:prstGeom prst="line">
                              <a:avLst/>
                            </a:prstGeom>
                            <a:ln w="507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000" name="Freeform 258"/>
                          <p:cNvSpPr/>
                          <p:nvPr/>
                        </p:nvSpPr>
                        <p:spPr>
                          <a:xfrm rot="3659400">
                            <a:off x="5967000" y="1964880"/>
                            <a:ext cx="698400" cy="476280"/>
                          </a:xfrm>
                          <a:custGeom>
                            <a:avLst/>
                            <a:gdLst>
                              <a:gd name="textAreaLeft" fmla="*/ 0 w 698400"/>
                              <a:gd name="textAreaRight" fmla="*/ 698400 w 698400"/>
                              <a:gd name="textAreaTop" fmla="*/ 0 h 476280"/>
                              <a:gd name="textAreaBottom" fmla="*/ 476640 h 476280"/>
                            </a:gdLst>
                            <a:ahLst/>
                            <a:rect l="textAreaLeft" t="textAreaTop" r="textAreaRight" b="textAreaBottom"/>
                            <a:pathLst>
                              <a:path w="1400" h="1110">
                                <a:moveTo>
                                  <a:pt x="140" y="390"/>
                                </a:moveTo>
                                <a:cubicBezTo>
                                  <a:pt x="210" y="480"/>
                                  <a:pt x="280" y="570"/>
                                  <a:pt x="380" y="570"/>
                                </a:cubicBezTo>
                                <a:cubicBezTo>
                                  <a:pt x="480" y="570"/>
                                  <a:pt x="620" y="420"/>
                                  <a:pt x="740" y="390"/>
                                </a:cubicBezTo>
                                <a:cubicBezTo>
                                  <a:pt x="860" y="360"/>
                                  <a:pt x="1000" y="360"/>
                                  <a:pt x="1100" y="390"/>
                                </a:cubicBezTo>
                                <a:cubicBezTo>
                                  <a:pt x="1200" y="420"/>
                                  <a:pt x="1300" y="480"/>
                                  <a:pt x="1340" y="570"/>
                                </a:cubicBezTo>
                                <a:cubicBezTo>
                                  <a:pt x="1380" y="660"/>
                                  <a:pt x="1400" y="840"/>
                                  <a:pt x="1340" y="930"/>
                                </a:cubicBezTo>
                                <a:cubicBezTo>
                                  <a:pt x="1280" y="1020"/>
                                  <a:pt x="1100" y="1110"/>
                                  <a:pt x="980" y="1110"/>
                                </a:cubicBezTo>
                                <a:cubicBezTo>
                                  <a:pt x="860" y="1110"/>
                                  <a:pt x="700" y="990"/>
                                  <a:pt x="620" y="930"/>
                                </a:cubicBezTo>
                                <a:cubicBezTo>
                                  <a:pt x="540" y="870"/>
                                  <a:pt x="540" y="840"/>
                                  <a:pt x="500" y="750"/>
                                </a:cubicBezTo>
                                <a:cubicBezTo>
                                  <a:pt x="460" y="660"/>
                                  <a:pt x="400" y="480"/>
                                  <a:pt x="380" y="390"/>
                                </a:cubicBezTo>
                                <a:cubicBezTo>
                                  <a:pt x="360" y="300"/>
                                  <a:pt x="400" y="270"/>
                                  <a:pt x="380" y="210"/>
                                </a:cubicBezTo>
                                <a:cubicBezTo>
                                  <a:pt x="360" y="150"/>
                                  <a:pt x="320" y="60"/>
                                  <a:pt x="260" y="30"/>
                                </a:cubicBezTo>
                                <a:cubicBezTo>
                                  <a:pt x="200" y="0"/>
                                  <a:pt x="40" y="30"/>
                                  <a:pt x="20" y="30"/>
                                </a:cubicBezTo>
                                <a:cubicBezTo>
                                  <a:pt x="0" y="30"/>
                                  <a:pt x="70" y="30"/>
                                  <a:pt x="140" y="30"/>
                                </a:cubicBezTo>
                              </a:path>
                            </a:pathLst>
                          </a:custGeom>
                          <a:noFill/>
                          <a:ln w="507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001" name="Oval 259"/>
                        <p:cNvSpPr/>
                        <p:nvPr/>
                      </p:nvSpPr>
                      <p:spPr>
                        <a:xfrm rot="1331400">
                          <a:off x="6001920" y="1569600"/>
                          <a:ext cx="380880" cy="228600"/>
                        </a:xfrm>
                        <a:prstGeom prst="ellipse">
                          <a:avLst/>
                        </a:prstGeom>
                        <a:solidFill>
                          <a:srgbClr val="c0c0c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002" name="Text Box 260"/>
                      <p:cNvSpPr/>
                      <p:nvPr/>
                    </p:nvSpPr>
                    <p:spPr>
                      <a:xfrm>
                        <a:off x="6062040" y="1628640"/>
                        <a:ext cx="304560" cy="114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fMet</a:t>
                        </a:r>
                        <a:endParaRPr b="0" lang="en-US" sz="9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03" name="Text Box 261"/>
                      <p:cNvSpPr/>
                      <p:nvPr/>
                    </p:nvSpPr>
                    <p:spPr>
                      <a:xfrm>
                        <a:off x="6143400" y="2314440"/>
                        <a:ext cx="403200" cy="1850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1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UAC</a:t>
                        </a:r>
                        <a:endParaRPr b="0" lang="en-US" sz="11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004" name="Text Box 262"/>
                  <p:cNvSpPr/>
                  <p:nvPr/>
                </p:nvSpPr>
                <p:spPr>
                  <a:xfrm>
                    <a:off x="6824160" y="2428920"/>
                    <a:ext cx="457200" cy="11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1100" spc="-1" strike="noStrike">
                        <a:solidFill>
                          <a:srgbClr val="000000"/>
                        </a:solidFill>
                        <a:latin typeface="Arial"/>
                      </a:rPr>
                      <a:t>GTP</a:t>
                    </a:r>
                    <a:endParaRPr b="0" lang="en-US" sz="11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" name="Line 263"/>
                  <p:cNvSpPr/>
                  <p:nvPr/>
                </p:nvSpPr>
                <p:spPr>
                  <a:xfrm>
                    <a:off x="6824160" y="2472120"/>
                    <a:ext cx="76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6" name="Group 264"/>
                <p:cNvGrpSpPr/>
                <p:nvPr/>
              </p:nvGrpSpPr>
              <p:grpSpPr>
                <a:xfrm>
                  <a:off x="5113440" y="3399480"/>
                  <a:ext cx="2625480" cy="921960"/>
                  <a:chOff x="5113440" y="3399480"/>
                  <a:chExt cx="2625480" cy="921960"/>
                </a:xfrm>
              </p:grpSpPr>
              <p:grpSp>
                <p:nvGrpSpPr>
                  <p:cNvPr id="1007" name="Group 265"/>
                  <p:cNvGrpSpPr/>
                  <p:nvPr/>
                </p:nvGrpSpPr>
                <p:grpSpPr>
                  <a:xfrm>
                    <a:off x="6900840" y="3978360"/>
                    <a:ext cx="380880" cy="343080"/>
                    <a:chOff x="6900840" y="3978360"/>
                    <a:chExt cx="380880" cy="343080"/>
                  </a:xfrm>
                </p:grpSpPr>
                <p:sp>
                  <p:nvSpPr>
                    <p:cNvPr id="1008" name="Oval 266"/>
                    <p:cNvSpPr/>
                    <p:nvPr/>
                  </p:nvSpPr>
                  <p:spPr>
                    <a:xfrm>
                      <a:off x="6900840" y="3978360"/>
                      <a:ext cx="380880" cy="34308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9" name="Text Box 267"/>
                    <p:cNvSpPr/>
                    <p:nvPr/>
                  </p:nvSpPr>
                  <p:spPr>
                    <a:xfrm>
                      <a:off x="6976800" y="4092840"/>
                      <a:ext cx="304560" cy="114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-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0" name="Group 268"/>
                  <p:cNvGrpSpPr/>
                  <p:nvPr/>
                </p:nvGrpSpPr>
                <p:grpSpPr>
                  <a:xfrm>
                    <a:off x="7358040" y="3978360"/>
                    <a:ext cx="380880" cy="343080"/>
                    <a:chOff x="7358040" y="3978360"/>
                    <a:chExt cx="380880" cy="343080"/>
                  </a:xfrm>
                </p:grpSpPr>
                <p:sp>
                  <p:nvSpPr>
                    <p:cNvPr id="1011" name="Oval 269"/>
                    <p:cNvSpPr/>
                    <p:nvPr/>
                  </p:nvSpPr>
                  <p:spPr>
                    <a:xfrm>
                      <a:off x="7358040" y="3978360"/>
                      <a:ext cx="380880" cy="34308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2" name="Text Box 270"/>
                    <p:cNvSpPr/>
                    <p:nvPr/>
                  </p:nvSpPr>
                  <p:spPr>
                    <a:xfrm>
                      <a:off x="7434000" y="4092480"/>
                      <a:ext cx="304560" cy="114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-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3" name="Group 271"/>
                  <p:cNvGrpSpPr/>
                  <p:nvPr/>
                </p:nvGrpSpPr>
                <p:grpSpPr>
                  <a:xfrm>
                    <a:off x="6443640" y="3978360"/>
                    <a:ext cx="380880" cy="343080"/>
                    <a:chOff x="6443640" y="3978360"/>
                    <a:chExt cx="380880" cy="343080"/>
                  </a:xfrm>
                </p:grpSpPr>
                <p:sp>
                  <p:nvSpPr>
                    <p:cNvPr id="1014" name="Oval 272"/>
                    <p:cNvSpPr/>
                    <p:nvPr/>
                  </p:nvSpPr>
                  <p:spPr>
                    <a:xfrm>
                      <a:off x="6443640" y="3978360"/>
                      <a:ext cx="380880" cy="34308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5" name="Text Box 273"/>
                    <p:cNvSpPr/>
                    <p:nvPr/>
                  </p:nvSpPr>
                  <p:spPr>
                    <a:xfrm>
                      <a:off x="6519600" y="4092840"/>
                      <a:ext cx="304560" cy="114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-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16" name="Text Box 274"/>
                  <p:cNvSpPr/>
                  <p:nvPr/>
                </p:nvSpPr>
                <p:spPr>
                  <a:xfrm>
                    <a:off x="5113440" y="3406680"/>
                    <a:ext cx="873000" cy="37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Subunidad 50S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17" name="Group 275"/>
                  <p:cNvGrpSpPr/>
                  <p:nvPr/>
                </p:nvGrpSpPr>
                <p:grpSpPr>
                  <a:xfrm>
                    <a:off x="5897520" y="3399480"/>
                    <a:ext cx="651240" cy="807480"/>
                    <a:chOff x="5897520" y="3399480"/>
                    <a:chExt cx="651240" cy="807480"/>
                  </a:xfrm>
                </p:grpSpPr>
                <p:sp>
                  <p:nvSpPr>
                    <p:cNvPr id="1018" name="Arc 276"/>
                    <p:cNvSpPr/>
                    <p:nvPr/>
                  </p:nvSpPr>
                  <p:spPr>
                    <a:xfrm flipV="1" rot="16349400">
                      <a:off x="5782320" y="3646800"/>
                      <a:ext cx="559440" cy="305280"/>
                    </a:xfrm>
                    <a:custGeom>
                      <a:avLst/>
                      <a:gdLst>
                        <a:gd name="textAreaLeft" fmla="*/ 0 w 559440"/>
                        <a:gd name="textAreaRight" fmla="*/ 559800 w 559440"/>
                        <a:gd name="textAreaTop" fmla="*/ 360 h 305280"/>
                        <a:gd name="textAreaBottom" fmla="*/ 306000 h 305280"/>
                      </a:gdLst>
                      <a:ahLst/>
                      <a:rect l="textAreaLeft" t="textAreaTop" r="textAreaRight" b="textAreaBottom"/>
                      <a:pathLst>
                        <a:path fill="none" w="21600" h="17104">
                          <a:moveTo>
                            <a:pt x="13191" y="0"/>
                          </a:moveTo>
                          <a:cubicBezTo>
                            <a:pt x="18494" y="4089"/>
                            <a:pt x="21600" y="10407"/>
                            <a:pt x="21600" y="17104"/>
                          </a:cubicBezTo>
                        </a:path>
                        <a:path stroke="0" w="21600" h="17104">
                          <a:moveTo>
                            <a:pt x="13191" y="0"/>
                          </a:moveTo>
                          <a:cubicBezTo>
                            <a:pt x="18494" y="4089"/>
                            <a:pt x="21600" y="10407"/>
                            <a:pt x="21600" y="17104"/>
                          </a:cubicBezTo>
                          <a:lnTo>
                            <a:pt x="0" y="17104"/>
                          </a:lnTo>
                          <a:lnTo>
                            <a:pt x="13191" y="0"/>
                          </a:lnTo>
                          <a:close/>
                        </a:path>
                      </a:pathLst>
                    </a:custGeom>
                    <a:noFill/>
                    <a:ln w="158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9" name="Line 277"/>
                    <p:cNvSpPr/>
                    <p:nvPr/>
                  </p:nvSpPr>
                  <p:spPr>
                    <a:xfrm flipH="1">
                      <a:off x="6214680" y="3520800"/>
                      <a:ext cx="360" cy="68616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0" name="Arc 278"/>
                    <p:cNvSpPr/>
                    <p:nvPr/>
                  </p:nvSpPr>
                  <p:spPr>
                    <a:xfrm flipV="1" rot="4930200">
                      <a:off x="6137640" y="3487680"/>
                      <a:ext cx="445320" cy="304920"/>
                    </a:xfrm>
                    <a:custGeom>
                      <a:avLst/>
                      <a:gdLst>
                        <a:gd name="textAreaLeft" fmla="*/ 0 w 445320"/>
                        <a:gd name="textAreaRight" fmla="*/ 445680 w 445320"/>
                        <a:gd name="textAreaTop" fmla="*/ -360 h 304920"/>
                        <a:gd name="textAreaBottom" fmla="*/ 304920 h 304920"/>
                      </a:gdLst>
                      <a:ahLst/>
                      <a:rect l="textAreaLeft" t="textAreaTop" r="textAreaRight" b="textAreaBottom"/>
                      <a:pathLst>
                        <a:path fill="none" w="20443" h="17104">
                          <a:moveTo>
                            <a:pt x="13191" y="0"/>
                          </a:moveTo>
                          <a:cubicBezTo>
                            <a:pt x="16551" y="2591"/>
                            <a:pt x="19073" y="6115"/>
                            <a:pt x="20443" y="10130"/>
                          </a:cubicBezTo>
                        </a:path>
                        <a:path stroke="0" w="20443" h="17104">
                          <a:moveTo>
                            <a:pt x="13191" y="0"/>
                          </a:moveTo>
                          <a:cubicBezTo>
                            <a:pt x="16551" y="2591"/>
                            <a:pt x="19073" y="6115"/>
                            <a:pt x="20443" y="10130"/>
                          </a:cubicBezTo>
                          <a:lnTo>
                            <a:pt x="0" y="17104"/>
                          </a:lnTo>
                          <a:lnTo>
                            <a:pt x="13191" y="0"/>
                          </a:lnTo>
                          <a:close/>
                        </a:path>
                      </a:pathLst>
                    </a:custGeom>
                    <a:noFill/>
                    <a:ln w="15840">
                      <a:solidFill>
                        <a:srgbClr val="000000"/>
                      </a:solidFill>
                      <a:round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1" name="Arc 279"/>
                    <p:cNvSpPr/>
                    <p:nvPr/>
                  </p:nvSpPr>
                  <p:spPr>
                    <a:xfrm flipV="1" rot="4930200">
                      <a:off x="6144840" y="3716640"/>
                      <a:ext cx="445320" cy="304560"/>
                    </a:xfrm>
                    <a:custGeom>
                      <a:avLst/>
                      <a:gdLst>
                        <a:gd name="textAreaLeft" fmla="*/ 0 w 445320"/>
                        <a:gd name="textAreaRight" fmla="*/ 445680 w 445320"/>
                        <a:gd name="textAreaTop" fmla="*/ 360 h 304560"/>
                        <a:gd name="textAreaBottom" fmla="*/ 305280 h 304560"/>
                      </a:gdLst>
                      <a:ahLst/>
                      <a:rect l="textAreaLeft" t="textAreaTop" r="textAreaRight" b="textAreaBottom"/>
                      <a:pathLst>
                        <a:path fill="none" w="20443" h="17104">
                          <a:moveTo>
                            <a:pt x="13191" y="0"/>
                          </a:moveTo>
                          <a:cubicBezTo>
                            <a:pt x="16551" y="2591"/>
                            <a:pt x="19073" y="6115"/>
                            <a:pt x="20443" y="10130"/>
                          </a:cubicBezTo>
                        </a:path>
                        <a:path stroke="0" w="20443" h="17104">
                          <a:moveTo>
                            <a:pt x="13191" y="0"/>
                          </a:moveTo>
                          <a:cubicBezTo>
                            <a:pt x="16551" y="2591"/>
                            <a:pt x="19073" y="6115"/>
                            <a:pt x="20443" y="10130"/>
                          </a:cubicBezTo>
                          <a:lnTo>
                            <a:pt x="0" y="17104"/>
                          </a:lnTo>
                          <a:lnTo>
                            <a:pt x="13191" y="0"/>
                          </a:lnTo>
                          <a:close/>
                        </a:path>
                      </a:pathLst>
                    </a:custGeom>
                    <a:noFill/>
                    <a:ln w="15840">
                      <a:solidFill>
                        <a:srgbClr val="000000"/>
                      </a:solidFill>
                      <a:round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22" name="Text Box 280"/>
                  <p:cNvSpPr/>
                  <p:nvPr/>
                </p:nvSpPr>
                <p:spPr>
                  <a:xfrm>
                    <a:off x="6367320" y="3789000"/>
                    <a:ext cx="784080" cy="65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GDP + Pi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23" name="AutoShape 281"/>
              <p:cNvSpPr/>
              <p:nvPr/>
            </p:nvSpPr>
            <p:spPr>
              <a:xfrm>
                <a:off x="7524720" y="1484280"/>
                <a:ext cx="142920" cy="1873440"/>
              </a:xfrm>
              <a:custGeom>
                <a:avLst/>
                <a:gdLst>
                  <a:gd name="textAreaLeft" fmla="*/ 0 w 142920"/>
                  <a:gd name="textAreaRight" fmla="*/ 51480 w 142920"/>
                  <a:gd name="textAreaTop" fmla="*/ 48600 h 1873440"/>
                  <a:gd name="textAreaBottom" fmla="*/ 1824840 h 1873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AutoShape 282"/>
              <p:cNvSpPr/>
              <p:nvPr/>
            </p:nvSpPr>
            <p:spPr>
              <a:xfrm>
                <a:off x="7740720" y="4653000"/>
                <a:ext cx="142920" cy="1297080"/>
              </a:xfrm>
              <a:custGeom>
                <a:avLst/>
                <a:gdLst>
                  <a:gd name="textAreaLeft" fmla="*/ 0 w 142920"/>
                  <a:gd name="textAreaRight" fmla="*/ 51480 w 142920"/>
                  <a:gd name="textAreaTop" fmla="*/ 33480 h 1297080"/>
                  <a:gd name="textAreaBottom" fmla="*/ 1263600 h 1297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Text Box 283"/>
              <p:cNvSpPr/>
              <p:nvPr/>
            </p:nvSpPr>
            <p:spPr>
              <a:xfrm>
                <a:off x="7604640" y="2027160"/>
                <a:ext cx="115920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s-ES" sz="1600" spc="-1" strike="noStrike">
                    <a:solidFill>
                      <a:srgbClr val="3333cc"/>
                    </a:solidFill>
                    <a:latin typeface="Arial"/>
                  </a:rPr>
                  <a:t>Complejo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s-ES" sz="1600" spc="-1" strike="noStrike">
                    <a:solidFill>
                      <a:srgbClr val="3333cc"/>
                    </a:solidFill>
                    <a:latin typeface="Arial"/>
                  </a:rPr>
                  <a:t>d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s-ES" sz="1600" spc="-1" strike="noStrike">
                    <a:solidFill>
                      <a:srgbClr val="3333cc"/>
                    </a:solidFill>
                    <a:latin typeface="Arial"/>
                  </a:rPr>
                  <a:t>Iniciació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s-ES" sz="1600" spc="-1" strike="noStrike">
                    <a:solidFill>
                      <a:srgbClr val="3333cc"/>
                    </a:solidFill>
                    <a:latin typeface="Arial"/>
                  </a:rPr>
                  <a:t>30 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Text Box 284"/>
              <p:cNvSpPr/>
              <p:nvPr/>
            </p:nvSpPr>
            <p:spPr>
              <a:xfrm>
                <a:off x="7842600" y="4741920"/>
                <a:ext cx="115920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s-ES" sz="1600" spc="-1" strike="noStrike">
                    <a:solidFill>
                      <a:srgbClr val="3333cc"/>
                    </a:solidFill>
                    <a:latin typeface="Arial"/>
                  </a:rPr>
                  <a:t>Complejo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s-ES" sz="1600" spc="-1" strike="noStrike">
                    <a:solidFill>
                      <a:srgbClr val="3333cc"/>
                    </a:solidFill>
                    <a:latin typeface="Arial"/>
                  </a:rPr>
                  <a:t>d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s-ES" sz="1600" spc="-1" strike="noStrike">
                    <a:solidFill>
                      <a:srgbClr val="3333cc"/>
                    </a:solidFill>
                    <a:latin typeface="Arial"/>
                  </a:rPr>
                  <a:t>Iniciació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s-ES" sz="1600" spc="-1" strike="noStrike">
                    <a:solidFill>
                      <a:srgbClr val="3333cc"/>
                    </a:solidFill>
                    <a:latin typeface="Arial"/>
                  </a:rPr>
                  <a:t>70 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7" name="Text Box 285"/>
            <p:cNvSpPr/>
            <p:nvPr/>
          </p:nvSpPr>
          <p:spPr>
            <a:xfrm>
              <a:off x="5529960" y="1484280"/>
              <a:ext cx="554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Text Box 286"/>
            <p:cNvSpPr/>
            <p:nvPr/>
          </p:nvSpPr>
          <p:spPr>
            <a:xfrm>
              <a:off x="5529960" y="4149720"/>
              <a:ext cx="554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9" name="Grupo 1"/>
          <p:cNvGrpSpPr/>
          <p:nvPr/>
        </p:nvGrpSpPr>
        <p:grpSpPr>
          <a:xfrm>
            <a:off x="179280" y="1917360"/>
            <a:ext cx="2057400" cy="143280"/>
            <a:chOff x="179280" y="1917360"/>
            <a:chExt cx="2057400" cy="143280"/>
          </a:xfrm>
        </p:grpSpPr>
        <p:sp>
          <p:nvSpPr>
            <p:cNvPr id="1030" name="Line 243"/>
            <p:cNvSpPr/>
            <p:nvPr/>
          </p:nvSpPr>
          <p:spPr>
            <a:xfrm>
              <a:off x="179280" y="2060640"/>
              <a:ext cx="2057400" cy="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Line 247"/>
            <p:cNvSpPr/>
            <p:nvPr/>
          </p:nvSpPr>
          <p:spPr>
            <a:xfrm flipH="1">
              <a:off x="313560" y="1917360"/>
              <a:ext cx="3240" cy="136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Line 247"/>
            <p:cNvSpPr/>
            <p:nvPr/>
          </p:nvSpPr>
          <p:spPr>
            <a:xfrm flipH="1">
              <a:off x="385560" y="1917360"/>
              <a:ext cx="3240" cy="136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Line 247"/>
            <p:cNvSpPr/>
            <p:nvPr/>
          </p:nvSpPr>
          <p:spPr>
            <a:xfrm flipH="1">
              <a:off x="457560" y="1917360"/>
              <a:ext cx="3240" cy="136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Line 247"/>
            <p:cNvSpPr/>
            <p:nvPr/>
          </p:nvSpPr>
          <p:spPr>
            <a:xfrm flipH="1">
              <a:off x="609840" y="1917360"/>
              <a:ext cx="3240" cy="136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Line 247"/>
            <p:cNvSpPr/>
            <p:nvPr/>
          </p:nvSpPr>
          <p:spPr>
            <a:xfrm flipH="1">
              <a:off x="673560" y="1917360"/>
              <a:ext cx="3240" cy="136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Line 247"/>
            <p:cNvSpPr/>
            <p:nvPr/>
          </p:nvSpPr>
          <p:spPr>
            <a:xfrm flipH="1">
              <a:off x="745560" y="1917360"/>
              <a:ext cx="3240" cy="136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Line 247"/>
            <p:cNvSpPr/>
            <p:nvPr/>
          </p:nvSpPr>
          <p:spPr>
            <a:xfrm flipH="1">
              <a:off x="897840" y="1917360"/>
              <a:ext cx="3240" cy="136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Line 247"/>
            <p:cNvSpPr/>
            <p:nvPr/>
          </p:nvSpPr>
          <p:spPr>
            <a:xfrm flipH="1">
              <a:off x="961560" y="1917360"/>
              <a:ext cx="3240" cy="136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Line 247"/>
            <p:cNvSpPr/>
            <p:nvPr/>
          </p:nvSpPr>
          <p:spPr>
            <a:xfrm flipH="1">
              <a:off x="1033560" y="1917360"/>
              <a:ext cx="3240" cy="136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Line 247"/>
            <p:cNvSpPr/>
            <p:nvPr/>
          </p:nvSpPr>
          <p:spPr>
            <a:xfrm flipH="1">
              <a:off x="1186200" y="1917360"/>
              <a:ext cx="3240" cy="136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Line 247"/>
            <p:cNvSpPr/>
            <p:nvPr/>
          </p:nvSpPr>
          <p:spPr>
            <a:xfrm flipH="1">
              <a:off x="1249560" y="1917360"/>
              <a:ext cx="3240" cy="136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Line 247"/>
            <p:cNvSpPr/>
            <p:nvPr/>
          </p:nvSpPr>
          <p:spPr>
            <a:xfrm flipH="1">
              <a:off x="1321920" y="1917360"/>
              <a:ext cx="3240" cy="136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Line 247"/>
            <p:cNvSpPr/>
            <p:nvPr/>
          </p:nvSpPr>
          <p:spPr>
            <a:xfrm flipH="1">
              <a:off x="1474200" y="1917360"/>
              <a:ext cx="3240" cy="136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Line 247"/>
            <p:cNvSpPr/>
            <p:nvPr/>
          </p:nvSpPr>
          <p:spPr>
            <a:xfrm flipH="1">
              <a:off x="1553760" y="1917360"/>
              <a:ext cx="3240" cy="136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Line 247"/>
            <p:cNvSpPr/>
            <p:nvPr/>
          </p:nvSpPr>
          <p:spPr>
            <a:xfrm flipH="1">
              <a:off x="1625760" y="1917360"/>
              <a:ext cx="3240" cy="136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6" name="Rectángulo 1"/>
          <p:cNvSpPr/>
          <p:nvPr/>
        </p:nvSpPr>
        <p:spPr>
          <a:xfrm>
            <a:off x="547560" y="3381480"/>
            <a:ext cx="3664080" cy="13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Rectángulo 304"/>
          <p:cNvSpPr/>
          <p:nvPr/>
        </p:nvSpPr>
        <p:spPr>
          <a:xfrm>
            <a:off x="547560" y="4689360"/>
            <a:ext cx="3664080" cy="19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Rectángulo 305"/>
          <p:cNvSpPr/>
          <p:nvPr/>
        </p:nvSpPr>
        <p:spPr>
          <a:xfrm>
            <a:off x="5156280" y="1449360"/>
            <a:ext cx="3663720" cy="19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Rectángulo 306"/>
          <p:cNvSpPr/>
          <p:nvPr/>
        </p:nvSpPr>
        <p:spPr>
          <a:xfrm>
            <a:off x="4960800" y="3419640"/>
            <a:ext cx="4002120" cy="290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CuadroTexto 2"/>
          <p:cNvSpPr/>
          <p:nvPr/>
        </p:nvSpPr>
        <p:spPr>
          <a:xfrm>
            <a:off x="393120" y="637236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IF: factor de inici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79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84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89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94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2"/>
          <p:cNvSpPr/>
          <p:nvPr/>
        </p:nvSpPr>
        <p:spPr>
          <a:xfrm>
            <a:off x="4044960" y="111240"/>
            <a:ext cx="5292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Traducción de Proteínas. Alargamiento de la cadena peptídic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2" name="Group 310"/>
          <p:cNvGrpSpPr/>
          <p:nvPr/>
        </p:nvGrpSpPr>
        <p:grpSpPr>
          <a:xfrm>
            <a:off x="-181080" y="115920"/>
            <a:ext cx="5689800" cy="6375240"/>
            <a:chOff x="-181080" y="115920"/>
            <a:chExt cx="5689800" cy="6375240"/>
          </a:xfrm>
        </p:grpSpPr>
        <p:grpSp>
          <p:nvGrpSpPr>
            <p:cNvPr id="1053" name="Group 54"/>
            <p:cNvGrpSpPr/>
            <p:nvPr/>
          </p:nvGrpSpPr>
          <p:grpSpPr>
            <a:xfrm>
              <a:off x="1380960" y="1080720"/>
              <a:ext cx="4059000" cy="3707280"/>
              <a:chOff x="1380960" y="1080720"/>
              <a:chExt cx="4059000" cy="3707280"/>
            </a:xfrm>
          </p:grpSpPr>
          <p:grpSp>
            <p:nvGrpSpPr>
              <p:cNvPr id="1054" name="Group 55"/>
              <p:cNvGrpSpPr/>
              <p:nvPr/>
            </p:nvGrpSpPr>
            <p:grpSpPr>
              <a:xfrm>
                <a:off x="3552840" y="1080720"/>
                <a:ext cx="1666440" cy="1235880"/>
                <a:chOff x="3552840" y="1080720"/>
                <a:chExt cx="1666440" cy="1235880"/>
              </a:xfrm>
            </p:grpSpPr>
            <p:grpSp>
              <p:nvGrpSpPr>
                <p:cNvPr id="1055" name="Group 56"/>
                <p:cNvGrpSpPr/>
                <p:nvPr/>
              </p:nvGrpSpPr>
              <p:grpSpPr>
                <a:xfrm>
                  <a:off x="4195440" y="1080720"/>
                  <a:ext cx="1023840" cy="1235880"/>
                  <a:chOff x="4195440" y="1080720"/>
                  <a:chExt cx="1023840" cy="1235880"/>
                </a:xfrm>
              </p:grpSpPr>
              <p:grpSp>
                <p:nvGrpSpPr>
                  <p:cNvPr id="1056" name="Group 57"/>
                  <p:cNvGrpSpPr/>
                  <p:nvPr/>
                </p:nvGrpSpPr>
                <p:grpSpPr>
                  <a:xfrm>
                    <a:off x="4195440" y="1288080"/>
                    <a:ext cx="1023840" cy="1028520"/>
                    <a:chOff x="4195440" y="1288080"/>
                    <a:chExt cx="1023840" cy="1028520"/>
                  </a:xfrm>
                </p:grpSpPr>
                <p:grpSp>
                  <p:nvGrpSpPr>
                    <p:cNvPr id="1057" name="Group 58"/>
                    <p:cNvGrpSpPr/>
                    <p:nvPr/>
                  </p:nvGrpSpPr>
                  <p:grpSpPr>
                    <a:xfrm>
                      <a:off x="4594320" y="2162160"/>
                      <a:ext cx="303480" cy="154440"/>
                      <a:chOff x="4594320" y="2162160"/>
                      <a:chExt cx="303480" cy="154440"/>
                    </a:xfrm>
                  </p:grpSpPr>
                  <p:sp>
                    <p:nvSpPr>
                      <p:cNvPr id="1058" name="Line 59"/>
                      <p:cNvSpPr/>
                      <p:nvPr/>
                    </p:nvSpPr>
                    <p:spPr>
                      <a:xfrm flipH="1">
                        <a:off x="4594320" y="2167200"/>
                        <a:ext cx="9360" cy="14580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59" name="Line 60"/>
                      <p:cNvSpPr/>
                      <p:nvPr/>
                    </p:nvSpPr>
                    <p:spPr>
                      <a:xfrm flipH="1">
                        <a:off x="4735080" y="2170440"/>
                        <a:ext cx="10080" cy="14616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60" name="Line 61"/>
                      <p:cNvSpPr/>
                      <p:nvPr/>
                    </p:nvSpPr>
                    <p:spPr>
                      <a:xfrm flipH="1">
                        <a:off x="4888440" y="2162160"/>
                        <a:ext cx="9360" cy="14616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061" name="Freeform 62"/>
                    <p:cNvSpPr/>
                    <p:nvPr/>
                  </p:nvSpPr>
                  <p:spPr>
                    <a:xfrm rot="3660000">
                      <a:off x="4328640" y="1425600"/>
                      <a:ext cx="757080" cy="750600"/>
                    </a:xfrm>
                    <a:custGeom>
                      <a:avLst/>
                      <a:gdLst>
                        <a:gd name="textAreaLeft" fmla="*/ 0 w 757080"/>
                        <a:gd name="textAreaRight" fmla="*/ 757440 w 757080"/>
                        <a:gd name="textAreaTop" fmla="*/ 0 h 750600"/>
                        <a:gd name="textAreaBottom" fmla="*/ 750960 h 750600"/>
                      </a:gdLst>
                      <a:ahLst/>
                      <a:rect l="textAreaLeft" t="textAreaTop" r="textAreaRight" b="textAreaBottom"/>
                      <a:pathLst>
                        <a:path w="1400" h="1110">
                          <a:moveTo>
                            <a:pt x="140" y="390"/>
                          </a:moveTo>
                          <a:cubicBezTo>
                            <a:pt x="210" y="480"/>
                            <a:pt x="280" y="570"/>
                            <a:pt x="380" y="570"/>
                          </a:cubicBezTo>
                          <a:cubicBezTo>
                            <a:pt x="480" y="570"/>
                            <a:pt x="620" y="420"/>
                            <a:pt x="740" y="390"/>
                          </a:cubicBezTo>
                          <a:cubicBezTo>
                            <a:pt x="860" y="360"/>
                            <a:pt x="1000" y="360"/>
                            <a:pt x="1100" y="390"/>
                          </a:cubicBezTo>
                          <a:cubicBezTo>
                            <a:pt x="1200" y="420"/>
                            <a:pt x="1300" y="480"/>
                            <a:pt x="1340" y="570"/>
                          </a:cubicBezTo>
                          <a:cubicBezTo>
                            <a:pt x="1380" y="660"/>
                            <a:pt x="1400" y="840"/>
                            <a:pt x="1340" y="930"/>
                          </a:cubicBezTo>
                          <a:cubicBezTo>
                            <a:pt x="1280" y="1020"/>
                            <a:pt x="1100" y="1110"/>
                            <a:pt x="980" y="1110"/>
                          </a:cubicBezTo>
                          <a:cubicBezTo>
                            <a:pt x="860" y="1110"/>
                            <a:pt x="700" y="990"/>
                            <a:pt x="620" y="930"/>
                          </a:cubicBezTo>
                          <a:cubicBezTo>
                            <a:pt x="540" y="870"/>
                            <a:pt x="540" y="840"/>
                            <a:pt x="500" y="750"/>
                          </a:cubicBezTo>
                          <a:cubicBezTo>
                            <a:pt x="460" y="660"/>
                            <a:pt x="400" y="480"/>
                            <a:pt x="380" y="390"/>
                          </a:cubicBezTo>
                          <a:cubicBezTo>
                            <a:pt x="360" y="300"/>
                            <a:pt x="400" y="270"/>
                            <a:pt x="380" y="210"/>
                          </a:cubicBezTo>
                          <a:cubicBezTo>
                            <a:pt x="360" y="150"/>
                            <a:pt x="320" y="60"/>
                            <a:pt x="260" y="30"/>
                          </a:cubicBezTo>
                          <a:cubicBezTo>
                            <a:pt x="200" y="0"/>
                            <a:pt x="40" y="30"/>
                            <a:pt x="20" y="30"/>
                          </a:cubicBezTo>
                          <a:cubicBezTo>
                            <a:pt x="0" y="30"/>
                            <a:pt x="70" y="30"/>
                            <a:pt x="140" y="30"/>
                          </a:cubicBezTo>
                        </a:path>
                      </a:pathLst>
                    </a:custGeom>
                    <a:noFill/>
                    <a:ln w="507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62" name="Group 63"/>
                  <p:cNvGrpSpPr/>
                  <p:nvPr/>
                </p:nvGrpSpPr>
                <p:grpSpPr>
                  <a:xfrm>
                    <a:off x="4312080" y="1080720"/>
                    <a:ext cx="536760" cy="490320"/>
                    <a:chOff x="4312080" y="1080720"/>
                    <a:chExt cx="536760" cy="490320"/>
                  </a:xfrm>
                </p:grpSpPr>
                <p:sp>
                  <p:nvSpPr>
                    <p:cNvPr id="1063" name="Oval 64"/>
                    <p:cNvSpPr/>
                    <p:nvPr/>
                  </p:nvSpPr>
                  <p:spPr>
                    <a:xfrm rot="1320000">
                      <a:off x="4362120" y="1149480"/>
                      <a:ext cx="436320" cy="35244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4" name="Text Box 65"/>
                    <p:cNvSpPr/>
                    <p:nvPr/>
                  </p:nvSpPr>
                  <p:spPr>
                    <a:xfrm>
                      <a:off x="4431240" y="1243080"/>
                      <a:ext cx="349200" cy="174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rm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5" name="Text Box 66"/>
                  <p:cNvSpPr/>
                  <p:nvPr/>
                </p:nvSpPr>
                <p:spPr>
                  <a:xfrm>
                    <a:off x="4560840" y="1953360"/>
                    <a:ext cx="304920" cy="112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66" name="Text Box 67"/>
                <p:cNvSpPr/>
                <p:nvPr/>
              </p:nvSpPr>
              <p:spPr>
                <a:xfrm>
                  <a:off x="3552840" y="1379520"/>
                  <a:ext cx="91440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minoacil-tARN entrante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7" name="Group 68"/>
              <p:cNvGrpSpPr/>
              <p:nvPr/>
            </p:nvGrpSpPr>
            <p:grpSpPr>
              <a:xfrm>
                <a:off x="2453400" y="1650240"/>
                <a:ext cx="2986560" cy="2878560"/>
                <a:chOff x="2453400" y="1650240"/>
                <a:chExt cx="2986560" cy="2878560"/>
              </a:xfrm>
            </p:grpSpPr>
            <p:sp>
              <p:nvSpPr>
                <p:cNvPr id="1068" name="AutoShape 69"/>
                <p:cNvSpPr/>
                <p:nvPr/>
              </p:nvSpPr>
              <p:spPr>
                <a:xfrm flipH="1" rot="780000">
                  <a:off x="3030840" y="1866600"/>
                  <a:ext cx="2182680" cy="2259000"/>
                </a:xfrm>
                <a:custGeom>
                  <a:avLst/>
                  <a:gdLst>
                    <a:gd name="textAreaLeft" fmla="*/ 1091160 w 2182680"/>
                    <a:gd name="textAreaRight" fmla="*/ 2182680 w 2182680"/>
                    <a:gd name="textAreaTop" fmla="*/ 0 h 2259000"/>
                    <a:gd name="textAreaBottom" fmla="*/ 1129680 h 225900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10799" y="0"/>
                      </a:moveTo>
                      <a:cubicBezTo>
                        <a:pt x="10799" y="0"/>
                        <a:pt x="10799" y="-1"/>
                        <a:pt x="10800" y="0"/>
                      </a:cubicBezTo>
                      <a:cubicBezTo>
                        <a:pt x="16764" y="0"/>
                        <a:pt x="21600" y="4835"/>
                        <a:pt x="21600" y="10800"/>
                      </a:cubicBezTo>
                      <a:lnTo>
                        <a:pt x="10800" y="10800"/>
                      </a:lnTo>
                      <a:lnTo>
                        <a:pt x="10799" y="0"/>
                      </a:lnTo>
                      <a:close/>
                    </a:path>
                    <a:path fill="none" w="21600" h="21600">
                      <a:moveTo>
                        <a:pt x="10799" y="0"/>
                      </a:moveTo>
                      <a:cubicBezTo>
                        <a:pt x="10799" y="0"/>
                        <a:pt x="10799" y="-1"/>
                        <a:pt x="10800" y="0"/>
                      </a:cubicBezTo>
                      <a:cubicBezTo>
                        <a:pt x="16764" y="0"/>
                        <a:pt x="21600" y="4835"/>
                        <a:pt x="21600" y="10800"/>
                      </a:cubicBez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9" name="AutoShape 70"/>
                <p:cNvSpPr/>
                <p:nvPr/>
              </p:nvSpPr>
              <p:spPr>
                <a:xfrm flipH="1" rot="2760000">
                  <a:off x="2830680" y="2172960"/>
                  <a:ext cx="2037600" cy="1915200"/>
                </a:xfrm>
                <a:custGeom>
                  <a:avLst/>
                  <a:gdLst>
                    <a:gd name="textAreaLeft" fmla="*/ 1018080 w 2037600"/>
                    <a:gd name="textAreaRight" fmla="*/ 1981080 w 2037600"/>
                    <a:gd name="textAreaTop" fmla="*/ 18360 h 1915200"/>
                    <a:gd name="textAreaBottom" fmla="*/ 956520 h 191520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12767" y="180"/>
                      </a:moveTo>
                      <a:cubicBezTo>
                        <a:pt x="16586" y="888"/>
                        <a:pt x="19730" y="3591"/>
                        <a:pt x="21003" y="7260"/>
                      </a:cubicBezTo>
                      <a:lnTo>
                        <a:pt x="10800" y="10800"/>
                      </a:lnTo>
                      <a:lnTo>
                        <a:pt x="12767" y="180"/>
                      </a:lnTo>
                      <a:close/>
                    </a:path>
                    <a:path fill="none" w="21600" h="21600">
                      <a:moveTo>
                        <a:pt x="12767" y="180"/>
                      </a:moveTo>
                      <a:cubicBezTo>
                        <a:pt x="16586" y="888"/>
                        <a:pt x="19730" y="3591"/>
                        <a:pt x="21003" y="7260"/>
                      </a:cubicBez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0" name="Group 73"/>
              <p:cNvGrpSpPr/>
              <p:nvPr/>
            </p:nvGrpSpPr>
            <p:grpSpPr>
              <a:xfrm>
                <a:off x="4402080" y="2568600"/>
                <a:ext cx="671040" cy="425160"/>
                <a:chOff x="4402080" y="2568600"/>
                <a:chExt cx="671040" cy="425160"/>
              </a:xfrm>
            </p:grpSpPr>
            <p:sp>
              <p:nvSpPr>
                <p:cNvPr id="1071" name="Oval 74"/>
                <p:cNvSpPr/>
                <p:nvPr/>
              </p:nvSpPr>
              <p:spPr>
                <a:xfrm>
                  <a:off x="4402080" y="2568600"/>
                  <a:ext cx="336960" cy="336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2" name="Text Box 75"/>
                <p:cNvSpPr/>
                <p:nvPr/>
              </p:nvSpPr>
              <p:spPr>
                <a:xfrm>
                  <a:off x="4451040" y="2689920"/>
                  <a:ext cx="303840" cy="30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EF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3" name="Text Box 76"/>
                <p:cNvSpPr/>
                <p:nvPr/>
              </p:nvSpPr>
              <p:spPr>
                <a:xfrm>
                  <a:off x="4769280" y="2652480"/>
                  <a:ext cx="303840" cy="15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GTP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4" name="Group 98"/>
              <p:cNvGrpSpPr/>
              <p:nvPr/>
            </p:nvGrpSpPr>
            <p:grpSpPr>
              <a:xfrm>
                <a:off x="1380960" y="2272680"/>
                <a:ext cx="3471840" cy="2515320"/>
                <a:chOff x="1380960" y="2272680"/>
                <a:chExt cx="3471840" cy="2515320"/>
              </a:xfrm>
            </p:grpSpPr>
            <p:sp>
              <p:nvSpPr>
                <p:cNvPr id="1075" name="Text Box 99"/>
                <p:cNvSpPr/>
                <p:nvPr/>
              </p:nvSpPr>
              <p:spPr>
                <a:xfrm>
                  <a:off x="1380960" y="3338640"/>
                  <a:ext cx="125748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Unión del Aminoacil-tARN entrante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76" name="Group 100"/>
                <p:cNvGrpSpPr/>
                <p:nvPr/>
              </p:nvGrpSpPr>
              <p:grpSpPr>
                <a:xfrm>
                  <a:off x="3247920" y="4241880"/>
                  <a:ext cx="684000" cy="426600"/>
                  <a:chOff x="3247920" y="4241880"/>
                  <a:chExt cx="684000" cy="426600"/>
                </a:xfrm>
              </p:grpSpPr>
              <p:grpSp>
                <p:nvGrpSpPr>
                  <p:cNvPr id="1077" name="Group 101"/>
                  <p:cNvGrpSpPr/>
                  <p:nvPr/>
                </p:nvGrpSpPr>
                <p:grpSpPr>
                  <a:xfrm>
                    <a:off x="3247920" y="4241880"/>
                    <a:ext cx="351000" cy="426600"/>
                    <a:chOff x="3247920" y="4241880"/>
                    <a:chExt cx="351000" cy="426600"/>
                  </a:xfrm>
                </p:grpSpPr>
                <p:sp>
                  <p:nvSpPr>
                    <p:cNvPr id="1078" name="Oval 102"/>
                    <p:cNvSpPr/>
                    <p:nvPr/>
                  </p:nvSpPr>
                  <p:spPr>
                    <a:xfrm>
                      <a:off x="3247920" y="4241880"/>
                      <a:ext cx="335520" cy="336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9" name="Text Box 103"/>
                    <p:cNvSpPr/>
                    <p:nvPr/>
                  </p:nvSpPr>
                  <p:spPr>
                    <a:xfrm>
                      <a:off x="3296520" y="4365000"/>
                      <a:ext cx="302400" cy="303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rm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0" name="Text Box 104"/>
                  <p:cNvSpPr/>
                  <p:nvPr/>
                </p:nvSpPr>
                <p:spPr>
                  <a:xfrm>
                    <a:off x="3628080" y="4327560"/>
                    <a:ext cx="303840" cy="152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rm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GDP</a:t>
                    </a:r>
                    <a:endParaRPr b="0" lang="en-US" sz="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1" name="Line 105"/>
                <p:cNvSpPr/>
                <p:nvPr/>
              </p:nvSpPr>
              <p:spPr>
                <a:xfrm>
                  <a:off x="2867040" y="2424240"/>
                  <a:ext cx="1440" cy="2160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82" name="Group 106"/>
                <p:cNvGrpSpPr/>
                <p:nvPr/>
              </p:nvGrpSpPr>
              <p:grpSpPr>
                <a:xfrm>
                  <a:off x="2671560" y="2395080"/>
                  <a:ext cx="1169640" cy="1236240"/>
                  <a:chOff x="2671560" y="2395080"/>
                  <a:chExt cx="1169640" cy="1236240"/>
                </a:xfrm>
              </p:grpSpPr>
              <p:grpSp>
                <p:nvGrpSpPr>
                  <p:cNvPr id="1083" name="Group 107"/>
                  <p:cNvGrpSpPr/>
                  <p:nvPr/>
                </p:nvGrpSpPr>
                <p:grpSpPr>
                  <a:xfrm>
                    <a:off x="3171240" y="2854440"/>
                    <a:ext cx="669960" cy="426600"/>
                    <a:chOff x="3171240" y="2854440"/>
                    <a:chExt cx="669960" cy="426600"/>
                  </a:xfrm>
                </p:grpSpPr>
                <p:sp>
                  <p:nvSpPr>
                    <p:cNvPr id="1084" name="Oval 108"/>
                    <p:cNvSpPr/>
                    <p:nvPr/>
                  </p:nvSpPr>
                  <p:spPr>
                    <a:xfrm>
                      <a:off x="3171240" y="2854440"/>
                      <a:ext cx="336600" cy="336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5" name="Text Box 109"/>
                    <p:cNvSpPr/>
                    <p:nvPr/>
                  </p:nvSpPr>
                  <p:spPr>
                    <a:xfrm>
                      <a:off x="3219840" y="2977560"/>
                      <a:ext cx="303480" cy="303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rm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6" name="Text Box 110"/>
                    <p:cNvSpPr/>
                    <p:nvPr/>
                  </p:nvSpPr>
                  <p:spPr>
                    <a:xfrm>
                      <a:off x="3538080" y="2939760"/>
                      <a:ext cx="303120" cy="151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rm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TP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87" name="Group 111"/>
                  <p:cNvGrpSpPr/>
                  <p:nvPr/>
                </p:nvGrpSpPr>
                <p:grpSpPr>
                  <a:xfrm>
                    <a:off x="2671560" y="2395080"/>
                    <a:ext cx="1022760" cy="1236240"/>
                    <a:chOff x="2671560" y="2395080"/>
                    <a:chExt cx="1022760" cy="1236240"/>
                  </a:xfrm>
                </p:grpSpPr>
                <p:grpSp>
                  <p:nvGrpSpPr>
                    <p:cNvPr id="1088" name="Group 112"/>
                    <p:cNvGrpSpPr/>
                    <p:nvPr/>
                  </p:nvGrpSpPr>
                  <p:grpSpPr>
                    <a:xfrm>
                      <a:off x="2671560" y="2604240"/>
                      <a:ext cx="1022760" cy="1027080"/>
                      <a:chOff x="2671560" y="2604240"/>
                      <a:chExt cx="1022760" cy="1027080"/>
                    </a:xfrm>
                  </p:grpSpPr>
                  <p:grpSp>
                    <p:nvGrpSpPr>
                      <p:cNvPr id="1089" name="Group 113"/>
                      <p:cNvGrpSpPr/>
                      <p:nvPr/>
                    </p:nvGrpSpPr>
                    <p:grpSpPr>
                      <a:xfrm>
                        <a:off x="3069720" y="3477240"/>
                        <a:ext cx="303840" cy="154080"/>
                        <a:chOff x="3069720" y="3477240"/>
                        <a:chExt cx="303840" cy="154080"/>
                      </a:xfrm>
                    </p:grpSpPr>
                    <p:sp>
                      <p:nvSpPr>
                        <p:cNvPr id="1090" name="Line 114"/>
                        <p:cNvSpPr/>
                        <p:nvPr/>
                      </p:nvSpPr>
                      <p:spPr>
                        <a:xfrm flipH="1">
                          <a:off x="3069720" y="3481920"/>
                          <a:ext cx="9720" cy="14580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1" name="Line 115"/>
                        <p:cNvSpPr/>
                        <p:nvPr/>
                      </p:nvSpPr>
                      <p:spPr>
                        <a:xfrm flipH="1">
                          <a:off x="3209760" y="3485520"/>
                          <a:ext cx="9360" cy="14580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2" name="Line 116"/>
                        <p:cNvSpPr/>
                        <p:nvPr/>
                      </p:nvSpPr>
                      <p:spPr>
                        <a:xfrm flipH="1">
                          <a:off x="3364200" y="3477240"/>
                          <a:ext cx="9360" cy="14580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093" name="Freeform 117"/>
                      <p:cNvSpPr/>
                      <p:nvPr/>
                    </p:nvSpPr>
                    <p:spPr>
                      <a:xfrm rot="3660000">
                        <a:off x="2804040" y="2742120"/>
                        <a:ext cx="757440" cy="749520"/>
                      </a:xfrm>
                      <a:custGeom>
                        <a:avLst/>
                        <a:gdLst>
                          <a:gd name="textAreaLeft" fmla="*/ 0 w 757440"/>
                          <a:gd name="textAreaRight" fmla="*/ 757800 w 757440"/>
                          <a:gd name="textAreaTop" fmla="*/ 0 h 749520"/>
                          <a:gd name="textAreaBottom" fmla="*/ 749880 h 749520"/>
                        </a:gdLst>
                        <a:ahLst/>
                        <a:rect l="textAreaLeft" t="textAreaTop" r="textAreaRight" b="textAreaBottom"/>
                        <a:pathLst>
                          <a:path w="1400" h="1110">
                            <a:moveTo>
                              <a:pt x="140" y="390"/>
                            </a:moveTo>
                            <a:cubicBezTo>
                              <a:pt x="210" y="480"/>
                              <a:pt x="280" y="570"/>
                              <a:pt x="380" y="570"/>
                            </a:cubicBezTo>
                            <a:cubicBezTo>
                              <a:pt x="480" y="570"/>
                              <a:pt x="620" y="420"/>
                              <a:pt x="740" y="390"/>
                            </a:cubicBezTo>
                            <a:cubicBezTo>
                              <a:pt x="860" y="360"/>
                              <a:pt x="1000" y="360"/>
                              <a:pt x="1100" y="390"/>
                            </a:cubicBezTo>
                            <a:cubicBezTo>
                              <a:pt x="1200" y="420"/>
                              <a:pt x="1300" y="480"/>
                              <a:pt x="1340" y="570"/>
                            </a:cubicBezTo>
                            <a:cubicBezTo>
                              <a:pt x="1380" y="660"/>
                              <a:pt x="1400" y="840"/>
                              <a:pt x="1340" y="930"/>
                            </a:cubicBezTo>
                            <a:cubicBezTo>
                              <a:pt x="1280" y="1020"/>
                              <a:pt x="1100" y="1110"/>
                              <a:pt x="980" y="1110"/>
                            </a:cubicBezTo>
                            <a:cubicBezTo>
                              <a:pt x="860" y="1110"/>
                              <a:pt x="700" y="990"/>
                              <a:pt x="620" y="930"/>
                            </a:cubicBezTo>
                            <a:cubicBezTo>
                              <a:pt x="540" y="870"/>
                              <a:pt x="540" y="840"/>
                              <a:pt x="500" y="750"/>
                            </a:cubicBezTo>
                            <a:cubicBezTo>
                              <a:pt x="460" y="660"/>
                              <a:pt x="400" y="480"/>
                              <a:pt x="380" y="390"/>
                            </a:cubicBezTo>
                            <a:cubicBezTo>
                              <a:pt x="360" y="300"/>
                              <a:pt x="400" y="270"/>
                              <a:pt x="380" y="210"/>
                            </a:cubicBezTo>
                            <a:cubicBezTo>
                              <a:pt x="360" y="150"/>
                              <a:pt x="320" y="60"/>
                              <a:pt x="260" y="30"/>
                            </a:cubicBezTo>
                            <a:cubicBezTo>
                              <a:pt x="200" y="0"/>
                              <a:pt x="40" y="30"/>
                              <a:pt x="20" y="30"/>
                            </a:cubicBezTo>
                            <a:cubicBezTo>
                              <a:pt x="0" y="30"/>
                              <a:pt x="70" y="30"/>
                              <a:pt x="140" y="30"/>
                            </a:cubicBezTo>
                          </a:path>
                        </a:pathLst>
                      </a:custGeom>
                      <a:noFill/>
                      <a:ln w="507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094" name="Group 118"/>
                    <p:cNvGrpSpPr/>
                    <p:nvPr/>
                  </p:nvGrpSpPr>
                  <p:grpSpPr>
                    <a:xfrm>
                      <a:off x="2789640" y="2395080"/>
                      <a:ext cx="535680" cy="489600"/>
                      <a:chOff x="2789640" y="2395080"/>
                      <a:chExt cx="535680" cy="489600"/>
                    </a:xfrm>
                  </p:grpSpPr>
                  <p:sp>
                    <p:nvSpPr>
                      <p:cNvPr id="1095" name="Oval 119"/>
                      <p:cNvSpPr/>
                      <p:nvPr/>
                    </p:nvSpPr>
                    <p:spPr>
                      <a:xfrm rot="1320000">
                        <a:off x="2839320" y="2463840"/>
                        <a:ext cx="435600" cy="35208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96" name="Text Box 120"/>
                      <p:cNvSpPr/>
                      <p:nvPr/>
                    </p:nvSpPr>
                    <p:spPr>
                      <a:xfrm>
                        <a:off x="2908440" y="2557440"/>
                        <a:ext cx="34884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rm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AA2</a:t>
                        </a:r>
                        <a:endParaRPr b="0" lang="en-US" sz="9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097" name="Text Box 121"/>
                    <p:cNvSpPr/>
                    <p:nvPr/>
                  </p:nvSpPr>
                  <p:spPr>
                    <a:xfrm>
                      <a:off x="3036600" y="3268800"/>
                      <a:ext cx="303840" cy="112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98" name="AutoShape 122"/>
                <p:cNvSpPr/>
                <p:nvPr/>
              </p:nvSpPr>
              <p:spPr>
                <a:xfrm rot="11760000">
                  <a:off x="2886120" y="2466720"/>
                  <a:ext cx="1706400" cy="2127240"/>
                </a:xfrm>
                <a:custGeom>
                  <a:avLst/>
                  <a:gdLst>
                    <a:gd name="textAreaLeft" fmla="*/ 852480 w 1706400"/>
                    <a:gd name="textAreaRight" fmla="*/ 1706760 w 1706400"/>
                    <a:gd name="textAreaTop" fmla="*/ 101520 h 2127240"/>
                    <a:gd name="textAreaBottom" fmla="*/ 1141560 h 212724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15219" y="945"/>
                      </a:moveTo>
                      <a:cubicBezTo>
                        <a:pt x="19101" y="2686"/>
                        <a:pt x="21600" y="6545"/>
                        <a:pt x="21600" y="10800"/>
                      </a:cubicBezTo>
                      <a:cubicBezTo>
                        <a:pt x="21600" y="11076"/>
                        <a:pt x="21589" y="11353"/>
                        <a:pt x="21568" y="11630"/>
                      </a:cubicBezTo>
                      <a:lnTo>
                        <a:pt x="10800" y="10800"/>
                      </a:lnTo>
                      <a:lnTo>
                        <a:pt x="15219" y="945"/>
                      </a:lnTo>
                      <a:close/>
                    </a:path>
                    <a:path fill="none" w="21600" h="21600">
                      <a:moveTo>
                        <a:pt x="15219" y="945"/>
                      </a:moveTo>
                      <a:cubicBezTo>
                        <a:pt x="19101" y="2686"/>
                        <a:pt x="21600" y="6545"/>
                        <a:pt x="21600" y="10800"/>
                      </a:cubicBezTo>
                      <a:cubicBezTo>
                        <a:pt x="21600" y="11076"/>
                        <a:pt x="21589" y="11353"/>
                        <a:pt x="21568" y="11630"/>
                      </a:cubicBez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9" name="AutoShape 123"/>
                <p:cNvSpPr/>
                <p:nvPr/>
              </p:nvSpPr>
              <p:spPr>
                <a:xfrm flipH="1" flipV="1" rot="12300000">
                  <a:off x="2178000" y="3320640"/>
                  <a:ext cx="633600" cy="1204560"/>
                </a:xfrm>
                <a:custGeom>
                  <a:avLst/>
                  <a:gdLst>
                    <a:gd name="textAreaLeft" fmla="*/ 316440 w 633600"/>
                    <a:gd name="textAreaRight" fmla="*/ 634320 w 633600"/>
                    <a:gd name="textAreaTop" fmla="*/ 155880 h 1204560"/>
                    <a:gd name="textAreaBottom" fmla="*/ 906480 h 120456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17924" y="2682"/>
                      </a:moveTo>
                      <a:cubicBezTo>
                        <a:pt x="20260" y="4733"/>
                        <a:pt x="21600" y="7691"/>
                        <a:pt x="21600" y="10800"/>
                      </a:cubicBezTo>
                      <a:cubicBezTo>
                        <a:pt x="21600" y="12754"/>
                        <a:pt x="21069" y="14672"/>
                        <a:pt x="20065" y="16349"/>
                      </a:cubicBezTo>
                      <a:lnTo>
                        <a:pt x="10800" y="10800"/>
                      </a:lnTo>
                      <a:lnTo>
                        <a:pt x="17924" y="2682"/>
                      </a:lnTo>
                      <a:close/>
                    </a:path>
                    <a:path fill="none" w="21600" h="21600">
                      <a:moveTo>
                        <a:pt x="17924" y="2682"/>
                      </a:moveTo>
                      <a:cubicBezTo>
                        <a:pt x="20260" y="4733"/>
                        <a:pt x="21600" y="7691"/>
                        <a:pt x="21600" y="10800"/>
                      </a:cubicBezTo>
                      <a:cubicBezTo>
                        <a:pt x="21600" y="12754"/>
                        <a:pt x="21069" y="14672"/>
                        <a:pt x="20065" y="16349"/>
                      </a:cubicBez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" name="Text Box 124"/>
                <p:cNvSpPr/>
                <p:nvPr/>
              </p:nvSpPr>
              <p:spPr>
                <a:xfrm>
                  <a:off x="2409840" y="4356000"/>
                  <a:ext cx="304920" cy="11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3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Pi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1" name="Group 125"/>
            <p:cNvGrpSpPr/>
            <p:nvPr/>
          </p:nvGrpSpPr>
          <p:grpSpPr>
            <a:xfrm>
              <a:off x="1647720" y="4566600"/>
              <a:ext cx="2512800" cy="1924560"/>
              <a:chOff x="1647720" y="4566600"/>
              <a:chExt cx="2512800" cy="1924560"/>
            </a:xfrm>
          </p:grpSpPr>
          <p:sp>
            <p:nvSpPr>
              <p:cNvPr id="1102" name="Text Box 126"/>
              <p:cNvSpPr/>
              <p:nvPr/>
            </p:nvSpPr>
            <p:spPr>
              <a:xfrm>
                <a:off x="3856320" y="5880600"/>
                <a:ext cx="304200" cy="11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5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3’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Oval 127"/>
              <p:cNvSpPr/>
              <p:nvPr/>
            </p:nvSpPr>
            <p:spPr>
              <a:xfrm>
                <a:off x="2257200" y="5203080"/>
                <a:ext cx="1370520" cy="913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ffffff">
                      <a:alpha val="47058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Oval 128"/>
              <p:cNvSpPr/>
              <p:nvPr/>
            </p:nvSpPr>
            <p:spPr>
              <a:xfrm rot="21420000">
                <a:off x="2255400" y="6002280"/>
                <a:ext cx="1370520" cy="453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05" name="Group 129"/>
              <p:cNvGrpSpPr/>
              <p:nvPr/>
            </p:nvGrpSpPr>
            <p:grpSpPr>
              <a:xfrm>
                <a:off x="3094560" y="5317200"/>
                <a:ext cx="302760" cy="1019160"/>
                <a:chOff x="3094560" y="5317200"/>
                <a:chExt cx="302760" cy="1019160"/>
              </a:xfrm>
            </p:grpSpPr>
            <p:sp>
              <p:nvSpPr>
                <p:cNvPr id="1106" name="AutoShape 130"/>
                <p:cNvSpPr/>
                <p:nvPr/>
              </p:nvSpPr>
              <p:spPr>
                <a:xfrm>
                  <a:off x="3094560" y="5317200"/>
                  <a:ext cx="302760" cy="1019160"/>
                </a:xfrm>
                <a:custGeom>
                  <a:avLst/>
                  <a:gdLst>
                    <a:gd name="textAreaLeft" fmla="*/ 14760 w 302760"/>
                    <a:gd name="textAreaRight" fmla="*/ 288000 w 302760"/>
                    <a:gd name="textAreaTop" fmla="*/ 14760 h 1019160"/>
                    <a:gd name="textAreaBottom" fmla="*/ 1004400 h 1019160"/>
                  </a:gdLst>
                  <a:ahLst/>
                  <a:rect l="textAreaLeft" t="textAreaTop" r="textAreaRight" b="textAreaBottom"/>
                  <a:pathLst>
                    <a:path w="21600" h="72650">
                      <a:moveTo>
                        <a:pt x="3600" y="0"/>
                      </a:moveTo>
                      <a:arcTo wR="3600" hR="3600" stAng="16200000" swAng="-5400000"/>
                      <a:lnTo>
                        <a:pt x="0" y="69050"/>
                      </a:lnTo>
                      <a:arcTo wR="3600" hR="3600" stAng="10800000" swAng="-5400000"/>
                      <a:lnTo>
                        <a:pt x="18000" y="7265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7" name="Text Box 131"/>
                <p:cNvSpPr/>
                <p:nvPr/>
              </p:nvSpPr>
              <p:spPr>
                <a:xfrm>
                  <a:off x="3094560" y="6121440"/>
                  <a:ext cx="272520" cy="14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78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8" name="Text Box 132"/>
              <p:cNvSpPr/>
              <p:nvPr/>
            </p:nvSpPr>
            <p:spPr>
              <a:xfrm>
                <a:off x="1647720" y="5931720"/>
                <a:ext cx="304560" cy="11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7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5’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09" name="Group 133"/>
              <p:cNvGrpSpPr/>
              <p:nvPr/>
            </p:nvGrpSpPr>
            <p:grpSpPr>
              <a:xfrm>
                <a:off x="2621880" y="5317200"/>
                <a:ext cx="455040" cy="1053000"/>
                <a:chOff x="2621880" y="5317200"/>
                <a:chExt cx="455040" cy="1053000"/>
              </a:xfrm>
            </p:grpSpPr>
            <p:sp>
              <p:nvSpPr>
                <p:cNvPr id="1110" name="AutoShape 134"/>
                <p:cNvSpPr/>
                <p:nvPr/>
              </p:nvSpPr>
              <p:spPr>
                <a:xfrm>
                  <a:off x="2637360" y="5317200"/>
                  <a:ext cx="379080" cy="1053000"/>
                </a:xfrm>
                <a:custGeom>
                  <a:avLst/>
                  <a:gdLst>
                    <a:gd name="textAreaLeft" fmla="*/ 18360 w 379080"/>
                    <a:gd name="textAreaRight" fmla="*/ 360720 w 379080"/>
                    <a:gd name="textAreaTop" fmla="*/ 18360 h 1053000"/>
                    <a:gd name="textAreaBottom" fmla="*/ 1034640 h 1053000"/>
                  </a:gdLst>
                  <a:ahLst/>
                  <a:rect l="textAreaLeft" t="textAreaTop" r="textAreaRight" b="textAreaBottom"/>
                  <a:pathLst>
                    <a:path w="21600" h="59964">
                      <a:moveTo>
                        <a:pt x="3600" y="0"/>
                      </a:moveTo>
                      <a:arcTo wR="3600" hR="3600" stAng="16200000" swAng="-5400000"/>
                      <a:lnTo>
                        <a:pt x="0" y="56364"/>
                      </a:lnTo>
                      <a:arcTo wR="3600" hR="3600" stAng="10800000" swAng="-5400000"/>
                      <a:lnTo>
                        <a:pt x="18000" y="5996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1" name="Text Box 135"/>
                <p:cNvSpPr/>
                <p:nvPr/>
              </p:nvSpPr>
              <p:spPr>
                <a:xfrm>
                  <a:off x="2675520" y="6175800"/>
                  <a:ext cx="340920" cy="17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95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2" name="Text Box 136"/>
                <p:cNvSpPr/>
                <p:nvPr/>
              </p:nvSpPr>
              <p:spPr>
                <a:xfrm>
                  <a:off x="2621880" y="6044400"/>
                  <a:ext cx="455040" cy="11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62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UG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3" name="Group 137"/>
              <p:cNvGrpSpPr/>
              <p:nvPr/>
            </p:nvGrpSpPr>
            <p:grpSpPr>
              <a:xfrm>
                <a:off x="1875960" y="5856120"/>
                <a:ext cx="2054520" cy="152280"/>
                <a:chOff x="1875960" y="5856120"/>
                <a:chExt cx="2054520" cy="152280"/>
              </a:xfrm>
            </p:grpSpPr>
            <p:grpSp>
              <p:nvGrpSpPr>
                <p:cNvPr id="1114" name="Group 138"/>
                <p:cNvGrpSpPr/>
                <p:nvPr/>
              </p:nvGrpSpPr>
              <p:grpSpPr>
                <a:xfrm>
                  <a:off x="1971000" y="5857560"/>
                  <a:ext cx="188280" cy="142560"/>
                  <a:chOff x="1971000" y="5857560"/>
                  <a:chExt cx="188280" cy="142560"/>
                </a:xfrm>
              </p:grpSpPr>
              <p:sp>
                <p:nvSpPr>
                  <p:cNvPr id="1115" name="Line 139"/>
                  <p:cNvSpPr/>
                  <p:nvPr/>
                </p:nvSpPr>
                <p:spPr>
                  <a:xfrm flipH="1">
                    <a:off x="1971000" y="5865120"/>
                    <a:ext cx="432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6" name="Line 140"/>
                  <p:cNvSpPr/>
                  <p:nvPr/>
                </p:nvSpPr>
                <p:spPr>
                  <a:xfrm>
                    <a:off x="2063160" y="5866560"/>
                    <a:ext cx="108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" name="Line 141"/>
                  <p:cNvSpPr/>
                  <p:nvPr/>
                </p:nvSpPr>
                <p:spPr>
                  <a:xfrm>
                    <a:off x="2158200" y="5857560"/>
                    <a:ext cx="108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8" name="Group 142"/>
                <p:cNvGrpSpPr/>
                <p:nvPr/>
              </p:nvGrpSpPr>
              <p:grpSpPr>
                <a:xfrm>
                  <a:off x="2351520" y="5856120"/>
                  <a:ext cx="188280" cy="144360"/>
                  <a:chOff x="2351520" y="5856120"/>
                  <a:chExt cx="188280" cy="144360"/>
                </a:xfrm>
              </p:grpSpPr>
              <p:sp>
                <p:nvSpPr>
                  <p:cNvPr id="1119" name="Line 143"/>
                  <p:cNvSpPr/>
                  <p:nvPr/>
                </p:nvSpPr>
                <p:spPr>
                  <a:xfrm>
                    <a:off x="2351520" y="5866920"/>
                    <a:ext cx="144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" name="Line 144"/>
                  <p:cNvSpPr/>
                  <p:nvPr/>
                </p:nvSpPr>
                <p:spPr>
                  <a:xfrm>
                    <a:off x="2441160" y="5866920"/>
                    <a:ext cx="108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1" name="Line 145"/>
                  <p:cNvSpPr/>
                  <p:nvPr/>
                </p:nvSpPr>
                <p:spPr>
                  <a:xfrm>
                    <a:off x="2538720" y="5856120"/>
                    <a:ext cx="1080" cy="1339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2" name="Group 146"/>
                <p:cNvGrpSpPr/>
                <p:nvPr/>
              </p:nvGrpSpPr>
              <p:grpSpPr>
                <a:xfrm>
                  <a:off x="2730240" y="5857560"/>
                  <a:ext cx="188280" cy="142560"/>
                  <a:chOff x="2730240" y="5857560"/>
                  <a:chExt cx="188280" cy="142560"/>
                </a:xfrm>
              </p:grpSpPr>
              <p:sp>
                <p:nvSpPr>
                  <p:cNvPr id="1123" name="Line 147"/>
                  <p:cNvSpPr/>
                  <p:nvPr/>
                </p:nvSpPr>
                <p:spPr>
                  <a:xfrm flipH="1">
                    <a:off x="2730240" y="5865120"/>
                    <a:ext cx="432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" name="Line 148"/>
                  <p:cNvSpPr/>
                  <p:nvPr/>
                </p:nvSpPr>
                <p:spPr>
                  <a:xfrm>
                    <a:off x="2820600" y="5866560"/>
                    <a:ext cx="108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" name="Line 149"/>
                  <p:cNvSpPr/>
                  <p:nvPr/>
                </p:nvSpPr>
                <p:spPr>
                  <a:xfrm flipH="1">
                    <a:off x="2914200" y="5857560"/>
                    <a:ext cx="432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6" name="Group 150"/>
                <p:cNvGrpSpPr/>
                <p:nvPr/>
              </p:nvGrpSpPr>
              <p:grpSpPr>
                <a:xfrm>
                  <a:off x="3110400" y="5859000"/>
                  <a:ext cx="191880" cy="141120"/>
                  <a:chOff x="3110400" y="5859000"/>
                  <a:chExt cx="191880" cy="141120"/>
                </a:xfrm>
              </p:grpSpPr>
              <p:sp>
                <p:nvSpPr>
                  <p:cNvPr id="1127" name="Line 151"/>
                  <p:cNvSpPr/>
                  <p:nvPr/>
                </p:nvSpPr>
                <p:spPr>
                  <a:xfrm flipH="1">
                    <a:off x="3110400" y="5863320"/>
                    <a:ext cx="6120" cy="1339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" name="Line 152"/>
                  <p:cNvSpPr/>
                  <p:nvPr/>
                </p:nvSpPr>
                <p:spPr>
                  <a:xfrm flipH="1">
                    <a:off x="3198960" y="5866560"/>
                    <a:ext cx="612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9" name="Line 153"/>
                  <p:cNvSpPr/>
                  <p:nvPr/>
                </p:nvSpPr>
                <p:spPr>
                  <a:xfrm flipH="1">
                    <a:off x="3296520" y="5859000"/>
                    <a:ext cx="576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0" name="Line 154"/>
                <p:cNvSpPr/>
                <p:nvPr/>
              </p:nvSpPr>
              <p:spPr>
                <a:xfrm>
                  <a:off x="1875960" y="6007320"/>
                  <a:ext cx="2054520" cy="1080"/>
                </a:xfrm>
                <a:prstGeom prst="line">
                  <a:avLst/>
                </a:prstGeom>
                <a:ln w="47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31" name="Group 155"/>
                <p:cNvGrpSpPr/>
                <p:nvPr/>
              </p:nvGrpSpPr>
              <p:grpSpPr>
                <a:xfrm>
                  <a:off x="3490920" y="5859000"/>
                  <a:ext cx="191160" cy="141120"/>
                  <a:chOff x="3490920" y="5859000"/>
                  <a:chExt cx="191160" cy="141120"/>
                </a:xfrm>
              </p:grpSpPr>
              <p:sp>
                <p:nvSpPr>
                  <p:cNvPr id="1132" name="Line 156"/>
                  <p:cNvSpPr/>
                  <p:nvPr/>
                </p:nvSpPr>
                <p:spPr>
                  <a:xfrm flipH="1">
                    <a:off x="3490920" y="5863320"/>
                    <a:ext cx="6120" cy="1339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" name="Line 157"/>
                  <p:cNvSpPr/>
                  <p:nvPr/>
                </p:nvSpPr>
                <p:spPr>
                  <a:xfrm flipH="1">
                    <a:off x="3579840" y="5866560"/>
                    <a:ext cx="576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" name="Line 158"/>
                  <p:cNvSpPr/>
                  <p:nvPr/>
                </p:nvSpPr>
                <p:spPr>
                  <a:xfrm flipH="1">
                    <a:off x="3675960" y="5859000"/>
                    <a:ext cx="612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35" name="Group 159"/>
              <p:cNvGrpSpPr/>
              <p:nvPr/>
            </p:nvGrpSpPr>
            <p:grpSpPr>
              <a:xfrm>
                <a:off x="2289600" y="4595400"/>
                <a:ext cx="1049040" cy="1244160"/>
                <a:chOff x="2289600" y="4595400"/>
                <a:chExt cx="1049040" cy="1244160"/>
              </a:xfrm>
            </p:grpSpPr>
            <p:grpSp>
              <p:nvGrpSpPr>
                <p:cNvPr id="1136" name="Group 160"/>
                <p:cNvGrpSpPr/>
                <p:nvPr/>
              </p:nvGrpSpPr>
              <p:grpSpPr>
                <a:xfrm>
                  <a:off x="2289600" y="4595400"/>
                  <a:ext cx="1049040" cy="1244160"/>
                  <a:chOff x="2289600" y="4595400"/>
                  <a:chExt cx="1049040" cy="1244160"/>
                </a:xfrm>
              </p:grpSpPr>
              <p:grpSp>
                <p:nvGrpSpPr>
                  <p:cNvPr id="1137" name="Group 161"/>
                  <p:cNvGrpSpPr/>
                  <p:nvPr/>
                </p:nvGrpSpPr>
                <p:grpSpPr>
                  <a:xfrm>
                    <a:off x="2289600" y="4751280"/>
                    <a:ext cx="1049040" cy="1088280"/>
                    <a:chOff x="2289600" y="4751280"/>
                    <a:chExt cx="1049040" cy="1088280"/>
                  </a:xfrm>
                </p:grpSpPr>
                <p:grpSp>
                  <p:nvGrpSpPr>
                    <p:cNvPr id="1138" name="Group 162"/>
                    <p:cNvGrpSpPr/>
                    <p:nvPr/>
                  </p:nvGrpSpPr>
                  <p:grpSpPr>
                    <a:xfrm>
                      <a:off x="2700720" y="5674320"/>
                      <a:ext cx="304200" cy="165240"/>
                      <a:chOff x="2700720" y="5674320"/>
                      <a:chExt cx="304200" cy="165240"/>
                    </a:xfrm>
                  </p:grpSpPr>
                  <p:sp>
                    <p:nvSpPr>
                      <p:cNvPr id="1139" name="Line 163"/>
                      <p:cNvSpPr/>
                      <p:nvPr/>
                    </p:nvSpPr>
                    <p:spPr>
                      <a:xfrm flipH="1">
                        <a:off x="2700720" y="5677920"/>
                        <a:ext cx="9720" cy="15768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40" name="Line 164"/>
                      <p:cNvSpPr/>
                      <p:nvPr/>
                    </p:nvSpPr>
                    <p:spPr>
                      <a:xfrm flipH="1">
                        <a:off x="2841120" y="5681160"/>
                        <a:ext cx="9360" cy="15840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41" name="Line 165"/>
                      <p:cNvSpPr/>
                      <p:nvPr/>
                    </p:nvSpPr>
                    <p:spPr>
                      <a:xfrm flipH="1">
                        <a:off x="2995560" y="5674320"/>
                        <a:ext cx="9360" cy="15768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142" name="Freeform 166"/>
                    <p:cNvSpPr/>
                    <p:nvPr/>
                  </p:nvSpPr>
                  <p:spPr>
                    <a:xfrm rot="3660000">
                      <a:off x="2408400" y="4912560"/>
                      <a:ext cx="810720" cy="749880"/>
                    </a:xfrm>
                    <a:custGeom>
                      <a:avLst/>
                      <a:gdLst>
                        <a:gd name="textAreaLeft" fmla="*/ 0 w 810720"/>
                        <a:gd name="textAreaRight" fmla="*/ 811080 w 810720"/>
                        <a:gd name="textAreaTop" fmla="*/ 0 h 749880"/>
                        <a:gd name="textAreaBottom" fmla="*/ 750240 h 749880"/>
                      </a:gdLst>
                      <a:ahLst/>
                      <a:rect l="textAreaLeft" t="textAreaTop" r="textAreaRight" b="textAreaBottom"/>
                      <a:pathLst>
                        <a:path w="1400" h="1110">
                          <a:moveTo>
                            <a:pt x="140" y="390"/>
                          </a:moveTo>
                          <a:cubicBezTo>
                            <a:pt x="210" y="480"/>
                            <a:pt x="280" y="570"/>
                            <a:pt x="380" y="570"/>
                          </a:cubicBezTo>
                          <a:cubicBezTo>
                            <a:pt x="480" y="570"/>
                            <a:pt x="620" y="420"/>
                            <a:pt x="740" y="390"/>
                          </a:cubicBezTo>
                          <a:cubicBezTo>
                            <a:pt x="860" y="360"/>
                            <a:pt x="1000" y="360"/>
                            <a:pt x="1100" y="390"/>
                          </a:cubicBezTo>
                          <a:cubicBezTo>
                            <a:pt x="1200" y="420"/>
                            <a:pt x="1300" y="480"/>
                            <a:pt x="1340" y="570"/>
                          </a:cubicBezTo>
                          <a:cubicBezTo>
                            <a:pt x="1380" y="660"/>
                            <a:pt x="1400" y="840"/>
                            <a:pt x="1340" y="930"/>
                          </a:cubicBezTo>
                          <a:cubicBezTo>
                            <a:pt x="1280" y="1020"/>
                            <a:pt x="1100" y="1110"/>
                            <a:pt x="980" y="1110"/>
                          </a:cubicBezTo>
                          <a:cubicBezTo>
                            <a:pt x="860" y="1110"/>
                            <a:pt x="700" y="990"/>
                            <a:pt x="620" y="930"/>
                          </a:cubicBezTo>
                          <a:cubicBezTo>
                            <a:pt x="540" y="870"/>
                            <a:pt x="540" y="840"/>
                            <a:pt x="500" y="750"/>
                          </a:cubicBezTo>
                          <a:cubicBezTo>
                            <a:pt x="460" y="660"/>
                            <a:pt x="400" y="480"/>
                            <a:pt x="380" y="390"/>
                          </a:cubicBezTo>
                          <a:cubicBezTo>
                            <a:pt x="360" y="300"/>
                            <a:pt x="400" y="270"/>
                            <a:pt x="380" y="210"/>
                          </a:cubicBezTo>
                          <a:cubicBezTo>
                            <a:pt x="360" y="150"/>
                            <a:pt x="320" y="60"/>
                            <a:pt x="260" y="30"/>
                          </a:cubicBezTo>
                          <a:cubicBezTo>
                            <a:pt x="200" y="0"/>
                            <a:pt x="40" y="30"/>
                            <a:pt x="20" y="30"/>
                          </a:cubicBezTo>
                          <a:cubicBezTo>
                            <a:pt x="0" y="30"/>
                            <a:pt x="70" y="30"/>
                            <a:pt x="140" y="30"/>
                          </a:cubicBezTo>
                        </a:path>
                      </a:pathLst>
                    </a:custGeom>
                    <a:noFill/>
                    <a:ln w="507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3" name="Oval 167"/>
                  <p:cNvSpPr/>
                  <p:nvPr/>
                </p:nvSpPr>
                <p:spPr>
                  <a:xfrm rot="1320000">
                    <a:off x="2500920" y="4657680"/>
                    <a:ext cx="380160" cy="24300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4" name="Text Box 168"/>
                <p:cNvSpPr/>
                <p:nvPr/>
              </p:nvSpPr>
              <p:spPr>
                <a:xfrm>
                  <a:off x="2561040" y="4781520"/>
                  <a:ext cx="30456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3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fMet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5" name="Text Box 169"/>
                <p:cNvSpPr/>
                <p:nvPr/>
              </p:nvSpPr>
              <p:spPr>
                <a:xfrm>
                  <a:off x="2667600" y="5470920"/>
                  <a:ext cx="304200" cy="11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3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UAC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6" name="Group 170"/>
              <p:cNvGrpSpPr/>
              <p:nvPr/>
            </p:nvGrpSpPr>
            <p:grpSpPr>
              <a:xfrm>
                <a:off x="2668320" y="4566600"/>
                <a:ext cx="1027800" cy="1251000"/>
                <a:chOff x="2668320" y="4566600"/>
                <a:chExt cx="1027800" cy="1251000"/>
              </a:xfrm>
            </p:grpSpPr>
            <p:grpSp>
              <p:nvGrpSpPr>
                <p:cNvPr id="1147" name="Group 171"/>
                <p:cNvGrpSpPr/>
                <p:nvPr/>
              </p:nvGrpSpPr>
              <p:grpSpPr>
                <a:xfrm>
                  <a:off x="2668320" y="4778640"/>
                  <a:ext cx="1027800" cy="1038960"/>
                  <a:chOff x="2668320" y="4778640"/>
                  <a:chExt cx="1027800" cy="1038960"/>
                </a:xfrm>
              </p:grpSpPr>
              <p:grpSp>
                <p:nvGrpSpPr>
                  <p:cNvPr id="1148" name="Group 172"/>
                  <p:cNvGrpSpPr/>
                  <p:nvPr/>
                </p:nvGrpSpPr>
                <p:grpSpPr>
                  <a:xfrm>
                    <a:off x="3069000" y="5661360"/>
                    <a:ext cx="304200" cy="156240"/>
                    <a:chOff x="3069000" y="5661360"/>
                    <a:chExt cx="304200" cy="156240"/>
                  </a:xfrm>
                </p:grpSpPr>
                <p:sp>
                  <p:nvSpPr>
                    <p:cNvPr id="1149" name="Line 173"/>
                    <p:cNvSpPr/>
                    <p:nvPr/>
                  </p:nvSpPr>
                  <p:spPr>
                    <a:xfrm flipH="1">
                      <a:off x="3069000" y="5666400"/>
                      <a:ext cx="9720" cy="1483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0" name="Line 174"/>
                    <p:cNvSpPr/>
                    <p:nvPr/>
                  </p:nvSpPr>
                  <p:spPr>
                    <a:xfrm flipH="1">
                      <a:off x="3211200" y="5669640"/>
                      <a:ext cx="9720" cy="1479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1" name="Line 175"/>
                    <p:cNvSpPr/>
                    <p:nvPr/>
                  </p:nvSpPr>
                  <p:spPr>
                    <a:xfrm flipH="1">
                      <a:off x="3363840" y="5661360"/>
                      <a:ext cx="9360" cy="1479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52" name="Freeform 176"/>
                  <p:cNvSpPr/>
                  <p:nvPr/>
                </p:nvSpPr>
                <p:spPr>
                  <a:xfrm rot="3660000">
                    <a:off x="2798640" y="4920480"/>
                    <a:ext cx="766800" cy="749880"/>
                  </a:xfrm>
                  <a:custGeom>
                    <a:avLst/>
                    <a:gdLst>
                      <a:gd name="textAreaLeft" fmla="*/ 0 w 766800"/>
                      <a:gd name="textAreaRight" fmla="*/ 767160 w 766800"/>
                      <a:gd name="textAreaTop" fmla="*/ 0 h 749880"/>
                      <a:gd name="textAreaBottom" fmla="*/ 750240 h 749880"/>
                    </a:gdLst>
                    <a:ahLst/>
                    <a:rect l="textAreaLeft" t="textAreaTop" r="textAreaRight" b="textAreaBottom"/>
                    <a:pathLst>
                      <a:path w="1400" h="1110">
                        <a:moveTo>
                          <a:pt x="140" y="390"/>
                        </a:moveTo>
                        <a:cubicBezTo>
                          <a:pt x="210" y="480"/>
                          <a:pt x="280" y="570"/>
                          <a:pt x="380" y="570"/>
                        </a:cubicBezTo>
                        <a:cubicBezTo>
                          <a:pt x="480" y="570"/>
                          <a:pt x="620" y="420"/>
                          <a:pt x="740" y="390"/>
                        </a:cubicBezTo>
                        <a:cubicBezTo>
                          <a:pt x="860" y="360"/>
                          <a:pt x="1000" y="360"/>
                          <a:pt x="1100" y="390"/>
                        </a:cubicBezTo>
                        <a:cubicBezTo>
                          <a:pt x="1200" y="420"/>
                          <a:pt x="1300" y="480"/>
                          <a:pt x="1340" y="570"/>
                        </a:cubicBezTo>
                        <a:cubicBezTo>
                          <a:pt x="1380" y="660"/>
                          <a:pt x="1400" y="840"/>
                          <a:pt x="1340" y="930"/>
                        </a:cubicBezTo>
                        <a:cubicBezTo>
                          <a:pt x="1280" y="1020"/>
                          <a:pt x="1100" y="1110"/>
                          <a:pt x="980" y="1110"/>
                        </a:cubicBezTo>
                        <a:cubicBezTo>
                          <a:pt x="860" y="1110"/>
                          <a:pt x="700" y="990"/>
                          <a:pt x="620" y="930"/>
                        </a:cubicBezTo>
                        <a:cubicBezTo>
                          <a:pt x="540" y="870"/>
                          <a:pt x="540" y="840"/>
                          <a:pt x="500" y="750"/>
                        </a:cubicBezTo>
                        <a:cubicBezTo>
                          <a:pt x="460" y="660"/>
                          <a:pt x="400" y="480"/>
                          <a:pt x="380" y="390"/>
                        </a:cubicBezTo>
                        <a:cubicBezTo>
                          <a:pt x="360" y="300"/>
                          <a:pt x="400" y="270"/>
                          <a:pt x="380" y="210"/>
                        </a:cubicBezTo>
                        <a:cubicBezTo>
                          <a:pt x="360" y="150"/>
                          <a:pt x="320" y="60"/>
                          <a:pt x="260" y="30"/>
                        </a:cubicBezTo>
                        <a:cubicBezTo>
                          <a:pt x="200" y="0"/>
                          <a:pt x="40" y="30"/>
                          <a:pt x="20" y="30"/>
                        </a:cubicBezTo>
                        <a:cubicBezTo>
                          <a:pt x="0" y="30"/>
                          <a:pt x="70" y="30"/>
                          <a:pt x="140" y="30"/>
                        </a:cubicBezTo>
                      </a:path>
                    </a:pathLst>
                  </a:custGeom>
                  <a:noFill/>
                  <a:ln w="507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3" name="Group 177"/>
                <p:cNvGrpSpPr/>
                <p:nvPr/>
              </p:nvGrpSpPr>
              <p:grpSpPr>
                <a:xfrm>
                  <a:off x="2787840" y="4566600"/>
                  <a:ext cx="537480" cy="493920"/>
                  <a:chOff x="2787840" y="4566600"/>
                  <a:chExt cx="537480" cy="493920"/>
                </a:xfrm>
              </p:grpSpPr>
              <p:sp>
                <p:nvSpPr>
                  <p:cNvPr id="1154" name="Oval 178"/>
                  <p:cNvSpPr/>
                  <p:nvPr/>
                </p:nvSpPr>
                <p:spPr>
                  <a:xfrm rot="1320000">
                    <a:off x="2838600" y="4635000"/>
                    <a:ext cx="435600" cy="35676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Text Box 179"/>
                  <p:cNvSpPr/>
                  <p:nvPr/>
                </p:nvSpPr>
                <p:spPr>
                  <a:xfrm>
                    <a:off x="2907720" y="4729680"/>
                    <a:ext cx="348840" cy="177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rm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AA2</a:t>
                    </a:r>
                    <a:endParaRPr b="0" lang="en-US" sz="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56" name="Text Box 180"/>
                <p:cNvSpPr/>
                <p:nvPr/>
              </p:nvSpPr>
              <p:spPr>
                <a:xfrm>
                  <a:off x="3035880" y="5451480"/>
                  <a:ext cx="30420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57" name="Group 309"/>
            <p:cNvGrpSpPr/>
            <p:nvPr/>
          </p:nvGrpSpPr>
          <p:grpSpPr>
            <a:xfrm>
              <a:off x="-181080" y="115920"/>
              <a:ext cx="3651480" cy="2346120"/>
              <a:chOff x="-181080" y="115920"/>
              <a:chExt cx="3651480" cy="2346120"/>
            </a:xfrm>
          </p:grpSpPr>
          <p:sp>
            <p:nvSpPr>
              <p:cNvPr id="1158" name="Text Box 5"/>
              <p:cNvSpPr/>
              <p:nvPr/>
            </p:nvSpPr>
            <p:spPr>
              <a:xfrm>
                <a:off x="2943360" y="1679400"/>
                <a:ext cx="30456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4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3’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Oval 6"/>
              <p:cNvSpPr/>
              <p:nvPr/>
            </p:nvSpPr>
            <p:spPr>
              <a:xfrm>
                <a:off x="1343160" y="1011240"/>
                <a:ext cx="1371600" cy="90180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ffffff">
                      <a:alpha val="47058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Oval 7"/>
              <p:cNvSpPr/>
              <p:nvPr/>
            </p:nvSpPr>
            <p:spPr>
              <a:xfrm rot="21420000">
                <a:off x="1341000" y="1800360"/>
                <a:ext cx="1371600" cy="447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61" name="Group 8"/>
              <p:cNvGrpSpPr/>
              <p:nvPr/>
            </p:nvGrpSpPr>
            <p:grpSpPr>
              <a:xfrm>
                <a:off x="2181240" y="1125360"/>
                <a:ext cx="303120" cy="1006560"/>
                <a:chOff x="2181240" y="1125360"/>
                <a:chExt cx="303120" cy="1006560"/>
              </a:xfrm>
            </p:grpSpPr>
            <p:sp>
              <p:nvSpPr>
                <p:cNvPr id="1162" name="AutoShape 9"/>
                <p:cNvSpPr/>
                <p:nvPr/>
              </p:nvSpPr>
              <p:spPr>
                <a:xfrm>
                  <a:off x="2181240" y="1125360"/>
                  <a:ext cx="303120" cy="1006560"/>
                </a:xfrm>
                <a:custGeom>
                  <a:avLst/>
                  <a:gdLst>
                    <a:gd name="textAreaLeft" fmla="*/ 14760 w 303120"/>
                    <a:gd name="textAreaRight" fmla="*/ 288360 w 303120"/>
                    <a:gd name="textAreaTop" fmla="*/ 14760 h 1006560"/>
                    <a:gd name="textAreaBottom" fmla="*/ 991800 h 1006560"/>
                  </a:gdLst>
                  <a:ahLst/>
                  <a:rect l="textAreaLeft" t="textAreaTop" r="textAreaRight" b="textAreaBottom"/>
                  <a:pathLst>
                    <a:path w="21600" h="71667">
                      <a:moveTo>
                        <a:pt x="3600" y="0"/>
                      </a:moveTo>
                      <a:arcTo wR="3600" hR="3600" stAng="16200000" swAng="-5400000"/>
                      <a:lnTo>
                        <a:pt x="0" y="68067"/>
                      </a:lnTo>
                      <a:arcTo wR="3600" hR="3600" stAng="10800000" swAng="-5400000"/>
                      <a:lnTo>
                        <a:pt x="18000" y="7166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3" name="Text Box 10"/>
                <p:cNvSpPr/>
                <p:nvPr/>
              </p:nvSpPr>
              <p:spPr>
                <a:xfrm>
                  <a:off x="2181240" y="1917720"/>
                  <a:ext cx="272880" cy="14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77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4" name="Text Box 11"/>
              <p:cNvSpPr/>
              <p:nvPr/>
            </p:nvSpPr>
            <p:spPr>
              <a:xfrm>
                <a:off x="733320" y="1730520"/>
                <a:ext cx="304920" cy="11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6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5’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65" name="Group 12"/>
              <p:cNvGrpSpPr/>
              <p:nvPr/>
            </p:nvGrpSpPr>
            <p:grpSpPr>
              <a:xfrm>
                <a:off x="1708200" y="1125360"/>
                <a:ext cx="455400" cy="1040040"/>
                <a:chOff x="1708200" y="1125360"/>
                <a:chExt cx="455400" cy="1040040"/>
              </a:xfrm>
            </p:grpSpPr>
            <p:sp>
              <p:nvSpPr>
                <p:cNvPr id="1166" name="AutoShape 13"/>
                <p:cNvSpPr/>
                <p:nvPr/>
              </p:nvSpPr>
              <p:spPr>
                <a:xfrm>
                  <a:off x="1723680" y="1125360"/>
                  <a:ext cx="379080" cy="1040040"/>
                </a:xfrm>
                <a:custGeom>
                  <a:avLst/>
                  <a:gdLst>
                    <a:gd name="textAreaLeft" fmla="*/ 18360 w 379080"/>
                    <a:gd name="textAreaRight" fmla="*/ 360720 w 379080"/>
                    <a:gd name="textAreaTop" fmla="*/ 18360 h 1040040"/>
                    <a:gd name="textAreaBottom" fmla="*/ 1021680 h 1040040"/>
                  </a:gdLst>
                  <a:ahLst/>
                  <a:rect l="textAreaLeft" t="textAreaTop" r="textAreaRight" b="textAreaBottom"/>
                  <a:pathLst>
                    <a:path w="21600" h="59226">
                      <a:moveTo>
                        <a:pt x="3600" y="0"/>
                      </a:moveTo>
                      <a:arcTo wR="3600" hR="3600" stAng="16200000" swAng="-5400000"/>
                      <a:lnTo>
                        <a:pt x="0" y="55626"/>
                      </a:lnTo>
                      <a:arcTo wR="3600" hR="3600" stAng="10800000" swAng="-5400000"/>
                      <a:lnTo>
                        <a:pt x="18000" y="5922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7" name="Text Box 14"/>
                <p:cNvSpPr/>
                <p:nvPr/>
              </p:nvSpPr>
              <p:spPr>
                <a:xfrm>
                  <a:off x="1761840" y="1971720"/>
                  <a:ext cx="341280" cy="17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94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8" name="Text Box 15"/>
                <p:cNvSpPr/>
                <p:nvPr/>
              </p:nvSpPr>
              <p:spPr>
                <a:xfrm>
                  <a:off x="1708200" y="1842120"/>
                  <a:ext cx="455400" cy="11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61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UG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9" name="Group 16"/>
              <p:cNvGrpSpPr/>
              <p:nvPr/>
            </p:nvGrpSpPr>
            <p:grpSpPr>
              <a:xfrm>
                <a:off x="961920" y="1655640"/>
                <a:ext cx="2055960" cy="150480"/>
                <a:chOff x="961920" y="1655640"/>
                <a:chExt cx="2055960" cy="150480"/>
              </a:xfrm>
            </p:grpSpPr>
            <p:grpSp>
              <p:nvGrpSpPr>
                <p:cNvPr id="1170" name="Group 17"/>
                <p:cNvGrpSpPr/>
                <p:nvPr/>
              </p:nvGrpSpPr>
              <p:grpSpPr>
                <a:xfrm>
                  <a:off x="1056960" y="1657080"/>
                  <a:ext cx="188280" cy="140760"/>
                  <a:chOff x="1056960" y="1657080"/>
                  <a:chExt cx="188280" cy="140760"/>
                </a:xfrm>
              </p:grpSpPr>
              <p:sp>
                <p:nvSpPr>
                  <p:cNvPr id="1171" name="Line 18"/>
                  <p:cNvSpPr/>
                  <p:nvPr/>
                </p:nvSpPr>
                <p:spPr>
                  <a:xfrm flipH="1">
                    <a:off x="1056960" y="1664640"/>
                    <a:ext cx="432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2" name="Line 19"/>
                  <p:cNvSpPr/>
                  <p:nvPr/>
                </p:nvSpPr>
                <p:spPr>
                  <a:xfrm>
                    <a:off x="1149120" y="1666080"/>
                    <a:ext cx="108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3" name="Line 20"/>
                  <p:cNvSpPr/>
                  <p:nvPr/>
                </p:nvSpPr>
                <p:spPr>
                  <a:xfrm>
                    <a:off x="1244160" y="1657080"/>
                    <a:ext cx="108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4" name="Group 21"/>
                <p:cNvGrpSpPr/>
                <p:nvPr/>
              </p:nvGrpSpPr>
              <p:grpSpPr>
                <a:xfrm>
                  <a:off x="1437840" y="1655640"/>
                  <a:ext cx="188280" cy="142920"/>
                  <a:chOff x="1437840" y="1655640"/>
                  <a:chExt cx="188280" cy="142920"/>
                </a:xfrm>
              </p:grpSpPr>
              <p:sp>
                <p:nvSpPr>
                  <p:cNvPr id="1175" name="Line 22"/>
                  <p:cNvSpPr/>
                  <p:nvPr/>
                </p:nvSpPr>
                <p:spPr>
                  <a:xfrm>
                    <a:off x="1437840" y="1666440"/>
                    <a:ext cx="144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" name="Line 23"/>
                  <p:cNvSpPr/>
                  <p:nvPr/>
                </p:nvSpPr>
                <p:spPr>
                  <a:xfrm>
                    <a:off x="1527480" y="1666440"/>
                    <a:ext cx="108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Line 24"/>
                  <p:cNvSpPr/>
                  <p:nvPr/>
                </p:nvSpPr>
                <p:spPr>
                  <a:xfrm>
                    <a:off x="1625040" y="1655640"/>
                    <a:ext cx="108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8" name="Group 25"/>
                <p:cNvGrpSpPr/>
                <p:nvPr/>
              </p:nvGrpSpPr>
              <p:grpSpPr>
                <a:xfrm>
                  <a:off x="1816920" y="1657080"/>
                  <a:ext cx="188280" cy="140760"/>
                  <a:chOff x="1816920" y="1657080"/>
                  <a:chExt cx="188280" cy="140760"/>
                </a:xfrm>
              </p:grpSpPr>
              <p:sp>
                <p:nvSpPr>
                  <p:cNvPr id="1179" name="Line 26"/>
                  <p:cNvSpPr/>
                  <p:nvPr/>
                </p:nvSpPr>
                <p:spPr>
                  <a:xfrm flipH="1">
                    <a:off x="1816920" y="1664640"/>
                    <a:ext cx="432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Line 27"/>
                  <p:cNvSpPr/>
                  <p:nvPr/>
                </p:nvSpPr>
                <p:spPr>
                  <a:xfrm>
                    <a:off x="1907280" y="1666080"/>
                    <a:ext cx="108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" name="Line 28"/>
                  <p:cNvSpPr/>
                  <p:nvPr/>
                </p:nvSpPr>
                <p:spPr>
                  <a:xfrm flipH="1">
                    <a:off x="2000880" y="1657080"/>
                    <a:ext cx="432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2" name="Group 29"/>
                <p:cNvGrpSpPr/>
                <p:nvPr/>
              </p:nvGrpSpPr>
              <p:grpSpPr>
                <a:xfrm>
                  <a:off x="2197080" y="1658520"/>
                  <a:ext cx="191880" cy="139320"/>
                  <a:chOff x="2197080" y="1658520"/>
                  <a:chExt cx="191880" cy="139320"/>
                </a:xfrm>
              </p:grpSpPr>
              <p:sp>
                <p:nvSpPr>
                  <p:cNvPr id="1183" name="Line 30"/>
                  <p:cNvSpPr/>
                  <p:nvPr/>
                </p:nvSpPr>
                <p:spPr>
                  <a:xfrm flipH="1">
                    <a:off x="2197080" y="1662840"/>
                    <a:ext cx="612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" name="Line 31"/>
                  <p:cNvSpPr/>
                  <p:nvPr/>
                </p:nvSpPr>
                <p:spPr>
                  <a:xfrm flipH="1">
                    <a:off x="2285640" y="1666080"/>
                    <a:ext cx="612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Line 32"/>
                  <p:cNvSpPr/>
                  <p:nvPr/>
                </p:nvSpPr>
                <p:spPr>
                  <a:xfrm flipH="1">
                    <a:off x="2383200" y="1658520"/>
                    <a:ext cx="576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Line 33"/>
                <p:cNvSpPr/>
                <p:nvPr/>
              </p:nvSpPr>
              <p:spPr>
                <a:xfrm>
                  <a:off x="961920" y="1805040"/>
                  <a:ext cx="2055960" cy="1080"/>
                </a:xfrm>
                <a:prstGeom prst="line">
                  <a:avLst/>
                </a:prstGeom>
                <a:ln w="47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87" name="Group 34"/>
                <p:cNvGrpSpPr/>
                <p:nvPr/>
              </p:nvGrpSpPr>
              <p:grpSpPr>
                <a:xfrm>
                  <a:off x="2577960" y="1658520"/>
                  <a:ext cx="191160" cy="139320"/>
                  <a:chOff x="2577960" y="1658520"/>
                  <a:chExt cx="191160" cy="139320"/>
                </a:xfrm>
              </p:grpSpPr>
              <p:sp>
                <p:nvSpPr>
                  <p:cNvPr id="1188" name="Line 35"/>
                  <p:cNvSpPr/>
                  <p:nvPr/>
                </p:nvSpPr>
                <p:spPr>
                  <a:xfrm flipH="1">
                    <a:off x="2577960" y="1662840"/>
                    <a:ext cx="612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Line 36"/>
                  <p:cNvSpPr/>
                  <p:nvPr/>
                </p:nvSpPr>
                <p:spPr>
                  <a:xfrm flipH="1">
                    <a:off x="2666880" y="1666080"/>
                    <a:ext cx="576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" name="Line 37"/>
                  <p:cNvSpPr/>
                  <p:nvPr/>
                </p:nvSpPr>
                <p:spPr>
                  <a:xfrm flipH="1">
                    <a:off x="2763000" y="1658520"/>
                    <a:ext cx="612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91" name="Group 38"/>
              <p:cNvGrpSpPr/>
              <p:nvPr/>
            </p:nvGrpSpPr>
            <p:grpSpPr>
              <a:xfrm>
                <a:off x="1378440" y="410400"/>
                <a:ext cx="1044720" cy="1229760"/>
                <a:chOff x="1378440" y="410400"/>
                <a:chExt cx="1044720" cy="1229760"/>
              </a:xfrm>
            </p:grpSpPr>
            <p:grpSp>
              <p:nvGrpSpPr>
                <p:cNvPr id="1192" name="Group 39"/>
                <p:cNvGrpSpPr/>
                <p:nvPr/>
              </p:nvGrpSpPr>
              <p:grpSpPr>
                <a:xfrm>
                  <a:off x="1378440" y="410400"/>
                  <a:ext cx="1044720" cy="1229760"/>
                  <a:chOff x="1378440" y="410400"/>
                  <a:chExt cx="1044720" cy="1229760"/>
                </a:xfrm>
              </p:grpSpPr>
              <p:grpSp>
                <p:nvGrpSpPr>
                  <p:cNvPr id="1193" name="Group 40"/>
                  <p:cNvGrpSpPr/>
                  <p:nvPr/>
                </p:nvGrpSpPr>
                <p:grpSpPr>
                  <a:xfrm>
                    <a:off x="1378440" y="563400"/>
                    <a:ext cx="1044720" cy="1076760"/>
                    <a:chOff x="1378440" y="563400"/>
                    <a:chExt cx="1044720" cy="1076760"/>
                  </a:xfrm>
                </p:grpSpPr>
                <p:grpSp>
                  <p:nvGrpSpPr>
                    <p:cNvPr id="1194" name="Group 41"/>
                    <p:cNvGrpSpPr/>
                    <p:nvPr/>
                  </p:nvGrpSpPr>
                  <p:grpSpPr>
                    <a:xfrm>
                      <a:off x="1789560" y="1477080"/>
                      <a:ext cx="303480" cy="163080"/>
                      <a:chOff x="1789560" y="1477080"/>
                      <a:chExt cx="303480" cy="163080"/>
                    </a:xfrm>
                  </p:grpSpPr>
                  <p:sp>
                    <p:nvSpPr>
                      <p:cNvPr id="1195" name="Line 42"/>
                      <p:cNvSpPr/>
                      <p:nvPr/>
                    </p:nvSpPr>
                    <p:spPr>
                      <a:xfrm flipH="1">
                        <a:off x="1789560" y="1482120"/>
                        <a:ext cx="9720" cy="15588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96" name="Line 43"/>
                      <p:cNvSpPr/>
                      <p:nvPr/>
                    </p:nvSpPr>
                    <p:spPr>
                      <a:xfrm flipH="1">
                        <a:off x="1930680" y="1483920"/>
                        <a:ext cx="9360" cy="15624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97" name="Line 44"/>
                      <p:cNvSpPr/>
                      <p:nvPr/>
                    </p:nvSpPr>
                    <p:spPr>
                      <a:xfrm flipH="1">
                        <a:off x="2083320" y="1477080"/>
                        <a:ext cx="9720" cy="15588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198" name="Freeform 45"/>
                    <p:cNvSpPr/>
                    <p:nvPr/>
                  </p:nvSpPr>
                  <p:spPr>
                    <a:xfrm rot="3660000">
                      <a:off x="1500480" y="720000"/>
                      <a:ext cx="800280" cy="750600"/>
                    </a:xfrm>
                    <a:custGeom>
                      <a:avLst/>
                      <a:gdLst>
                        <a:gd name="textAreaLeft" fmla="*/ 0 w 800280"/>
                        <a:gd name="textAreaRight" fmla="*/ 800640 w 800280"/>
                        <a:gd name="textAreaTop" fmla="*/ 0 h 750600"/>
                        <a:gd name="textAreaBottom" fmla="*/ 750960 h 750600"/>
                      </a:gdLst>
                      <a:ahLst/>
                      <a:rect l="textAreaLeft" t="textAreaTop" r="textAreaRight" b="textAreaBottom"/>
                      <a:pathLst>
                        <a:path w="1400" h="1110">
                          <a:moveTo>
                            <a:pt x="140" y="390"/>
                          </a:moveTo>
                          <a:cubicBezTo>
                            <a:pt x="210" y="480"/>
                            <a:pt x="280" y="570"/>
                            <a:pt x="380" y="570"/>
                          </a:cubicBezTo>
                          <a:cubicBezTo>
                            <a:pt x="480" y="570"/>
                            <a:pt x="620" y="420"/>
                            <a:pt x="740" y="390"/>
                          </a:cubicBezTo>
                          <a:cubicBezTo>
                            <a:pt x="860" y="360"/>
                            <a:pt x="1000" y="360"/>
                            <a:pt x="1100" y="390"/>
                          </a:cubicBezTo>
                          <a:cubicBezTo>
                            <a:pt x="1200" y="420"/>
                            <a:pt x="1300" y="480"/>
                            <a:pt x="1340" y="570"/>
                          </a:cubicBezTo>
                          <a:cubicBezTo>
                            <a:pt x="1380" y="660"/>
                            <a:pt x="1400" y="840"/>
                            <a:pt x="1340" y="930"/>
                          </a:cubicBezTo>
                          <a:cubicBezTo>
                            <a:pt x="1280" y="1020"/>
                            <a:pt x="1100" y="1110"/>
                            <a:pt x="980" y="1110"/>
                          </a:cubicBezTo>
                          <a:cubicBezTo>
                            <a:pt x="860" y="1110"/>
                            <a:pt x="700" y="990"/>
                            <a:pt x="620" y="930"/>
                          </a:cubicBezTo>
                          <a:cubicBezTo>
                            <a:pt x="540" y="870"/>
                            <a:pt x="540" y="840"/>
                            <a:pt x="500" y="750"/>
                          </a:cubicBezTo>
                          <a:cubicBezTo>
                            <a:pt x="460" y="660"/>
                            <a:pt x="400" y="480"/>
                            <a:pt x="380" y="390"/>
                          </a:cubicBezTo>
                          <a:cubicBezTo>
                            <a:pt x="360" y="300"/>
                            <a:pt x="400" y="270"/>
                            <a:pt x="380" y="210"/>
                          </a:cubicBezTo>
                          <a:cubicBezTo>
                            <a:pt x="360" y="150"/>
                            <a:pt x="320" y="60"/>
                            <a:pt x="260" y="30"/>
                          </a:cubicBezTo>
                          <a:cubicBezTo>
                            <a:pt x="200" y="0"/>
                            <a:pt x="40" y="30"/>
                            <a:pt x="20" y="30"/>
                          </a:cubicBezTo>
                          <a:cubicBezTo>
                            <a:pt x="0" y="30"/>
                            <a:pt x="70" y="30"/>
                            <a:pt x="140" y="30"/>
                          </a:cubicBezTo>
                        </a:path>
                      </a:pathLst>
                    </a:custGeom>
                    <a:noFill/>
                    <a:ln w="507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9" name="Oval 46"/>
                  <p:cNvSpPr/>
                  <p:nvPr/>
                </p:nvSpPr>
                <p:spPr>
                  <a:xfrm rot="1320000">
                    <a:off x="1587600" y="472680"/>
                    <a:ext cx="380880" cy="24048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Text Box 47"/>
                <p:cNvSpPr/>
                <p:nvPr/>
              </p:nvSpPr>
              <p:spPr>
                <a:xfrm>
                  <a:off x="1646280" y="595440"/>
                  <a:ext cx="304920" cy="11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2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fMet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1" name="Text Box 48"/>
                <p:cNvSpPr/>
                <p:nvPr/>
              </p:nvSpPr>
              <p:spPr>
                <a:xfrm>
                  <a:off x="1754280" y="1276200"/>
                  <a:ext cx="304560" cy="11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3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UAC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2" name="Text Box 49"/>
              <p:cNvSpPr/>
              <p:nvPr/>
            </p:nvSpPr>
            <p:spPr>
              <a:xfrm>
                <a:off x="504720" y="2081160"/>
                <a:ext cx="9144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Codón de inicio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Text Box 50"/>
              <p:cNvSpPr/>
              <p:nvPr/>
            </p:nvSpPr>
            <p:spPr>
              <a:xfrm>
                <a:off x="2556000" y="1905120"/>
                <a:ext cx="91440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91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odón siguiente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Text Box 51"/>
              <p:cNvSpPr/>
              <p:nvPr/>
            </p:nvSpPr>
            <p:spPr>
              <a:xfrm>
                <a:off x="174600" y="990720"/>
                <a:ext cx="914400" cy="66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70c0"/>
                    </a:solidFill>
                    <a:latin typeface="Arial"/>
                  </a:rPr>
                  <a:t>Complejo de inicio 70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Text Box 181"/>
              <p:cNvSpPr/>
              <p:nvPr/>
            </p:nvSpPr>
            <p:spPr>
              <a:xfrm>
                <a:off x="-181080" y="115920"/>
                <a:ext cx="114300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Text Box 182"/>
              <p:cNvSpPr/>
              <p:nvPr/>
            </p:nvSpPr>
            <p:spPr>
              <a:xfrm>
                <a:off x="1135080" y="460440"/>
                <a:ext cx="5540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07" name="Text Box 183"/>
            <p:cNvSpPr/>
            <p:nvPr/>
          </p:nvSpPr>
          <p:spPr>
            <a:xfrm>
              <a:off x="2071800" y="4637160"/>
              <a:ext cx="554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Line 240"/>
            <p:cNvSpPr/>
            <p:nvPr/>
          </p:nvSpPr>
          <p:spPr>
            <a:xfrm>
              <a:off x="3995640" y="5734080"/>
              <a:ext cx="1513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9" name="Text Box 241"/>
          <p:cNvSpPr/>
          <p:nvPr/>
        </p:nvSpPr>
        <p:spPr>
          <a:xfrm>
            <a:off x="3769200" y="5373720"/>
            <a:ext cx="183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Peptidil transferas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0" name="Group 311"/>
          <p:cNvGrpSpPr/>
          <p:nvPr/>
        </p:nvGrpSpPr>
        <p:grpSpPr>
          <a:xfrm>
            <a:off x="5153040" y="2205000"/>
            <a:ext cx="3956040" cy="4288680"/>
            <a:chOff x="5153040" y="2205000"/>
            <a:chExt cx="3956040" cy="4288680"/>
          </a:xfrm>
        </p:grpSpPr>
        <p:grpSp>
          <p:nvGrpSpPr>
            <p:cNvPr id="1211" name="Group 184"/>
            <p:cNvGrpSpPr/>
            <p:nvPr/>
          </p:nvGrpSpPr>
          <p:grpSpPr>
            <a:xfrm>
              <a:off x="5153040" y="4365720"/>
              <a:ext cx="2514600" cy="2127960"/>
              <a:chOff x="5153040" y="4365720"/>
              <a:chExt cx="2514600" cy="2127960"/>
            </a:xfrm>
          </p:grpSpPr>
          <p:sp>
            <p:nvSpPr>
              <p:cNvPr id="1212" name="Text Box 185"/>
              <p:cNvSpPr/>
              <p:nvPr/>
            </p:nvSpPr>
            <p:spPr>
              <a:xfrm>
                <a:off x="7362720" y="5889600"/>
                <a:ext cx="30492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4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3’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Oval 186"/>
              <p:cNvSpPr/>
              <p:nvPr/>
            </p:nvSpPr>
            <p:spPr>
              <a:xfrm>
                <a:off x="5762520" y="5221440"/>
                <a:ext cx="1371600" cy="9014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ffffff">
                      <a:alpha val="47058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Oval 187"/>
              <p:cNvSpPr/>
              <p:nvPr/>
            </p:nvSpPr>
            <p:spPr>
              <a:xfrm rot="21420000">
                <a:off x="5760720" y="6010200"/>
                <a:ext cx="1371600" cy="44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15" name="Group 188"/>
              <p:cNvGrpSpPr/>
              <p:nvPr/>
            </p:nvGrpSpPr>
            <p:grpSpPr>
              <a:xfrm>
                <a:off x="6600960" y="5334120"/>
                <a:ext cx="303120" cy="1006200"/>
                <a:chOff x="6600960" y="5334120"/>
                <a:chExt cx="303120" cy="1006200"/>
              </a:xfrm>
            </p:grpSpPr>
            <p:sp>
              <p:nvSpPr>
                <p:cNvPr id="1216" name="AutoShape 189"/>
                <p:cNvSpPr/>
                <p:nvPr/>
              </p:nvSpPr>
              <p:spPr>
                <a:xfrm>
                  <a:off x="6600960" y="5334120"/>
                  <a:ext cx="303120" cy="1006200"/>
                </a:xfrm>
                <a:custGeom>
                  <a:avLst/>
                  <a:gdLst>
                    <a:gd name="textAreaLeft" fmla="*/ 14760 w 303120"/>
                    <a:gd name="textAreaRight" fmla="*/ 288360 w 303120"/>
                    <a:gd name="textAreaTop" fmla="*/ 14760 h 1006200"/>
                    <a:gd name="textAreaBottom" fmla="*/ 991440 h 1006200"/>
                  </a:gdLst>
                  <a:ahLst/>
                  <a:rect l="textAreaLeft" t="textAreaTop" r="textAreaRight" b="textAreaBottom"/>
                  <a:pathLst>
                    <a:path w="21600" h="71641">
                      <a:moveTo>
                        <a:pt x="3600" y="0"/>
                      </a:moveTo>
                      <a:arcTo wR="3600" hR="3600" stAng="16200000" swAng="-5400000"/>
                      <a:lnTo>
                        <a:pt x="0" y="68041"/>
                      </a:lnTo>
                      <a:arcTo wR="3600" hR="3600" stAng="10800000" swAng="-5400000"/>
                      <a:lnTo>
                        <a:pt x="18000" y="71641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7" name="Text Box 190"/>
                <p:cNvSpPr/>
                <p:nvPr/>
              </p:nvSpPr>
              <p:spPr>
                <a:xfrm>
                  <a:off x="6600960" y="6126480"/>
                  <a:ext cx="273240" cy="14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77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8" name="Text Box 191"/>
              <p:cNvSpPr/>
              <p:nvPr/>
            </p:nvSpPr>
            <p:spPr>
              <a:xfrm>
                <a:off x="5153040" y="5940360"/>
                <a:ext cx="304920" cy="11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6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5’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AutoShape 192"/>
              <p:cNvSpPr/>
              <p:nvPr/>
            </p:nvSpPr>
            <p:spPr>
              <a:xfrm>
                <a:off x="6143760" y="5334120"/>
                <a:ext cx="380880" cy="1042920"/>
              </a:xfrm>
              <a:custGeom>
                <a:avLst/>
                <a:gdLst>
                  <a:gd name="textAreaLeft" fmla="*/ 18360 w 380880"/>
                  <a:gd name="textAreaRight" fmla="*/ 362520 w 380880"/>
                  <a:gd name="textAreaTop" fmla="*/ 18360 h 1042920"/>
                  <a:gd name="textAreaBottom" fmla="*/ 1024560 h 1042920"/>
                </a:gdLst>
                <a:ahLst/>
                <a:rect l="textAreaLeft" t="textAreaTop" r="textAreaRight" b="textAreaBottom"/>
                <a:pathLst>
                  <a:path w="21600" h="59109">
                    <a:moveTo>
                      <a:pt x="3600" y="0"/>
                    </a:moveTo>
                    <a:arcTo wR="3600" hR="3600" stAng="16200000" swAng="-5400000"/>
                    <a:lnTo>
                      <a:pt x="0" y="55509"/>
                    </a:lnTo>
                    <a:arcTo wR="3600" hR="3600" stAng="10800000" swAng="-5400000"/>
                    <a:lnTo>
                      <a:pt x="18000" y="5910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Text Box 193"/>
              <p:cNvSpPr/>
              <p:nvPr/>
            </p:nvSpPr>
            <p:spPr>
              <a:xfrm>
                <a:off x="6181560" y="6184800"/>
                <a:ext cx="343080" cy="17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94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Text Box 194"/>
              <p:cNvSpPr/>
              <p:nvPr/>
            </p:nvSpPr>
            <p:spPr>
              <a:xfrm>
                <a:off x="6127920" y="6053040"/>
                <a:ext cx="4572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63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22" name="Group 195"/>
              <p:cNvGrpSpPr/>
              <p:nvPr/>
            </p:nvGrpSpPr>
            <p:grpSpPr>
              <a:xfrm>
                <a:off x="5381640" y="5865840"/>
                <a:ext cx="2055960" cy="150480"/>
                <a:chOff x="5381640" y="5865840"/>
                <a:chExt cx="2055960" cy="150480"/>
              </a:xfrm>
            </p:grpSpPr>
            <p:grpSp>
              <p:nvGrpSpPr>
                <p:cNvPr id="1223" name="Group 196"/>
                <p:cNvGrpSpPr/>
                <p:nvPr/>
              </p:nvGrpSpPr>
              <p:grpSpPr>
                <a:xfrm>
                  <a:off x="5476680" y="5866920"/>
                  <a:ext cx="187920" cy="141120"/>
                  <a:chOff x="5476680" y="5866920"/>
                  <a:chExt cx="187920" cy="141120"/>
                </a:xfrm>
              </p:grpSpPr>
              <p:sp>
                <p:nvSpPr>
                  <p:cNvPr id="1224" name="Line 197"/>
                  <p:cNvSpPr/>
                  <p:nvPr/>
                </p:nvSpPr>
                <p:spPr>
                  <a:xfrm>
                    <a:off x="5476680" y="5874480"/>
                    <a:ext cx="108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" name="Line 198"/>
                  <p:cNvSpPr/>
                  <p:nvPr/>
                </p:nvSpPr>
                <p:spPr>
                  <a:xfrm>
                    <a:off x="5565960" y="5876280"/>
                    <a:ext cx="144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6" name="Line 199"/>
                  <p:cNvSpPr/>
                  <p:nvPr/>
                </p:nvSpPr>
                <p:spPr>
                  <a:xfrm>
                    <a:off x="5663520" y="5866920"/>
                    <a:ext cx="108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7" name="Group 200"/>
                <p:cNvGrpSpPr/>
                <p:nvPr/>
              </p:nvGrpSpPr>
              <p:grpSpPr>
                <a:xfrm>
                  <a:off x="5857560" y="5865840"/>
                  <a:ext cx="188280" cy="142920"/>
                  <a:chOff x="5857560" y="5865840"/>
                  <a:chExt cx="188280" cy="142920"/>
                </a:xfrm>
              </p:grpSpPr>
              <p:sp>
                <p:nvSpPr>
                  <p:cNvPr id="1228" name="Line 201"/>
                  <p:cNvSpPr/>
                  <p:nvPr/>
                </p:nvSpPr>
                <p:spPr>
                  <a:xfrm>
                    <a:off x="5857560" y="5876640"/>
                    <a:ext cx="108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9" name="Line 202"/>
                  <p:cNvSpPr/>
                  <p:nvPr/>
                </p:nvSpPr>
                <p:spPr>
                  <a:xfrm>
                    <a:off x="5946840" y="5876640"/>
                    <a:ext cx="144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Line 203"/>
                  <p:cNvSpPr/>
                  <p:nvPr/>
                </p:nvSpPr>
                <p:spPr>
                  <a:xfrm>
                    <a:off x="6044760" y="5865840"/>
                    <a:ext cx="108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1" name="Group 204"/>
                <p:cNvGrpSpPr/>
                <p:nvPr/>
              </p:nvGrpSpPr>
              <p:grpSpPr>
                <a:xfrm>
                  <a:off x="6237720" y="5866920"/>
                  <a:ext cx="188640" cy="141120"/>
                  <a:chOff x="6237720" y="5866920"/>
                  <a:chExt cx="188640" cy="141120"/>
                </a:xfrm>
              </p:grpSpPr>
              <p:sp>
                <p:nvSpPr>
                  <p:cNvPr id="1232" name="Line 205"/>
                  <p:cNvSpPr/>
                  <p:nvPr/>
                </p:nvSpPr>
                <p:spPr>
                  <a:xfrm flipH="1">
                    <a:off x="6237720" y="5874480"/>
                    <a:ext cx="468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Line 206"/>
                  <p:cNvSpPr/>
                  <p:nvPr/>
                </p:nvSpPr>
                <p:spPr>
                  <a:xfrm>
                    <a:off x="6329880" y="5876280"/>
                    <a:ext cx="108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" name="Line 207"/>
                  <p:cNvSpPr/>
                  <p:nvPr/>
                </p:nvSpPr>
                <p:spPr>
                  <a:xfrm flipH="1">
                    <a:off x="6422040" y="5866920"/>
                    <a:ext cx="432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5" name="Group 208"/>
                <p:cNvGrpSpPr/>
                <p:nvPr/>
              </p:nvGrpSpPr>
              <p:grpSpPr>
                <a:xfrm>
                  <a:off x="6617160" y="5868720"/>
                  <a:ext cx="191160" cy="139320"/>
                  <a:chOff x="6617160" y="5868720"/>
                  <a:chExt cx="191160" cy="139320"/>
                </a:xfrm>
              </p:grpSpPr>
              <p:sp>
                <p:nvSpPr>
                  <p:cNvPr id="1236" name="Line 209"/>
                  <p:cNvSpPr/>
                  <p:nvPr/>
                </p:nvSpPr>
                <p:spPr>
                  <a:xfrm flipH="1">
                    <a:off x="6617160" y="5873040"/>
                    <a:ext cx="576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7" name="Line 210"/>
                  <p:cNvSpPr/>
                  <p:nvPr/>
                </p:nvSpPr>
                <p:spPr>
                  <a:xfrm flipH="1">
                    <a:off x="6706080" y="5876280"/>
                    <a:ext cx="612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" name="Line 211"/>
                  <p:cNvSpPr/>
                  <p:nvPr/>
                </p:nvSpPr>
                <p:spPr>
                  <a:xfrm flipH="1">
                    <a:off x="6802200" y="5868720"/>
                    <a:ext cx="612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9" name="Line 212"/>
                <p:cNvSpPr/>
                <p:nvPr/>
              </p:nvSpPr>
              <p:spPr>
                <a:xfrm>
                  <a:off x="5381640" y="6014880"/>
                  <a:ext cx="2055960" cy="1440"/>
                </a:xfrm>
                <a:prstGeom prst="line">
                  <a:avLst/>
                </a:prstGeom>
                <a:ln w="47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40" name="Group 213"/>
                <p:cNvGrpSpPr/>
                <p:nvPr/>
              </p:nvGrpSpPr>
              <p:grpSpPr>
                <a:xfrm>
                  <a:off x="6997320" y="5868720"/>
                  <a:ext cx="191520" cy="139320"/>
                  <a:chOff x="6997320" y="5868720"/>
                  <a:chExt cx="191520" cy="139320"/>
                </a:xfrm>
              </p:grpSpPr>
              <p:sp>
                <p:nvSpPr>
                  <p:cNvPr id="1241" name="Line 214"/>
                  <p:cNvSpPr/>
                  <p:nvPr/>
                </p:nvSpPr>
                <p:spPr>
                  <a:xfrm flipH="1">
                    <a:off x="6997320" y="5873040"/>
                    <a:ext cx="612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" name="Line 215"/>
                  <p:cNvSpPr/>
                  <p:nvPr/>
                </p:nvSpPr>
                <p:spPr>
                  <a:xfrm flipH="1">
                    <a:off x="7087320" y="5876280"/>
                    <a:ext cx="576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3" name="Line 216"/>
                  <p:cNvSpPr/>
                  <p:nvPr/>
                </p:nvSpPr>
                <p:spPr>
                  <a:xfrm flipH="1">
                    <a:off x="7182720" y="5868720"/>
                    <a:ext cx="612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44" name="Group 217"/>
              <p:cNvGrpSpPr/>
              <p:nvPr/>
            </p:nvGrpSpPr>
            <p:grpSpPr>
              <a:xfrm>
                <a:off x="5990400" y="4376160"/>
                <a:ext cx="536400" cy="489960"/>
                <a:chOff x="5990400" y="4376160"/>
                <a:chExt cx="536400" cy="489960"/>
              </a:xfrm>
            </p:grpSpPr>
            <p:sp>
              <p:nvSpPr>
                <p:cNvPr id="1245" name="Oval 218"/>
                <p:cNvSpPr/>
                <p:nvPr/>
              </p:nvSpPr>
              <p:spPr>
                <a:xfrm rot="1320000">
                  <a:off x="6040080" y="4444920"/>
                  <a:ext cx="436320" cy="35208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6" name="Text Box 219"/>
                <p:cNvSpPr/>
                <p:nvPr/>
              </p:nvSpPr>
              <p:spPr>
                <a:xfrm>
                  <a:off x="6109200" y="4538160"/>
                  <a:ext cx="349200" cy="17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fMet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7" name="Group 220"/>
              <p:cNvGrpSpPr/>
              <p:nvPr/>
            </p:nvGrpSpPr>
            <p:grpSpPr>
              <a:xfrm>
                <a:off x="5807160" y="4820040"/>
                <a:ext cx="1023120" cy="1027440"/>
                <a:chOff x="5807160" y="4820040"/>
                <a:chExt cx="1023120" cy="1027440"/>
              </a:xfrm>
            </p:grpSpPr>
            <p:grpSp>
              <p:nvGrpSpPr>
                <p:cNvPr id="1248" name="Group 221"/>
                <p:cNvGrpSpPr/>
                <p:nvPr/>
              </p:nvGrpSpPr>
              <p:grpSpPr>
                <a:xfrm>
                  <a:off x="5807160" y="4820040"/>
                  <a:ext cx="1023120" cy="1027440"/>
                  <a:chOff x="5807160" y="4820040"/>
                  <a:chExt cx="1023120" cy="1027440"/>
                </a:xfrm>
              </p:grpSpPr>
              <p:grpSp>
                <p:nvGrpSpPr>
                  <p:cNvPr id="1249" name="Group 222"/>
                  <p:cNvGrpSpPr/>
                  <p:nvPr/>
                </p:nvGrpSpPr>
                <p:grpSpPr>
                  <a:xfrm>
                    <a:off x="6205320" y="5693400"/>
                    <a:ext cx="304200" cy="154080"/>
                    <a:chOff x="6205320" y="5693400"/>
                    <a:chExt cx="304200" cy="154080"/>
                  </a:xfrm>
                </p:grpSpPr>
                <p:sp>
                  <p:nvSpPr>
                    <p:cNvPr id="1250" name="Line 223"/>
                    <p:cNvSpPr/>
                    <p:nvPr/>
                  </p:nvSpPr>
                  <p:spPr>
                    <a:xfrm flipH="1">
                      <a:off x="6205320" y="5698440"/>
                      <a:ext cx="9360" cy="14724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1" name="Line 224"/>
                    <p:cNvSpPr/>
                    <p:nvPr/>
                  </p:nvSpPr>
                  <p:spPr>
                    <a:xfrm flipH="1">
                      <a:off x="6346800" y="5700240"/>
                      <a:ext cx="9720" cy="14724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2" name="Line 225"/>
                    <p:cNvSpPr/>
                    <p:nvPr/>
                  </p:nvSpPr>
                  <p:spPr>
                    <a:xfrm flipH="1">
                      <a:off x="6500160" y="5693400"/>
                      <a:ext cx="9360" cy="14724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53" name="Freeform 226"/>
                  <p:cNvSpPr/>
                  <p:nvPr/>
                </p:nvSpPr>
                <p:spPr>
                  <a:xfrm rot="3660000">
                    <a:off x="5940720" y="4956840"/>
                    <a:ext cx="755640" cy="750600"/>
                  </a:xfrm>
                  <a:custGeom>
                    <a:avLst/>
                    <a:gdLst>
                      <a:gd name="textAreaLeft" fmla="*/ 0 w 755640"/>
                      <a:gd name="textAreaRight" fmla="*/ 756000 w 755640"/>
                      <a:gd name="textAreaTop" fmla="*/ 0 h 750600"/>
                      <a:gd name="textAreaBottom" fmla="*/ 750960 h 750600"/>
                    </a:gdLst>
                    <a:ahLst/>
                    <a:rect l="textAreaLeft" t="textAreaTop" r="textAreaRight" b="textAreaBottom"/>
                    <a:pathLst>
                      <a:path w="1400" h="1110">
                        <a:moveTo>
                          <a:pt x="140" y="390"/>
                        </a:moveTo>
                        <a:cubicBezTo>
                          <a:pt x="210" y="480"/>
                          <a:pt x="280" y="570"/>
                          <a:pt x="380" y="570"/>
                        </a:cubicBezTo>
                        <a:cubicBezTo>
                          <a:pt x="480" y="570"/>
                          <a:pt x="620" y="420"/>
                          <a:pt x="740" y="390"/>
                        </a:cubicBezTo>
                        <a:cubicBezTo>
                          <a:pt x="860" y="360"/>
                          <a:pt x="1000" y="360"/>
                          <a:pt x="1100" y="390"/>
                        </a:cubicBezTo>
                        <a:cubicBezTo>
                          <a:pt x="1200" y="420"/>
                          <a:pt x="1300" y="480"/>
                          <a:pt x="1340" y="570"/>
                        </a:cubicBezTo>
                        <a:cubicBezTo>
                          <a:pt x="1380" y="660"/>
                          <a:pt x="1400" y="840"/>
                          <a:pt x="1340" y="930"/>
                        </a:cubicBezTo>
                        <a:cubicBezTo>
                          <a:pt x="1280" y="1020"/>
                          <a:pt x="1100" y="1110"/>
                          <a:pt x="980" y="1110"/>
                        </a:cubicBezTo>
                        <a:cubicBezTo>
                          <a:pt x="860" y="1110"/>
                          <a:pt x="700" y="990"/>
                          <a:pt x="620" y="930"/>
                        </a:cubicBezTo>
                        <a:cubicBezTo>
                          <a:pt x="540" y="870"/>
                          <a:pt x="540" y="840"/>
                          <a:pt x="500" y="750"/>
                        </a:cubicBezTo>
                        <a:cubicBezTo>
                          <a:pt x="460" y="660"/>
                          <a:pt x="400" y="480"/>
                          <a:pt x="380" y="390"/>
                        </a:cubicBezTo>
                        <a:cubicBezTo>
                          <a:pt x="360" y="300"/>
                          <a:pt x="400" y="270"/>
                          <a:pt x="380" y="210"/>
                        </a:cubicBezTo>
                        <a:cubicBezTo>
                          <a:pt x="360" y="150"/>
                          <a:pt x="320" y="60"/>
                          <a:pt x="260" y="30"/>
                        </a:cubicBezTo>
                        <a:cubicBezTo>
                          <a:pt x="200" y="0"/>
                          <a:pt x="40" y="30"/>
                          <a:pt x="20" y="30"/>
                        </a:cubicBezTo>
                        <a:cubicBezTo>
                          <a:pt x="0" y="30"/>
                          <a:pt x="70" y="30"/>
                          <a:pt x="140" y="30"/>
                        </a:cubicBezTo>
                      </a:path>
                    </a:pathLst>
                  </a:custGeom>
                  <a:noFill/>
                  <a:ln w="507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4" name="Text Box 227"/>
                <p:cNvSpPr/>
                <p:nvPr/>
              </p:nvSpPr>
              <p:spPr>
                <a:xfrm>
                  <a:off x="6173640" y="5486400"/>
                  <a:ext cx="304920" cy="11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2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UAC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5" name="Group 228"/>
              <p:cNvGrpSpPr/>
              <p:nvPr/>
            </p:nvGrpSpPr>
            <p:grpSpPr>
              <a:xfrm>
                <a:off x="6178320" y="4592160"/>
                <a:ext cx="1023120" cy="1236240"/>
                <a:chOff x="6178320" y="4592160"/>
                <a:chExt cx="1023120" cy="1236240"/>
              </a:xfrm>
            </p:grpSpPr>
            <p:grpSp>
              <p:nvGrpSpPr>
                <p:cNvPr id="1256" name="Group 229"/>
                <p:cNvGrpSpPr/>
                <p:nvPr/>
              </p:nvGrpSpPr>
              <p:grpSpPr>
                <a:xfrm>
                  <a:off x="6178320" y="4800600"/>
                  <a:ext cx="1023120" cy="1027800"/>
                  <a:chOff x="6178320" y="4800600"/>
                  <a:chExt cx="1023120" cy="1027800"/>
                </a:xfrm>
              </p:grpSpPr>
              <p:grpSp>
                <p:nvGrpSpPr>
                  <p:cNvPr id="1257" name="Group 230"/>
                  <p:cNvGrpSpPr/>
                  <p:nvPr/>
                </p:nvGrpSpPr>
                <p:grpSpPr>
                  <a:xfrm>
                    <a:off x="6576840" y="5674320"/>
                    <a:ext cx="303480" cy="154080"/>
                    <a:chOff x="6576840" y="5674320"/>
                    <a:chExt cx="303480" cy="154080"/>
                  </a:xfrm>
                </p:grpSpPr>
                <p:sp>
                  <p:nvSpPr>
                    <p:cNvPr id="1258" name="Line 231"/>
                    <p:cNvSpPr/>
                    <p:nvPr/>
                  </p:nvSpPr>
                  <p:spPr>
                    <a:xfrm flipH="1">
                      <a:off x="6576840" y="5677560"/>
                      <a:ext cx="9720" cy="14724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9" name="Line 232"/>
                    <p:cNvSpPr/>
                    <p:nvPr/>
                  </p:nvSpPr>
                  <p:spPr>
                    <a:xfrm flipH="1">
                      <a:off x="6719040" y="5681160"/>
                      <a:ext cx="9720" cy="14724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0" name="Line 233"/>
                    <p:cNvSpPr/>
                    <p:nvPr/>
                  </p:nvSpPr>
                  <p:spPr>
                    <a:xfrm flipH="1">
                      <a:off x="6870600" y="5674320"/>
                      <a:ext cx="9720" cy="14724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61" name="Freeform 234"/>
                  <p:cNvSpPr/>
                  <p:nvPr/>
                </p:nvSpPr>
                <p:spPr>
                  <a:xfrm rot="3660000">
                    <a:off x="6311880" y="4937760"/>
                    <a:ext cx="756000" cy="750600"/>
                  </a:xfrm>
                  <a:custGeom>
                    <a:avLst/>
                    <a:gdLst>
                      <a:gd name="textAreaLeft" fmla="*/ 0 w 756000"/>
                      <a:gd name="textAreaRight" fmla="*/ 756360 w 756000"/>
                      <a:gd name="textAreaTop" fmla="*/ 0 h 750600"/>
                      <a:gd name="textAreaBottom" fmla="*/ 750960 h 750600"/>
                    </a:gdLst>
                    <a:ahLst/>
                    <a:rect l="textAreaLeft" t="textAreaTop" r="textAreaRight" b="textAreaBottom"/>
                    <a:pathLst>
                      <a:path w="1400" h="1110">
                        <a:moveTo>
                          <a:pt x="140" y="390"/>
                        </a:moveTo>
                        <a:cubicBezTo>
                          <a:pt x="210" y="480"/>
                          <a:pt x="280" y="570"/>
                          <a:pt x="380" y="570"/>
                        </a:cubicBezTo>
                        <a:cubicBezTo>
                          <a:pt x="480" y="570"/>
                          <a:pt x="620" y="420"/>
                          <a:pt x="740" y="390"/>
                        </a:cubicBezTo>
                        <a:cubicBezTo>
                          <a:pt x="860" y="360"/>
                          <a:pt x="1000" y="360"/>
                          <a:pt x="1100" y="390"/>
                        </a:cubicBezTo>
                        <a:cubicBezTo>
                          <a:pt x="1200" y="420"/>
                          <a:pt x="1300" y="480"/>
                          <a:pt x="1340" y="570"/>
                        </a:cubicBezTo>
                        <a:cubicBezTo>
                          <a:pt x="1380" y="660"/>
                          <a:pt x="1400" y="840"/>
                          <a:pt x="1340" y="930"/>
                        </a:cubicBezTo>
                        <a:cubicBezTo>
                          <a:pt x="1280" y="1020"/>
                          <a:pt x="1100" y="1110"/>
                          <a:pt x="980" y="1110"/>
                        </a:cubicBezTo>
                        <a:cubicBezTo>
                          <a:pt x="860" y="1110"/>
                          <a:pt x="700" y="990"/>
                          <a:pt x="620" y="930"/>
                        </a:cubicBezTo>
                        <a:cubicBezTo>
                          <a:pt x="540" y="870"/>
                          <a:pt x="540" y="840"/>
                          <a:pt x="500" y="750"/>
                        </a:cubicBezTo>
                        <a:cubicBezTo>
                          <a:pt x="460" y="660"/>
                          <a:pt x="400" y="480"/>
                          <a:pt x="380" y="390"/>
                        </a:cubicBezTo>
                        <a:cubicBezTo>
                          <a:pt x="360" y="300"/>
                          <a:pt x="400" y="270"/>
                          <a:pt x="380" y="210"/>
                        </a:cubicBezTo>
                        <a:cubicBezTo>
                          <a:pt x="360" y="150"/>
                          <a:pt x="320" y="60"/>
                          <a:pt x="260" y="30"/>
                        </a:cubicBezTo>
                        <a:cubicBezTo>
                          <a:pt x="200" y="0"/>
                          <a:pt x="40" y="30"/>
                          <a:pt x="20" y="30"/>
                        </a:cubicBezTo>
                        <a:cubicBezTo>
                          <a:pt x="0" y="30"/>
                          <a:pt x="70" y="30"/>
                          <a:pt x="140" y="30"/>
                        </a:cubicBezTo>
                      </a:path>
                    </a:pathLst>
                  </a:custGeom>
                  <a:noFill/>
                  <a:ln w="507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2" name="Group 235"/>
                <p:cNvGrpSpPr/>
                <p:nvPr/>
              </p:nvGrpSpPr>
              <p:grpSpPr>
                <a:xfrm>
                  <a:off x="6295320" y="4592160"/>
                  <a:ext cx="536040" cy="489240"/>
                  <a:chOff x="6295320" y="4592160"/>
                  <a:chExt cx="536040" cy="489240"/>
                </a:xfrm>
              </p:grpSpPr>
              <p:sp>
                <p:nvSpPr>
                  <p:cNvPr id="1263" name="Oval 236"/>
                  <p:cNvSpPr/>
                  <p:nvPr/>
                </p:nvSpPr>
                <p:spPr>
                  <a:xfrm rot="1320000">
                    <a:off x="6345360" y="4660920"/>
                    <a:ext cx="435960" cy="35136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4" name="Text Box 237"/>
                  <p:cNvSpPr/>
                  <p:nvPr/>
                </p:nvSpPr>
                <p:spPr>
                  <a:xfrm>
                    <a:off x="6414480" y="4754160"/>
                    <a:ext cx="348840" cy="174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rm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AA2</a:t>
                    </a:r>
                    <a:endParaRPr b="0" lang="en-US" sz="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5" name="Text Box 238"/>
                <p:cNvSpPr/>
                <p:nvPr/>
              </p:nvSpPr>
              <p:spPr>
                <a:xfrm>
                  <a:off x="6543720" y="5464800"/>
                  <a:ext cx="304920" cy="11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6" name="Text Box 239"/>
              <p:cNvSpPr/>
              <p:nvPr/>
            </p:nvSpPr>
            <p:spPr>
              <a:xfrm>
                <a:off x="5607000" y="4365720"/>
                <a:ext cx="5540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67" name="Group 242"/>
            <p:cNvGrpSpPr/>
            <p:nvPr/>
          </p:nvGrpSpPr>
          <p:grpSpPr>
            <a:xfrm>
              <a:off x="6145200" y="2205000"/>
              <a:ext cx="2963880" cy="2127960"/>
              <a:chOff x="6145200" y="2205000"/>
              <a:chExt cx="2963880" cy="2127960"/>
            </a:xfrm>
          </p:grpSpPr>
          <p:grpSp>
            <p:nvGrpSpPr>
              <p:cNvPr id="1268" name="Group 243"/>
              <p:cNvGrpSpPr/>
              <p:nvPr/>
            </p:nvGrpSpPr>
            <p:grpSpPr>
              <a:xfrm>
                <a:off x="6594480" y="2205000"/>
                <a:ext cx="2514600" cy="2127960"/>
                <a:chOff x="6594480" y="2205000"/>
                <a:chExt cx="2514600" cy="2127960"/>
              </a:xfrm>
            </p:grpSpPr>
            <p:sp>
              <p:nvSpPr>
                <p:cNvPr id="1269" name="Text Box 244"/>
                <p:cNvSpPr/>
                <p:nvPr/>
              </p:nvSpPr>
              <p:spPr>
                <a:xfrm>
                  <a:off x="8804160" y="3728880"/>
                  <a:ext cx="304920" cy="1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4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3’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0" name="Oval 245"/>
                <p:cNvSpPr/>
                <p:nvPr/>
              </p:nvSpPr>
              <p:spPr>
                <a:xfrm>
                  <a:off x="7203960" y="3060720"/>
                  <a:ext cx="1371600" cy="90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100000">
                      <a:srgbClr val="ffffff">
                        <a:alpha val="47058"/>
                      </a:srgbClr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1" name="Oval 246"/>
                <p:cNvSpPr/>
                <p:nvPr/>
              </p:nvSpPr>
              <p:spPr>
                <a:xfrm rot="21420000">
                  <a:off x="7202160" y="3849840"/>
                  <a:ext cx="1371600" cy="447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72" name="Group 247"/>
                <p:cNvGrpSpPr/>
                <p:nvPr/>
              </p:nvGrpSpPr>
              <p:grpSpPr>
                <a:xfrm>
                  <a:off x="8042400" y="3173400"/>
                  <a:ext cx="303120" cy="1006560"/>
                  <a:chOff x="8042400" y="3173400"/>
                  <a:chExt cx="303120" cy="1006560"/>
                </a:xfrm>
              </p:grpSpPr>
              <p:sp>
                <p:nvSpPr>
                  <p:cNvPr id="1273" name="AutoShape 248"/>
                  <p:cNvSpPr/>
                  <p:nvPr/>
                </p:nvSpPr>
                <p:spPr>
                  <a:xfrm>
                    <a:off x="8042400" y="3173400"/>
                    <a:ext cx="303120" cy="1006560"/>
                  </a:xfrm>
                  <a:custGeom>
                    <a:avLst/>
                    <a:gdLst>
                      <a:gd name="textAreaLeft" fmla="*/ 14760 w 303120"/>
                      <a:gd name="textAreaRight" fmla="*/ 288360 w 303120"/>
                      <a:gd name="textAreaTop" fmla="*/ 14760 h 1006560"/>
                      <a:gd name="textAreaBottom" fmla="*/ 991800 h 1006560"/>
                    </a:gdLst>
                    <a:ahLst/>
                    <a:rect l="textAreaLeft" t="textAreaTop" r="textAreaRight" b="textAreaBottom"/>
                    <a:pathLst>
                      <a:path w="21600" h="71667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68067"/>
                        </a:lnTo>
                        <a:arcTo wR="3600" hR="3600" stAng="10800000" swAng="-5400000"/>
                        <a:lnTo>
                          <a:pt x="18000" y="71667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" name="Text Box 249"/>
                  <p:cNvSpPr/>
                  <p:nvPr/>
                </p:nvSpPr>
                <p:spPr>
                  <a:xfrm>
                    <a:off x="8042400" y="3965760"/>
                    <a:ext cx="273240" cy="14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rmAutofit fontScale="77000"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A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5" name="Text Box 250"/>
                <p:cNvSpPr/>
                <p:nvPr/>
              </p:nvSpPr>
              <p:spPr>
                <a:xfrm>
                  <a:off x="6594480" y="3780000"/>
                  <a:ext cx="304920" cy="11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6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5’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76" name="Group 251"/>
                <p:cNvGrpSpPr/>
                <p:nvPr/>
              </p:nvGrpSpPr>
              <p:grpSpPr>
                <a:xfrm>
                  <a:off x="7569360" y="3173400"/>
                  <a:ext cx="455400" cy="1041480"/>
                  <a:chOff x="7569360" y="3173400"/>
                  <a:chExt cx="455400" cy="1041480"/>
                </a:xfrm>
              </p:grpSpPr>
              <p:sp>
                <p:nvSpPr>
                  <p:cNvPr id="1277" name="AutoShape 252"/>
                  <p:cNvSpPr/>
                  <p:nvPr/>
                </p:nvSpPr>
                <p:spPr>
                  <a:xfrm>
                    <a:off x="7584840" y="3173400"/>
                    <a:ext cx="379080" cy="1041480"/>
                  </a:xfrm>
                  <a:custGeom>
                    <a:avLst/>
                    <a:gdLst>
                      <a:gd name="textAreaLeft" fmla="*/ 18360 w 379080"/>
                      <a:gd name="textAreaRight" fmla="*/ 360720 w 379080"/>
                      <a:gd name="textAreaTop" fmla="*/ 18360 h 1041480"/>
                      <a:gd name="textAreaBottom" fmla="*/ 1023120 h 1041480"/>
                    </a:gdLst>
                    <a:ahLst/>
                    <a:rect l="textAreaLeft" t="textAreaTop" r="textAreaRight" b="textAreaBottom"/>
                    <a:pathLst>
                      <a:path w="21600" h="59308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55708"/>
                        </a:lnTo>
                        <a:arcTo wR="3600" hR="3600" stAng="10800000" swAng="-5400000"/>
                        <a:lnTo>
                          <a:pt x="18000" y="59308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8" name="Text Box 253"/>
                  <p:cNvSpPr/>
                  <p:nvPr/>
                </p:nvSpPr>
                <p:spPr>
                  <a:xfrm>
                    <a:off x="7622640" y="4023000"/>
                    <a:ext cx="341640" cy="17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rmAutofit fontScale="94000"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" name="Text Box 254"/>
                  <p:cNvSpPr/>
                  <p:nvPr/>
                </p:nvSpPr>
                <p:spPr>
                  <a:xfrm>
                    <a:off x="7569360" y="3891600"/>
                    <a:ext cx="455400" cy="11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0" name="Group 255"/>
                <p:cNvGrpSpPr/>
                <p:nvPr/>
              </p:nvGrpSpPr>
              <p:grpSpPr>
                <a:xfrm>
                  <a:off x="6823080" y="3705120"/>
                  <a:ext cx="2055960" cy="150480"/>
                  <a:chOff x="6823080" y="3705120"/>
                  <a:chExt cx="2055960" cy="150480"/>
                </a:xfrm>
              </p:grpSpPr>
              <p:grpSp>
                <p:nvGrpSpPr>
                  <p:cNvPr id="1281" name="Group 256"/>
                  <p:cNvGrpSpPr/>
                  <p:nvPr/>
                </p:nvGrpSpPr>
                <p:grpSpPr>
                  <a:xfrm>
                    <a:off x="6918120" y="3706560"/>
                    <a:ext cx="187920" cy="140760"/>
                    <a:chOff x="6918120" y="3706560"/>
                    <a:chExt cx="187920" cy="140760"/>
                  </a:xfrm>
                </p:grpSpPr>
                <p:sp>
                  <p:nvSpPr>
                    <p:cNvPr id="1282" name="Line 257"/>
                    <p:cNvSpPr/>
                    <p:nvPr/>
                  </p:nvSpPr>
                  <p:spPr>
                    <a:xfrm flipH="1">
                      <a:off x="6918120" y="3714120"/>
                      <a:ext cx="432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3" name="Line 258"/>
                    <p:cNvSpPr/>
                    <p:nvPr/>
                  </p:nvSpPr>
                  <p:spPr>
                    <a:xfrm>
                      <a:off x="7008840" y="3715560"/>
                      <a:ext cx="144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4" name="Line 259"/>
                    <p:cNvSpPr/>
                    <p:nvPr/>
                  </p:nvSpPr>
                  <p:spPr>
                    <a:xfrm>
                      <a:off x="7104960" y="3706560"/>
                      <a:ext cx="108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5" name="Group 260"/>
                  <p:cNvGrpSpPr/>
                  <p:nvPr/>
                </p:nvGrpSpPr>
                <p:grpSpPr>
                  <a:xfrm>
                    <a:off x="7299000" y="3705120"/>
                    <a:ext cx="188280" cy="142920"/>
                    <a:chOff x="7299000" y="3705120"/>
                    <a:chExt cx="188280" cy="142920"/>
                  </a:xfrm>
                </p:grpSpPr>
                <p:sp>
                  <p:nvSpPr>
                    <p:cNvPr id="1286" name="Line 261"/>
                    <p:cNvSpPr/>
                    <p:nvPr/>
                  </p:nvSpPr>
                  <p:spPr>
                    <a:xfrm>
                      <a:off x="7299000" y="3715920"/>
                      <a:ext cx="1080" cy="1321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7" name="Line 262"/>
                    <p:cNvSpPr/>
                    <p:nvPr/>
                  </p:nvSpPr>
                  <p:spPr>
                    <a:xfrm>
                      <a:off x="7388280" y="3715920"/>
                      <a:ext cx="1440" cy="1321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8" name="Line 263"/>
                    <p:cNvSpPr/>
                    <p:nvPr/>
                  </p:nvSpPr>
                  <p:spPr>
                    <a:xfrm>
                      <a:off x="7486200" y="3705120"/>
                      <a:ext cx="1080" cy="1321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9" name="Group 264"/>
                  <p:cNvGrpSpPr/>
                  <p:nvPr/>
                </p:nvGrpSpPr>
                <p:grpSpPr>
                  <a:xfrm>
                    <a:off x="7677720" y="3706560"/>
                    <a:ext cx="188640" cy="140760"/>
                    <a:chOff x="7677720" y="3706560"/>
                    <a:chExt cx="188640" cy="140760"/>
                  </a:xfrm>
                </p:grpSpPr>
                <p:sp>
                  <p:nvSpPr>
                    <p:cNvPr id="1290" name="Line 265"/>
                    <p:cNvSpPr/>
                    <p:nvPr/>
                  </p:nvSpPr>
                  <p:spPr>
                    <a:xfrm flipH="1">
                      <a:off x="7677720" y="3714120"/>
                      <a:ext cx="468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1" name="Line 266"/>
                    <p:cNvSpPr/>
                    <p:nvPr/>
                  </p:nvSpPr>
                  <p:spPr>
                    <a:xfrm>
                      <a:off x="7769880" y="3715560"/>
                      <a:ext cx="108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2" name="Line 267"/>
                    <p:cNvSpPr/>
                    <p:nvPr/>
                  </p:nvSpPr>
                  <p:spPr>
                    <a:xfrm flipH="1">
                      <a:off x="7862040" y="3706560"/>
                      <a:ext cx="432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93" name="Group 268"/>
                  <p:cNvGrpSpPr/>
                  <p:nvPr/>
                </p:nvGrpSpPr>
                <p:grpSpPr>
                  <a:xfrm>
                    <a:off x="8058600" y="3708000"/>
                    <a:ext cx="191160" cy="139320"/>
                    <a:chOff x="8058600" y="3708000"/>
                    <a:chExt cx="191160" cy="139320"/>
                  </a:xfrm>
                </p:grpSpPr>
                <p:sp>
                  <p:nvSpPr>
                    <p:cNvPr id="1294" name="Line 269"/>
                    <p:cNvSpPr/>
                    <p:nvPr/>
                  </p:nvSpPr>
                  <p:spPr>
                    <a:xfrm flipH="1">
                      <a:off x="8058600" y="3712320"/>
                      <a:ext cx="5760" cy="1321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5" name="Line 270"/>
                    <p:cNvSpPr/>
                    <p:nvPr/>
                  </p:nvSpPr>
                  <p:spPr>
                    <a:xfrm flipH="1">
                      <a:off x="8148240" y="3715560"/>
                      <a:ext cx="576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6" name="Line 271"/>
                    <p:cNvSpPr/>
                    <p:nvPr/>
                  </p:nvSpPr>
                  <p:spPr>
                    <a:xfrm flipH="1">
                      <a:off x="8243640" y="3708000"/>
                      <a:ext cx="612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97" name="Line 272"/>
                  <p:cNvSpPr/>
                  <p:nvPr/>
                </p:nvSpPr>
                <p:spPr>
                  <a:xfrm>
                    <a:off x="6823080" y="3854520"/>
                    <a:ext cx="2055960" cy="1080"/>
                  </a:xfrm>
                  <a:prstGeom prst="line">
                    <a:avLst/>
                  </a:prstGeom>
                  <a:ln w="475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98" name="Group 273"/>
                  <p:cNvGrpSpPr/>
                  <p:nvPr/>
                </p:nvGrpSpPr>
                <p:grpSpPr>
                  <a:xfrm>
                    <a:off x="8438760" y="3708000"/>
                    <a:ext cx="191520" cy="139320"/>
                    <a:chOff x="8438760" y="3708000"/>
                    <a:chExt cx="191520" cy="139320"/>
                  </a:xfrm>
                </p:grpSpPr>
                <p:sp>
                  <p:nvSpPr>
                    <p:cNvPr id="1299" name="Line 274"/>
                    <p:cNvSpPr/>
                    <p:nvPr/>
                  </p:nvSpPr>
                  <p:spPr>
                    <a:xfrm flipH="1">
                      <a:off x="8438760" y="3712320"/>
                      <a:ext cx="6120" cy="1321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0" name="Line 275"/>
                    <p:cNvSpPr/>
                    <p:nvPr/>
                  </p:nvSpPr>
                  <p:spPr>
                    <a:xfrm flipH="1">
                      <a:off x="8528760" y="3715560"/>
                      <a:ext cx="576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1" name="Line 276"/>
                    <p:cNvSpPr/>
                    <p:nvPr/>
                  </p:nvSpPr>
                  <p:spPr>
                    <a:xfrm flipH="1">
                      <a:off x="8624160" y="3708000"/>
                      <a:ext cx="612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02" name="Group 277"/>
                <p:cNvGrpSpPr/>
                <p:nvPr/>
              </p:nvGrpSpPr>
              <p:grpSpPr>
                <a:xfrm>
                  <a:off x="6667560" y="2205000"/>
                  <a:ext cx="1595160" cy="1463040"/>
                  <a:chOff x="6667560" y="2205000"/>
                  <a:chExt cx="1595160" cy="1463040"/>
                </a:xfrm>
              </p:grpSpPr>
              <p:grpSp>
                <p:nvGrpSpPr>
                  <p:cNvPr id="1303" name="Group 278"/>
                  <p:cNvGrpSpPr/>
                  <p:nvPr/>
                </p:nvGrpSpPr>
                <p:grpSpPr>
                  <a:xfrm>
                    <a:off x="7050960" y="2215800"/>
                    <a:ext cx="536040" cy="489600"/>
                    <a:chOff x="7050960" y="2215800"/>
                    <a:chExt cx="536040" cy="489600"/>
                  </a:xfrm>
                </p:grpSpPr>
                <p:sp>
                  <p:nvSpPr>
                    <p:cNvPr id="1304" name="Oval 279"/>
                    <p:cNvSpPr/>
                    <p:nvPr/>
                  </p:nvSpPr>
                  <p:spPr>
                    <a:xfrm rot="1320000">
                      <a:off x="7100640" y="2284560"/>
                      <a:ext cx="435960" cy="35208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5" name="Text Box 280"/>
                    <p:cNvSpPr/>
                    <p:nvPr/>
                  </p:nvSpPr>
                  <p:spPr>
                    <a:xfrm>
                      <a:off x="7170120" y="2378160"/>
                      <a:ext cx="348840" cy="174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rm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Me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06" name="Group 281"/>
                  <p:cNvGrpSpPr/>
                  <p:nvPr/>
                </p:nvGrpSpPr>
                <p:grpSpPr>
                  <a:xfrm>
                    <a:off x="7238880" y="2431440"/>
                    <a:ext cx="1023840" cy="1236600"/>
                    <a:chOff x="7238880" y="2431440"/>
                    <a:chExt cx="1023840" cy="1236600"/>
                  </a:xfrm>
                </p:grpSpPr>
                <p:grpSp>
                  <p:nvGrpSpPr>
                    <p:cNvPr id="1307" name="Group 282"/>
                    <p:cNvGrpSpPr/>
                    <p:nvPr/>
                  </p:nvGrpSpPr>
                  <p:grpSpPr>
                    <a:xfrm>
                      <a:off x="7238880" y="2640600"/>
                      <a:ext cx="1023840" cy="1027440"/>
                      <a:chOff x="7238880" y="2640600"/>
                      <a:chExt cx="1023840" cy="1027440"/>
                    </a:xfrm>
                  </p:grpSpPr>
                  <p:grpSp>
                    <p:nvGrpSpPr>
                      <p:cNvPr id="1308" name="Group 283"/>
                      <p:cNvGrpSpPr/>
                      <p:nvPr/>
                    </p:nvGrpSpPr>
                    <p:grpSpPr>
                      <a:xfrm>
                        <a:off x="7637040" y="3513600"/>
                        <a:ext cx="303840" cy="154440"/>
                        <a:chOff x="7637040" y="3513600"/>
                        <a:chExt cx="303840" cy="154440"/>
                      </a:xfrm>
                    </p:grpSpPr>
                    <p:sp>
                      <p:nvSpPr>
                        <p:cNvPr id="1309" name="Line 284"/>
                        <p:cNvSpPr/>
                        <p:nvPr/>
                      </p:nvSpPr>
                      <p:spPr>
                        <a:xfrm flipH="1">
                          <a:off x="7637040" y="3518280"/>
                          <a:ext cx="9360" cy="146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0" name="Line 285"/>
                        <p:cNvSpPr/>
                        <p:nvPr/>
                      </p:nvSpPr>
                      <p:spPr>
                        <a:xfrm flipH="1">
                          <a:off x="7779600" y="3521880"/>
                          <a:ext cx="9360" cy="146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1" name="Line 286"/>
                        <p:cNvSpPr/>
                        <p:nvPr/>
                      </p:nvSpPr>
                      <p:spPr>
                        <a:xfrm flipH="1">
                          <a:off x="7931160" y="3513600"/>
                          <a:ext cx="9720" cy="146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312" name="Freeform 287"/>
                      <p:cNvSpPr/>
                      <p:nvPr/>
                    </p:nvSpPr>
                    <p:spPr>
                      <a:xfrm rot="3660000">
                        <a:off x="7371720" y="2778480"/>
                        <a:ext cx="757800" cy="750240"/>
                      </a:xfrm>
                      <a:custGeom>
                        <a:avLst/>
                        <a:gdLst>
                          <a:gd name="textAreaLeft" fmla="*/ 0 w 757800"/>
                          <a:gd name="textAreaRight" fmla="*/ 758160 w 757800"/>
                          <a:gd name="textAreaTop" fmla="*/ 0 h 750240"/>
                          <a:gd name="textAreaBottom" fmla="*/ 750600 h 750240"/>
                        </a:gdLst>
                        <a:ahLst/>
                        <a:rect l="textAreaLeft" t="textAreaTop" r="textAreaRight" b="textAreaBottom"/>
                        <a:pathLst>
                          <a:path w="1400" h="1110">
                            <a:moveTo>
                              <a:pt x="140" y="390"/>
                            </a:moveTo>
                            <a:cubicBezTo>
                              <a:pt x="210" y="480"/>
                              <a:pt x="280" y="570"/>
                              <a:pt x="380" y="570"/>
                            </a:cubicBezTo>
                            <a:cubicBezTo>
                              <a:pt x="480" y="570"/>
                              <a:pt x="620" y="420"/>
                              <a:pt x="740" y="390"/>
                            </a:cubicBezTo>
                            <a:cubicBezTo>
                              <a:pt x="860" y="360"/>
                              <a:pt x="1000" y="360"/>
                              <a:pt x="1100" y="390"/>
                            </a:cubicBezTo>
                            <a:cubicBezTo>
                              <a:pt x="1200" y="420"/>
                              <a:pt x="1300" y="480"/>
                              <a:pt x="1340" y="570"/>
                            </a:cubicBezTo>
                            <a:cubicBezTo>
                              <a:pt x="1380" y="660"/>
                              <a:pt x="1400" y="840"/>
                              <a:pt x="1340" y="930"/>
                            </a:cubicBezTo>
                            <a:cubicBezTo>
                              <a:pt x="1280" y="1020"/>
                              <a:pt x="1100" y="1110"/>
                              <a:pt x="980" y="1110"/>
                            </a:cubicBezTo>
                            <a:cubicBezTo>
                              <a:pt x="860" y="1110"/>
                              <a:pt x="700" y="990"/>
                              <a:pt x="620" y="930"/>
                            </a:cubicBezTo>
                            <a:cubicBezTo>
                              <a:pt x="540" y="870"/>
                              <a:pt x="540" y="840"/>
                              <a:pt x="500" y="750"/>
                            </a:cubicBezTo>
                            <a:cubicBezTo>
                              <a:pt x="460" y="660"/>
                              <a:pt x="400" y="480"/>
                              <a:pt x="380" y="390"/>
                            </a:cubicBezTo>
                            <a:cubicBezTo>
                              <a:pt x="360" y="300"/>
                              <a:pt x="400" y="270"/>
                              <a:pt x="380" y="210"/>
                            </a:cubicBezTo>
                            <a:cubicBezTo>
                              <a:pt x="360" y="150"/>
                              <a:pt x="320" y="60"/>
                              <a:pt x="260" y="30"/>
                            </a:cubicBezTo>
                            <a:cubicBezTo>
                              <a:pt x="200" y="0"/>
                              <a:pt x="40" y="30"/>
                              <a:pt x="20" y="30"/>
                            </a:cubicBezTo>
                            <a:cubicBezTo>
                              <a:pt x="0" y="30"/>
                              <a:pt x="70" y="30"/>
                              <a:pt x="140" y="30"/>
                            </a:cubicBezTo>
                          </a:path>
                        </a:pathLst>
                      </a:custGeom>
                      <a:noFill/>
                      <a:ln w="507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13" name="Group 288"/>
                    <p:cNvGrpSpPr/>
                    <p:nvPr/>
                  </p:nvGrpSpPr>
                  <p:grpSpPr>
                    <a:xfrm>
                      <a:off x="7355520" y="2431440"/>
                      <a:ext cx="536400" cy="489960"/>
                      <a:chOff x="7355520" y="2431440"/>
                      <a:chExt cx="536400" cy="489960"/>
                    </a:xfrm>
                  </p:grpSpPr>
                  <p:sp>
                    <p:nvSpPr>
                      <p:cNvPr id="1314" name="Oval 289"/>
                      <p:cNvSpPr/>
                      <p:nvPr/>
                    </p:nvSpPr>
                    <p:spPr>
                      <a:xfrm rot="1320000">
                        <a:off x="7405200" y="2500200"/>
                        <a:ext cx="436320" cy="35208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5" name="Text Box 290"/>
                      <p:cNvSpPr/>
                      <p:nvPr/>
                    </p:nvSpPr>
                    <p:spPr>
                      <a:xfrm>
                        <a:off x="7474680" y="2593440"/>
                        <a:ext cx="348840" cy="174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rm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AA2</a:t>
                        </a:r>
                        <a:endParaRPr b="0" lang="en-US" sz="9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16" name="Text Box 291"/>
                    <p:cNvSpPr/>
                    <p:nvPr/>
                  </p:nvSpPr>
                  <p:spPr>
                    <a:xfrm>
                      <a:off x="7604280" y="3305160"/>
                      <a:ext cx="304560" cy="112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7" name="Text Box 292"/>
                  <p:cNvSpPr/>
                  <p:nvPr/>
                </p:nvSpPr>
                <p:spPr>
                  <a:xfrm>
                    <a:off x="6667560" y="2205000"/>
                    <a:ext cx="55404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NH</a:t>
                    </a:r>
                    <a:r>
                      <a:rPr b="0" lang="en-US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-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18" name="Text Box 293"/>
              <p:cNvSpPr/>
              <p:nvPr/>
            </p:nvSpPr>
            <p:spPr>
              <a:xfrm>
                <a:off x="7164360" y="3890880"/>
                <a:ext cx="4572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63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19" name="Group 294"/>
              <p:cNvGrpSpPr/>
              <p:nvPr/>
            </p:nvGrpSpPr>
            <p:grpSpPr>
              <a:xfrm>
                <a:off x="6145200" y="2529720"/>
                <a:ext cx="960840" cy="915840"/>
                <a:chOff x="6145200" y="2529720"/>
                <a:chExt cx="960840" cy="915840"/>
              </a:xfrm>
            </p:grpSpPr>
            <p:grpSp>
              <p:nvGrpSpPr>
                <p:cNvPr id="1320" name="Group 295"/>
                <p:cNvGrpSpPr/>
                <p:nvPr/>
              </p:nvGrpSpPr>
              <p:grpSpPr>
                <a:xfrm>
                  <a:off x="6145200" y="2529720"/>
                  <a:ext cx="960840" cy="915840"/>
                  <a:chOff x="6145200" y="2529720"/>
                  <a:chExt cx="960840" cy="915840"/>
                </a:xfrm>
              </p:grpSpPr>
              <p:grpSp>
                <p:nvGrpSpPr>
                  <p:cNvPr id="1321" name="Group 296"/>
                  <p:cNvGrpSpPr/>
                  <p:nvPr/>
                </p:nvGrpSpPr>
                <p:grpSpPr>
                  <a:xfrm>
                    <a:off x="6793560" y="3177000"/>
                    <a:ext cx="259920" cy="268560"/>
                    <a:chOff x="6793560" y="3177000"/>
                    <a:chExt cx="259920" cy="268560"/>
                  </a:xfrm>
                </p:grpSpPr>
                <p:sp>
                  <p:nvSpPr>
                    <p:cNvPr id="1322" name="Line 297"/>
                    <p:cNvSpPr/>
                    <p:nvPr/>
                  </p:nvSpPr>
                  <p:spPr>
                    <a:xfrm>
                      <a:off x="6793560" y="3314880"/>
                      <a:ext cx="88920" cy="1306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3" name="Line 298"/>
                    <p:cNvSpPr/>
                    <p:nvPr/>
                  </p:nvSpPr>
                  <p:spPr>
                    <a:xfrm>
                      <a:off x="6878880" y="3253680"/>
                      <a:ext cx="91080" cy="1303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4" name="Line 299"/>
                    <p:cNvSpPr/>
                    <p:nvPr/>
                  </p:nvSpPr>
                  <p:spPr>
                    <a:xfrm>
                      <a:off x="6964200" y="3177000"/>
                      <a:ext cx="89280" cy="1306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5" name="Freeform 300"/>
                  <p:cNvSpPr/>
                  <p:nvPr/>
                </p:nvSpPr>
                <p:spPr>
                  <a:xfrm rot="1440000">
                    <a:off x="6224400" y="2668320"/>
                    <a:ext cx="802080" cy="560880"/>
                  </a:xfrm>
                  <a:custGeom>
                    <a:avLst/>
                    <a:gdLst>
                      <a:gd name="textAreaLeft" fmla="*/ 0 w 802080"/>
                      <a:gd name="textAreaRight" fmla="*/ 802440 w 802080"/>
                      <a:gd name="textAreaTop" fmla="*/ 0 h 560880"/>
                      <a:gd name="textAreaBottom" fmla="*/ 561240 h 560880"/>
                    </a:gdLst>
                    <a:ahLst/>
                    <a:rect l="textAreaLeft" t="textAreaTop" r="textAreaRight" b="textAreaBottom"/>
                    <a:pathLst>
                      <a:path w="1400" h="1110">
                        <a:moveTo>
                          <a:pt x="140" y="390"/>
                        </a:moveTo>
                        <a:cubicBezTo>
                          <a:pt x="210" y="480"/>
                          <a:pt x="280" y="570"/>
                          <a:pt x="380" y="570"/>
                        </a:cubicBezTo>
                        <a:cubicBezTo>
                          <a:pt x="480" y="570"/>
                          <a:pt x="620" y="420"/>
                          <a:pt x="740" y="390"/>
                        </a:cubicBezTo>
                        <a:cubicBezTo>
                          <a:pt x="860" y="360"/>
                          <a:pt x="1000" y="360"/>
                          <a:pt x="1100" y="390"/>
                        </a:cubicBezTo>
                        <a:cubicBezTo>
                          <a:pt x="1200" y="420"/>
                          <a:pt x="1300" y="480"/>
                          <a:pt x="1340" y="570"/>
                        </a:cubicBezTo>
                        <a:cubicBezTo>
                          <a:pt x="1380" y="660"/>
                          <a:pt x="1400" y="840"/>
                          <a:pt x="1340" y="930"/>
                        </a:cubicBezTo>
                        <a:cubicBezTo>
                          <a:pt x="1280" y="1020"/>
                          <a:pt x="1100" y="1110"/>
                          <a:pt x="980" y="1110"/>
                        </a:cubicBezTo>
                        <a:cubicBezTo>
                          <a:pt x="860" y="1110"/>
                          <a:pt x="700" y="990"/>
                          <a:pt x="620" y="930"/>
                        </a:cubicBezTo>
                        <a:cubicBezTo>
                          <a:pt x="540" y="870"/>
                          <a:pt x="540" y="840"/>
                          <a:pt x="500" y="750"/>
                        </a:cubicBezTo>
                        <a:cubicBezTo>
                          <a:pt x="460" y="660"/>
                          <a:pt x="400" y="480"/>
                          <a:pt x="380" y="390"/>
                        </a:cubicBezTo>
                        <a:cubicBezTo>
                          <a:pt x="360" y="300"/>
                          <a:pt x="400" y="270"/>
                          <a:pt x="380" y="210"/>
                        </a:cubicBezTo>
                        <a:cubicBezTo>
                          <a:pt x="360" y="150"/>
                          <a:pt x="320" y="60"/>
                          <a:pt x="260" y="30"/>
                        </a:cubicBezTo>
                        <a:cubicBezTo>
                          <a:pt x="200" y="0"/>
                          <a:pt x="40" y="30"/>
                          <a:pt x="20" y="30"/>
                        </a:cubicBezTo>
                        <a:cubicBezTo>
                          <a:pt x="0" y="30"/>
                          <a:pt x="70" y="30"/>
                          <a:pt x="140" y="30"/>
                        </a:cubicBezTo>
                      </a:path>
                    </a:pathLst>
                  </a:custGeom>
                  <a:noFill/>
                  <a:ln w="507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6" name="Text Box 301"/>
                <p:cNvSpPr/>
                <p:nvPr/>
              </p:nvSpPr>
              <p:spPr>
                <a:xfrm rot="19380000">
                  <a:off x="6590880" y="3103200"/>
                  <a:ext cx="304920" cy="11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UAC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7" name="Group 302"/>
            <p:cNvGrpSpPr/>
            <p:nvPr/>
          </p:nvGrpSpPr>
          <p:grpSpPr>
            <a:xfrm>
              <a:off x="6730920" y="3139920"/>
              <a:ext cx="2223720" cy="2736720"/>
              <a:chOff x="6730920" y="3139920"/>
              <a:chExt cx="2223720" cy="2736720"/>
            </a:xfrm>
          </p:grpSpPr>
          <p:sp>
            <p:nvSpPr>
              <p:cNvPr id="1328" name="AutoShape 303"/>
              <p:cNvSpPr/>
              <p:nvPr/>
            </p:nvSpPr>
            <p:spPr>
              <a:xfrm flipV="1">
                <a:off x="6730920" y="3139920"/>
                <a:ext cx="1441440" cy="2594160"/>
              </a:xfrm>
              <a:custGeom>
                <a:avLst/>
                <a:gdLst>
                  <a:gd name="textAreaLeft" fmla="*/ 720720 w 1441440"/>
                  <a:gd name="textAreaRight" fmla="*/ 1441800 w 1441440"/>
                  <a:gd name="textAreaTop" fmla="*/ 360 h 2594160"/>
                  <a:gd name="textAreaBottom" fmla="*/ 1297440 h 25941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0818" y="0"/>
                    </a:moveTo>
                    <a:cubicBezTo>
                      <a:pt x="16776" y="10"/>
                      <a:pt x="21600" y="4842"/>
                      <a:pt x="21600" y="10800"/>
                    </a:cubicBezTo>
                    <a:lnTo>
                      <a:pt x="10800" y="10800"/>
                    </a:lnTo>
                    <a:lnTo>
                      <a:pt x="10818" y="0"/>
                    </a:lnTo>
                    <a:close/>
                  </a:path>
                  <a:path fill="none" w="21600" h="21600">
                    <a:moveTo>
                      <a:pt x="10818" y="0"/>
                    </a:moveTo>
                    <a:cubicBezTo>
                      <a:pt x="16776" y="10"/>
                      <a:pt x="21600" y="4842"/>
                      <a:pt x="21600" y="108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Text Box 304"/>
              <p:cNvSpPr/>
              <p:nvPr/>
            </p:nvSpPr>
            <p:spPr>
              <a:xfrm>
                <a:off x="6944040" y="4797360"/>
                <a:ext cx="1220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en-US" sz="1400" spc="-1" strike="noStrike">
                    <a:solidFill>
                      <a:srgbClr val="ff0000"/>
                    </a:solidFill>
                    <a:latin typeface="Arial"/>
                  </a:rPr>
                  <a:t>Translocas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AutoShape 305"/>
              <p:cNvSpPr/>
              <p:nvPr/>
            </p:nvSpPr>
            <p:spPr>
              <a:xfrm flipH="1" rot="900000">
                <a:off x="8017560" y="4911480"/>
                <a:ext cx="838080" cy="871560"/>
              </a:xfrm>
              <a:custGeom>
                <a:avLst/>
                <a:gdLst>
                  <a:gd name="textAreaLeft" fmla="*/ 419400 w 838080"/>
                  <a:gd name="textAreaRight" fmla="*/ 838800 w 838080"/>
                  <a:gd name="textAreaTop" fmla="*/ 71280 h 871560"/>
                  <a:gd name="textAreaBottom" fmla="*/ 733680 h 8715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538" y="1651"/>
                    </a:moveTo>
                    <a:cubicBezTo>
                      <a:pt x="19688" y="3626"/>
                      <a:pt x="21600" y="7082"/>
                      <a:pt x="21600" y="10800"/>
                    </a:cubicBezTo>
                    <a:cubicBezTo>
                      <a:pt x="21600" y="13556"/>
                      <a:pt x="20546" y="16208"/>
                      <a:pt x="18654" y="18212"/>
                    </a:cubicBezTo>
                    <a:lnTo>
                      <a:pt x="10800" y="10800"/>
                    </a:lnTo>
                    <a:lnTo>
                      <a:pt x="16538" y="1651"/>
                    </a:lnTo>
                    <a:close/>
                  </a:path>
                  <a:path fill="none" w="21600" h="21600">
                    <a:moveTo>
                      <a:pt x="16538" y="1651"/>
                    </a:moveTo>
                    <a:cubicBezTo>
                      <a:pt x="19688" y="3626"/>
                      <a:pt x="21600" y="7082"/>
                      <a:pt x="21600" y="10800"/>
                    </a:cubicBezTo>
                    <a:cubicBezTo>
                      <a:pt x="21600" y="13556"/>
                      <a:pt x="20546" y="16208"/>
                      <a:pt x="18654" y="18212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Text Box 306"/>
              <p:cNvSpPr/>
              <p:nvPr/>
            </p:nvSpPr>
            <p:spPr>
              <a:xfrm>
                <a:off x="7819920" y="550080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GT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Text Box 307"/>
              <p:cNvSpPr/>
              <p:nvPr/>
            </p:nvSpPr>
            <p:spPr>
              <a:xfrm>
                <a:off x="8245440" y="4797360"/>
                <a:ext cx="56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GD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+ P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cxnSp>
        <p:nvCxnSpPr>
          <p:cNvPr id="1333" name="Conector recto de flecha 2"/>
          <p:cNvCxnSpPr/>
          <p:nvPr/>
        </p:nvCxnSpPr>
        <p:spPr>
          <a:xfrm flipV="1">
            <a:off x="7203960" y="5806440"/>
            <a:ext cx="997920" cy="1332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Text Box 1"/>
          <p:cNvSpPr/>
          <p:nvPr/>
        </p:nvSpPr>
        <p:spPr>
          <a:xfrm>
            <a:off x="1619280" y="189000"/>
            <a:ext cx="6192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Traducción de Proteín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Alargamiento de la cadena peptíd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5" name="Picture 2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468360" y="5607000"/>
            <a:ext cx="5057640" cy="774720"/>
          </a:xfrm>
          <a:prstGeom prst="rect">
            <a:avLst/>
          </a:prstGeom>
          <a:ln w="0">
            <a:noFill/>
          </a:ln>
        </p:spPr>
      </p:pic>
      <p:grpSp>
        <p:nvGrpSpPr>
          <p:cNvPr id="1336" name="Group 179"/>
          <p:cNvGrpSpPr/>
          <p:nvPr/>
        </p:nvGrpSpPr>
        <p:grpSpPr>
          <a:xfrm>
            <a:off x="1512720" y="1052640"/>
            <a:ext cx="6012000" cy="4461840"/>
            <a:chOff x="1512720" y="1052640"/>
            <a:chExt cx="6012000" cy="4461840"/>
          </a:xfrm>
        </p:grpSpPr>
        <p:sp>
          <p:nvSpPr>
            <p:cNvPr id="1337" name="Text Box 4"/>
            <p:cNvSpPr/>
            <p:nvPr/>
          </p:nvSpPr>
          <p:spPr>
            <a:xfrm>
              <a:off x="1512720" y="1143000"/>
              <a:ext cx="129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Rectangle 6"/>
            <p:cNvSpPr/>
            <p:nvPr/>
          </p:nvSpPr>
          <p:spPr>
            <a:xfrm>
              <a:off x="1809720" y="1052640"/>
              <a:ext cx="5715000" cy="377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39" name="Group 7"/>
            <p:cNvGrpSpPr/>
            <p:nvPr/>
          </p:nvGrpSpPr>
          <p:grpSpPr>
            <a:xfrm>
              <a:off x="2038320" y="1622520"/>
              <a:ext cx="2370240" cy="2697840"/>
              <a:chOff x="2038320" y="1622520"/>
              <a:chExt cx="2370240" cy="2697840"/>
            </a:xfrm>
          </p:grpSpPr>
          <p:sp>
            <p:nvSpPr>
              <p:cNvPr id="1340" name="AutoShape 8"/>
              <p:cNvSpPr/>
              <p:nvPr/>
            </p:nvSpPr>
            <p:spPr>
              <a:xfrm flipH="1" rot="4200000">
                <a:off x="2952360" y="3502800"/>
                <a:ext cx="761040" cy="685800"/>
              </a:xfrm>
              <a:custGeom>
                <a:avLst/>
                <a:gdLst>
                  <a:gd name="textAreaLeft" fmla="*/ 379800 w 761040"/>
                  <a:gd name="textAreaRight" fmla="*/ 761400 w 761040"/>
                  <a:gd name="textAreaTop" fmla="*/ 0 h 685800"/>
                  <a:gd name="textAreaBottom" fmla="*/ 343080 h 68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0799" y="0"/>
                    </a:moveTo>
                    <a:cubicBezTo>
                      <a:pt x="10799" y="0"/>
                      <a:pt x="10799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lnTo>
                      <a:pt x="10800" y="10800"/>
                    </a:lnTo>
                    <a:lnTo>
                      <a:pt x="10799" y="0"/>
                    </a:lnTo>
                    <a:close/>
                  </a:path>
                  <a:path fill="none" w="21600" h="21600">
                    <a:moveTo>
                      <a:pt x="10799" y="0"/>
                    </a:moveTo>
                    <a:cubicBezTo>
                      <a:pt x="10799" y="0"/>
                      <a:pt x="10799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41" name="Group 9"/>
              <p:cNvGrpSpPr/>
              <p:nvPr/>
            </p:nvGrpSpPr>
            <p:grpSpPr>
              <a:xfrm>
                <a:off x="2190600" y="2195640"/>
                <a:ext cx="2217960" cy="1472040"/>
                <a:chOff x="2190600" y="2195640"/>
                <a:chExt cx="2217960" cy="1472040"/>
              </a:xfrm>
            </p:grpSpPr>
            <p:grpSp>
              <p:nvGrpSpPr>
                <p:cNvPr id="1342" name="Group 10"/>
                <p:cNvGrpSpPr/>
                <p:nvPr/>
              </p:nvGrpSpPr>
              <p:grpSpPr>
                <a:xfrm>
                  <a:off x="2368080" y="2831760"/>
                  <a:ext cx="752400" cy="653400"/>
                  <a:chOff x="2368080" y="2831760"/>
                  <a:chExt cx="752400" cy="653400"/>
                </a:xfrm>
              </p:grpSpPr>
              <p:grpSp>
                <p:nvGrpSpPr>
                  <p:cNvPr id="1343" name="Group 11"/>
                  <p:cNvGrpSpPr/>
                  <p:nvPr/>
                </p:nvGrpSpPr>
                <p:grpSpPr>
                  <a:xfrm>
                    <a:off x="2915280" y="3259080"/>
                    <a:ext cx="205200" cy="226080"/>
                    <a:chOff x="2915280" y="3259080"/>
                    <a:chExt cx="205200" cy="226080"/>
                  </a:xfrm>
                </p:grpSpPr>
                <p:sp>
                  <p:nvSpPr>
                    <p:cNvPr id="1344" name="Line 12"/>
                    <p:cNvSpPr/>
                    <p:nvPr/>
                  </p:nvSpPr>
                  <p:spPr>
                    <a:xfrm>
                      <a:off x="2915280" y="3394440"/>
                      <a:ext cx="88200" cy="90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5" name="Line 13"/>
                    <p:cNvSpPr/>
                    <p:nvPr/>
                  </p:nvSpPr>
                  <p:spPr>
                    <a:xfrm>
                      <a:off x="2975040" y="3332160"/>
                      <a:ext cx="88560" cy="90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6" name="Line 14"/>
                    <p:cNvSpPr/>
                    <p:nvPr/>
                  </p:nvSpPr>
                  <p:spPr>
                    <a:xfrm>
                      <a:off x="3031920" y="3259080"/>
                      <a:ext cx="88560" cy="90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47" name="Freeform 15"/>
                  <p:cNvSpPr/>
                  <p:nvPr/>
                </p:nvSpPr>
                <p:spPr>
                  <a:xfrm rot="840000">
                    <a:off x="2413080" y="2903040"/>
                    <a:ext cx="647280" cy="452880"/>
                  </a:xfrm>
                  <a:custGeom>
                    <a:avLst/>
                    <a:gdLst>
                      <a:gd name="textAreaLeft" fmla="*/ 0 w 647280"/>
                      <a:gd name="textAreaRight" fmla="*/ 647640 w 647280"/>
                      <a:gd name="textAreaTop" fmla="*/ 0 h 452880"/>
                      <a:gd name="textAreaBottom" fmla="*/ 453240 h 452880"/>
                    </a:gdLst>
                    <a:ahLst/>
                    <a:rect l="textAreaLeft" t="textAreaTop" r="textAreaRight" b="textAreaBottom"/>
                    <a:pathLst>
                      <a:path w="1400" h="1110">
                        <a:moveTo>
                          <a:pt x="140" y="390"/>
                        </a:moveTo>
                        <a:cubicBezTo>
                          <a:pt x="210" y="480"/>
                          <a:pt x="280" y="570"/>
                          <a:pt x="380" y="570"/>
                        </a:cubicBezTo>
                        <a:cubicBezTo>
                          <a:pt x="480" y="570"/>
                          <a:pt x="620" y="420"/>
                          <a:pt x="740" y="390"/>
                        </a:cubicBezTo>
                        <a:cubicBezTo>
                          <a:pt x="860" y="360"/>
                          <a:pt x="1000" y="360"/>
                          <a:pt x="1100" y="390"/>
                        </a:cubicBezTo>
                        <a:cubicBezTo>
                          <a:pt x="1200" y="420"/>
                          <a:pt x="1300" y="480"/>
                          <a:pt x="1340" y="570"/>
                        </a:cubicBezTo>
                        <a:cubicBezTo>
                          <a:pt x="1380" y="660"/>
                          <a:pt x="1400" y="840"/>
                          <a:pt x="1340" y="930"/>
                        </a:cubicBezTo>
                        <a:cubicBezTo>
                          <a:pt x="1280" y="1020"/>
                          <a:pt x="1100" y="1110"/>
                          <a:pt x="980" y="1110"/>
                        </a:cubicBezTo>
                        <a:cubicBezTo>
                          <a:pt x="860" y="1110"/>
                          <a:pt x="700" y="990"/>
                          <a:pt x="620" y="930"/>
                        </a:cubicBezTo>
                        <a:cubicBezTo>
                          <a:pt x="540" y="870"/>
                          <a:pt x="540" y="840"/>
                          <a:pt x="500" y="750"/>
                        </a:cubicBezTo>
                        <a:cubicBezTo>
                          <a:pt x="460" y="660"/>
                          <a:pt x="400" y="480"/>
                          <a:pt x="380" y="390"/>
                        </a:cubicBezTo>
                        <a:cubicBezTo>
                          <a:pt x="360" y="300"/>
                          <a:pt x="400" y="270"/>
                          <a:pt x="380" y="210"/>
                        </a:cubicBezTo>
                        <a:cubicBezTo>
                          <a:pt x="360" y="150"/>
                          <a:pt x="320" y="60"/>
                          <a:pt x="260" y="30"/>
                        </a:cubicBezTo>
                        <a:cubicBezTo>
                          <a:pt x="200" y="0"/>
                          <a:pt x="40" y="30"/>
                          <a:pt x="20" y="30"/>
                        </a:cubicBezTo>
                        <a:cubicBezTo>
                          <a:pt x="0" y="30"/>
                          <a:pt x="70" y="30"/>
                          <a:pt x="140" y="30"/>
                        </a:cubicBezTo>
                      </a:path>
                    </a:pathLst>
                  </a:custGeom>
                  <a:noFill/>
                  <a:ln w="507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8" name="Group 16"/>
                <p:cNvGrpSpPr/>
                <p:nvPr/>
              </p:nvGrpSpPr>
              <p:grpSpPr>
                <a:xfrm>
                  <a:off x="3385080" y="2596680"/>
                  <a:ext cx="1023480" cy="1071000"/>
                  <a:chOff x="3385080" y="2596680"/>
                  <a:chExt cx="1023480" cy="1071000"/>
                </a:xfrm>
              </p:grpSpPr>
              <p:grpSp>
                <p:nvGrpSpPr>
                  <p:cNvPr id="1349" name="Group 17"/>
                  <p:cNvGrpSpPr/>
                  <p:nvPr/>
                </p:nvGrpSpPr>
                <p:grpSpPr>
                  <a:xfrm>
                    <a:off x="3385080" y="2596680"/>
                    <a:ext cx="1023480" cy="1071000"/>
                    <a:chOff x="3385080" y="2596680"/>
                    <a:chExt cx="1023480" cy="1071000"/>
                  </a:xfrm>
                </p:grpSpPr>
                <p:grpSp>
                  <p:nvGrpSpPr>
                    <p:cNvPr id="1350" name="Group 18"/>
                    <p:cNvGrpSpPr/>
                    <p:nvPr/>
                  </p:nvGrpSpPr>
                  <p:grpSpPr>
                    <a:xfrm>
                      <a:off x="3975480" y="3417480"/>
                      <a:ext cx="264960" cy="250200"/>
                      <a:chOff x="3975480" y="3417480"/>
                      <a:chExt cx="264960" cy="250200"/>
                    </a:xfrm>
                  </p:grpSpPr>
                  <p:sp>
                    <p:nvSpPr>
                      <p:cNvPr id="1351" name="Line 19"/>
                      <p:cNvSpPr/>
                      <p:nvPr/>
                    </p:nvSpPr>
                    <p:spPr>
                      <a:xfrm>
                        <a:off x="3975480" y="3510720"/>
                        <a:ext cx="56520" cy="15696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2" name="Line 20"/>
                      <p:cNvSpPr/>
                      <p:nvPr/>
                    </p:nvSpPr>
                    <p:spPr>
                      <a:xfrm>
                        <a:off x="4077720" y="3471480"/>
                        <a:ext cx="56520" cy="15732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3" name="Line 21"/>
                      <p:cNvSpPr/>
                      <p:nvPr/>
                    </p:nvSpPr>
                    <p:spPr>
                      <a:xfrm>
                        <a:off x="4183920" y="3417480"/>
                        <a:ext cx="56520" cy="15696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54" name="Freeform 22"/>
                    <p:cNvSpPr/>
                    <p:nvPr/>
                  </p:nvSpPr>
                  <p:spPr>
                    <a:xfrm rot="2340000">
                      <a:off x="3476160" y="2795400"/>
                      <a:ext cx="840960" cy="588240"/>
                    </a:xfrm>
                    <a:custGeom>
                      <a:avLst/>
                      <a:gdLst>
                        <a:gd name="textAreaLeft" fmla="*/ 0 w 840960"/>
                        <a:gd name="textAreaRight" fmla="*/ 841320 w 840960"/>
                        <a:gd name="textAreaTop" fmla="*/ 0 h 588240"/>
                        <a:gd name="textAreaBottom" fmla="*/ 588600 h 588240"/>
                      </a:gdLst>
                      <a:ahLst/>
                      <a:rect l="textAreaLeft" t="textAreaTop" r="textAreaRight" b="textAreaBottom"/>
                      <a:pathLst>
                        <a:path w="1400" h="1110">
                          <a:moveTo>
                            <a:pt x="140" y="390"/>
                          </a:moveTo>
                          <a:cubicBezTo>
                            <a:pt x="210" y="480"/>
                            <a:pt x="280" y="570"/>
                            <a:pt x="380" y="570"/>
                          </a:cubicBezTo>
                          <a:cubicBezTo>
                            <a:pt x="480" y="570"/>
                            <a:pt x="620" y="420"/>
                            <a:pt x="740" y="390"/>
                          </a:cubicBezTo>
                          <a:cubicBezTo>
                            <a:pt x="860" y="360"/>
                            <a:pt x="1000" y="360"/>
                            <a:pt x="1100" y="390"/>
                          </a:cubicBezTo>
                          <a:cubicBezTo>
                            <a:pt x="1200" y="420"/>
                            <a:pt x="1300" y="480"/>
                            <a:pt x="1340" y="570"/>
                          </a:cubicBezTo>
                          <a:cubicBezTo>
                            <a:pt x="1380" y="660"/>
                            <a:pt x="1400" y="840"/>
                            <a:pt x="1340" y="930"/>
                          </a:cubicBezTo>
                          <a:cubicBezTo>
                            <a:pt x="1280" y="1020"/>
                            <a:pt x="1100" y="1110"/>
                            <a:pt x="980" y="1110"/>
                          </a:cubicBezTo>
                          <a:cubicBezTo>
                            <a:pt x="860" y="1110"/>
                            <a:pt x="700" y="990"/>
                            <a:pt x="620" y="930"/>
                          </a:cubicBezTo>
                          <a:cubicBezTo>
                            <a:pt x="540" y="870"/>
                            <a:pt x="540" y="840"/>
                            <a:pt x="500" y="750"/>
                          </a:cubicBezTo>
                          <a:cubicBezTo>
                            <a:pt x="460" y="660"/>
                            <a:pt x="400" y="480"/>
                            <a:pt x="380" y="390"/>
                          </a:cubicBezTo>
                          <a:cubicBezTo>
                            <a:pt x="360" y="300"/>
                            <a:pt x="400" y="270"/>
                            <a:pt x="380" y="210"/>
                          </a:cubicBezTo>
                          <a:cubicBezTo>
                            <a:pt x="360" y="150"/>
                            <a:pt x="320" y="60"/>
                            <a:pt x="260" y="30"/>
                          </a:cubicBezTo>
                          <a:cubicBezTo>
                            <a:pt x="200" y="0"/>
                            <a:pt x="40" y="30"/>
                            <a:pt x="20" y="30"/>
                          </a:cubicBezTo>
                          <a:cubicBezTo>
                            <a:pt x="0" y="30"/>
                            <a:pt x="70" y="30"/>
                            <a:pt x="140" y="30"/>
                          </a:cubicBezTo>
                        </a:path>
                      </a:pathLst>
                    </a:custGeom>
                    <a:noFill/>
                    <a:ln w="507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55" name="Oval 23"/>
                  <p:cNvSpPr/>
                  <p:nvPr/>
                </p:nvSpPr>
                <p:spPr>
                  <a:xfrm>
                    <a:off x="3397320" y="2652840"/>
                    <a:ext cx="380880" cy="22896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6" name="Oval 24"/>
                <p:cNvSpPr/>
                <p:nvPr/>
              </p:nvSpPr>
              <p:spPr>
                <a:xfrm>
                  <a:off x="3105000" y="2538360"/>
                  <a:ext cx="381240" cy="22860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7" name="Oval 25"/>
                <p:cNvSpPr/>
                <p:nvPr/>
              </p:nvSpPr>
              <p:spPr>
                <a:xfrm>
                  <a:off x="2800440" y="2422440"/>
                  <a:ext cx="380880" cy="22860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8" name="Oval 26"/>
                <p:cNvSpPr/>
                <p:nvPr/>
              </p:nvSpPr>
              <p:spPr>
                <a:xfrm>
                  <a:off x="2495520" y="2309760"/>
                  <a:ext cx="380880" cy="22860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9" name="Oval 27"/>
                <p:cNvSpPr/>
                <p:nvPr/>
              </p:nvSpPr>
              <p:spPr>
                <a:xfrm>
                  <a:off x="2190600" y="2195640"/>
                  <a:ext cx="381240" cy="22860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0" name="Text Box 28"/>
                <p:cNvSpPr/>
                <p:nvPr/>
              </p:nvSpPr>
              <p:spPr>
                <a:xfrm>
                  <a:off x="3430440" y="2701800"/>
                  <a:ext cx="304920" cy="11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3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Ala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1" name="Text Box 29"/>
                <p:cNvSpPr/>
                <p:nvPr/>
              </p:nvSpPr>
              <p:spPr>
                <a:xfrm>
                  <a:off x="3138480" y="2583000"/>
                  <a:ext cx="30492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3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Val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2" name="Text Box 30"/>
                <p:cNvSpPr/>
                <p:nvPr/>
              </p:nvSpPr>
              <p:spPr>
                <a:xfrm>
                  <a:off x="2817720" y="2473200"/>
                  <a:ext cx="304920" cy="11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3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Val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3" name="Text Box 31"/>
                <p:cNvSpPr/>
                <p:nvPr/>
              </p:nvSpPr>
              <p:spPr>
                <a:xfrm>
                  <a:off x="2516040" y="2382840"/>
                  <a:ext cx="30492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3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Leu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4" name="Text Box 32"/>
                <p:cNvSpPr/>
                <p:nvPr/>
              </p:nvSpPr>
              <p:spPr>
                <a:xfrm>
                  <a:off x="2205000" y="2235240"/>
                  <a:ext cx="30492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3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fMet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5" name="Text Box 33"/>
              <p:cNvSpPr/>
              <p:nvPr/>
            </p:nvSpPr>
            <p:spPr>
              <a:xfrm>
                <a:off x="2038320" y="1622520"/>
                <a:ext cx="114300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adena polipeptídica en formación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6" name="Text Box 34"/>
              <p:cNvSpPr/>
              <p:nvPr/>
            </p:nvSpPr>
            <p:spPr>
              <a:xfrm>
                <a:off x="2038320" y="2995560"/>
                <a:ext cx="6094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3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tARN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67" name="Group 35"/>
            <p:cNvGrpSpPr/>
            <p:nvPr/>
          </p:nvGrpSpPr>
          <p:grpSpPr>
            <a:xfrm>
              <a:off x="3717720" y="1835280"/>
              <a:ext cx="1118880" cy="1190520"/>
              <a:chOff x="3717720" y="1835280"/>
              <a:chExt cx="1118880" cy="1190520"/>
            </a:xfrm>
          </p:grpSpPr>
          <p:grpSp>
            <p:nvGrpSpPr>
              <p:cNvPr id="1368" name="Group 36"/>
              <p:cNvGrpSpPr/>
              <p:nvPr/>
            </p:nvGrpSpPr>
            <p:grpSpPr>
              <a:xfrm>
                <a:off x="3717720" y="1835280"/>
                <a:ext cx="1118880" cy="1190520"/>
                <a:chOff x="3717720" y="1835280"/>
                <a:chExt cx="1118880" cy="1190520"/>
              </a:xfrm>
            </p:grpSpPr>
            <p:grpSp>
              <p:nvGrpSpPr>
                <p:cNvPr id="1369" name="Group 37"/>
                <p:cNvGrpSpPr/>
                <p:nvPr/>
              </p:nvGrpSpPr>
              <p:grpSpPr>
                <a:xfrm>
                  <a:off x="3717720" y="1910880"/>
                  <a:ext cx="1118880" cy="1114920"/>
                  <a:chOff x="3717720" y="1910880"/>
                  <a:chExt cx="1118880" cy="1114920"/>
                </a:xfrm>
              </p:grpSpPr>
              <p:grpSp>
                <p:nvGrpSpPr>
                  <p:cNvPr id="1370" name="Group 38"/>
                  <p:cNvGrpSpPr/>
                  <p:nvPr/>
                </p:nvGrpSpPr>
                <p:grpSpPr>
                  <a:xfrm>
                    <a:off x="4241880" y="2824560"/>
                    <a:ext cx="340920" cy="187560"/>
                    <a:chOff x="4241880" y="2824560"/>
                    <a:chExt cx="340920" cy="187560"/>
                  </a:xfrm>
                </p:grpSpPr>
                <p:sp>
                  <p:nvSpPr>
                    <p:cNvPr id="1371" name="Line 39"/>
                    <p:cNvSpPr/>
                    <p:nvPr/>
                  </p:nvSpPr>
                  <p:spPr>
                    <a:xfrm>
                      <a:off x="4241880" y="2859840"/>
                      <a:ext cx="26280" cy="1522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2" name="Line 40"/>
                    <p:cNvSpPr/>
                    <p:nvPr/>
                  </p:nvSpPr>
                  <p:spPr>
                    <a:xfrm>
                      <a:off x="4393440" y="2847240"/>
                      <a:ext cx="27000" cy="1522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3" name="Line 41"/>
                    <p:cNvSpPr/>
                    <p:nvPr/>
                  </p:nvSpPr>
                  <p:spPr>
                    <a:xfrm>
                      <a:off x="4555800" y="2824560"/>
                      <a:ext cx="27000" cy="1522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74" name="Freeform 42"/>
                  <p:cNvSpPr/>
                  <p:nvPr/>
                </p:nvSpPr>
                <p:spPr>
                  <a:xfrm rot="3180000">
                    <a:off x="3883320" y="2064600"/>
                    <a:ext cx="787680" cy="807120"/>
                  </a:xfrm>
                  <a:custGeom>
                    <a:avLst/>
                    <a:gdLst>
                      <a:gd name="textAreaLeft" fmla="*/ 0 w 787680"/>
                      <a:gd name="textAreaRight" fmla="*/ 788040 w 787680"/>
                      <a:gd name="textAreaTop" fmla="*/ 0 h 807120"/>
                      <a:gd name="textAreaBottom" fmla="*/ 807480 h 807120"/>
                    </a:gdLst>
                    <a:ahLst/>
                    <a:rect l="textAreaLeft" t="textAreaTop" r="textAreaRight" b="textAreaBottom"/>
                    <a:pathLst>
                      <a:path w="1400" h="1110">
                        <a:moveTo>
                          <a:pt x="140" y="390"/>
                        </a:moveTo>
                        <a:cubicBezTo>
                          <a:pt x="210" y="480"/>
                          <a:pt x="280" y="570"/>
                          <a:pt x="380" y="570"/>
                        </a:cubicBezTo>
                        <a:cubicBezTo>
                          <a:pt x="480" y="570"/>
                          <a:pt x="620" y="420"/>
                          <a:pt x="740" y="390"/>
                        </a:cubicBezTo>
                        <a:cubicBezTo>
                          <a:pt x="860" y="360"/>
                          <a:pt x="1000" y="360"/>
                          <a:pt x="1100" y="390"/>
                        </a:cubicBezTo>
                        <a:cubicBezTo>
                          <a:pt x="1200" y="420"/>
                          <a:pt x="1300" y="480"/>
                          <a:pt x="1340" y="570"/>
                        </a:cubicBezTo>
                        <a:cubicBezTo>
                          <a:pt x="1380" y="660"/>
                          <a:pt x="1400" y="840"/>
                          <a:pt x="1340" y="930"/>
                        </a:cubicBezTo>
                        <a:cubicBezTo>
                          <a:pt x="1280" y="1020"/>
                          <a:pt x="1100" y="1110"/>
                          <a:pt x="980" y="1110"/>
                        </a:cubicBezTo>
                        <a:cubicBezTo>
                          <a:pt x="860" y="1110"/>
                          <a:pt x="700" y="990"/>
                          <a:pt x="620" y="930"/>
                        </a:cubicBezTo>
                        <a:cubicBezTo>
                          <a:pt x="540" y="870"/>
                          <a:pt x="540" y="840"/>
                          <a:pt x="500" y="750"/>
                        </a:cubicBezTo>
                        <a:cubicBezTo>
                          <a:pt x="460" y="660"/>
                          <a:pt x="400" y="480"/>
                          <a:pt x="380" y="390"/>
                        </a:cubicBezTo>
                        <a:cubicBezTo>
                          <a:pt x="360" y="300"/>
                          <a:pt x="400" y="270"/>
                          <a:pt x="380" y="210"/>
                        </a:cubicBezTo>
                        <a:cubicBezTo>
                          <a:pt x="360" y="150"/>
                          <a:pt x="320" y="60"/>
                          <a:pt x="260" y="30"/>
                        </a:cubicBezTo>
                        <a:cubicBezTo>
                          <a:pt x="200" y="0"/>
                          <a:pt x="40" y="30"/>
                          <a:pt x="20" y="30"/>
                        </a:cubicBezTo>
                        <a:cubicBezTo>
                          <a:pt x="0" y="30"/>
                          <a:pt x="70" y="30"/>
                          <a:pt x="140" y="30"/>
                        </a:cubicBezTo>
                      </a:path>
                    </a:pathLst>
                  </a:custGeom>
                  <a:noFill/>
                  <a:ln w="507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75" name="Oval 43"/>
                <p:cNvSpPr/>
                <p:nvPr/>
              </p:nvSpPr>
              <p:spPr>
                <a:xfrm rot="840000">
                  <a:off x="3887280" y="1878120"/>
                  <a:ext cx="384840" cy="23724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6" name="Text Box 44"/>
              <p:cNvSpPr/>
              <p:nvPr/>
            </p:nvSpPr>
            <p:spPr>
              <a:xfrm>
                <a:off x="3949560" y="1967040"/>
                <a:ext cx="30492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3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Gli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77" name="Group 45"/>
            <p:cNvGrpSpPr/>
            <p:nvPr/>
          </p:nvGrpSpPr>
          <p:grpSpPr>
            <a:xfrm>
              <a:off x="5364000" y="1166760"/>
              <a:ext cx="1932120" cy="571680"/>
              <a:chOff x="5364000" y="1166760"/>
              <a:chExt cx="1932120" cy="571680"/>
            </a:xfrm>
          </p:grpSpPr>
          <p:sp>
            <p:nvSpPr>
              <p:cNvPr id="1378" name="Oval 46"/>
              <p:cNvSpPr/>
              <p:nvPr/>
            </p:nvSpPr>
            <p:spPr>
              <a:xfrm>
                <a:off x="6458040" y="1166760"/>
                <a:ext cx="380880" cy="22860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Oval 47"/>
              <p:cNvSpPr/>
              <p:nvPr/>
            </p:nvSpPr>
            <p:spPr>
              <a:xfrm>
                <a:off x="6458040" y="1509840"/>
                <a:ext cx="380880" cy="22860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Oval 48"/>
              <p:cNvSpPr/>
              <p:nvPr/>
            </p:nvSpPr>
            <p:spPr>
              <a:xfrm>
                <a:off x="6915240" y="1281240"/>
                <a:ext cx="380880" cy="22860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Text Box 49"/>
              <p:cNvSpPr/>
              <p:nvPr/>
            </p:nvSpPr>
            <p:spPr>
              <a:xfrm>
                <a:off x="5364000" y="1268280"/>
                <a:ext cx="106704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94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minoácidos libre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82" name="Group 50"/>
            <p:cNvGrpSpPr/>
            <p:nvPr/>
          </p:nvGrpSpPr>
          <p:grpSpPr>
            <a:xfrm>
              <a:off x="5695920" y="1798200"/>
              <a:ext cx="1445760" cy="1195560"/>
              <a:chOff x="5695920" y="1798200"/>
              <a:chExt cx="1445760" cy="1195560"/>
            </a:xfrm>
          </p:grpSpPr>
          <p:grpSp>
            <p:nvGrpSpPr>
              <p:cNvPr id="1383" name="Group 51"/>
              <p:cNvGrpSpPr/>
              <p:nvPr/>
            </p:nvGrpSpPr>
            <p:grpSpPr>
              <a:xfrm>
                <a:off x="5900760" y="1798200"/>
                <a:ext cx="1022400" cy="1068120"/>
                <a:chOff x="5900760" y="1798200"/>
                <a:chExt cx="1022400" cy="1068120"/>
              </a:xfrm>
            </p:grpSpPr>
            <p:grpSp>
              <p:nvGrpSpPr>
                <p:cNvPr id="1384" name="Group 52"/>
                <p:cNvGrpSpPr/>
                <p:nvPr/>
              </p:nvGrpSpPr>
              <p:grpSpPr>
                <a:xfrm>
                  <a:off x="6490440" y="2616120"/>
                  <a:ext cx="264960" cy="250200"/>
                  <a:chOff x="6490440" y="2616120"/>
                  <a:chExt cx="264960" cy="250200"/>
                </a:xfrm>
              </p:grpSpPr>
              <p:sp>
                <p:nvSpPr>
                  <p:cNvPr id="1385" name="Line 53"/>
                  <p:cNvSpPr/>
                  <p:nvPr/>
                </p:nvSpPr>
                <p:spPr>
                  <a:xfrm>
                    <a:off x="6490440" y="2709000"/>
                    <a:ext cx="56520" cy="1573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6" name="Line 54"/>
                  <p:cNvSpPr/>
                  <p:nvPr/>
                </p:nvSpPr>
                <p:spPr>
                  <a:xfrm>
                    <a:off x="6592680" y="2670120"/>
                    <a:ext cx="56520" cy="1573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7" name="Line 55"/>
                  <p:cNvSpPr/>
                  <p:nvPr/>
                </p:nvSpPr>
                <p:spPr>
                  <a:xfrm>
                    <a:off x="6698880" y="2616120"/>
                    <a:ext cx="56520" cy="1573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88" name="Freeform 56"/>
                <p:cNvSpPr/>
                <p:nvPr/>
              </p:nvSpPr>
              <p:spPr>
                <a:xfrm rot="2340000">
                  <a:off x="5991840" y="1996920"/>
                  <a:ext cx="839880" cy="587520"/>
                </a:xfrm>
                <a:custGeom>
                  <a:avLst/>
                  <a:gdLst>
                    <a:gd name="textAreaLeft" fmla="*/ 0 w 839880"/>
                    <a:gd name="textAreaRight" fmla="*/ 840240 w 839880"/>
                    <a:gd name="textAreaTop" fmla="*/ 0 h 587520"/>
                    <a:gd name="textAreaBottom" fmla="*/ 587880 h 587520"/>
                  </a:gdLst>
                  <a:ahLst/>
                  <a:rect l="textAreaLeft" t="textAreaTop" r="textAreaRight" b="textAreaBottom"/>
                  <a:pathLst>
                    <a:path w="1400" h="1110">
                      <a:moveTo>
                        <a:pt x="140" y="390"/>
                      </a:moveTo>
                      <a:cubicBezTo>
                        <a:pt x="210" y="480"/>
                        <a:pt x="280" y="570"/>
                        <a:pt x="380" y="570"/>
                      </a:cubicBezTo>
                      <a:cubicBezTo>
                        <a:pt x="480" y="570"/>
                        <a:pt x="620" y="420"/>
                        <a:pt x="740" y="390"/>
                      </a:cubicBezTo>
                      <a:cubicBezTo>
                        <a:pt x="860" y="360"/>
                        <a:pt x="1000" y="360"/>
                        <a:pt x="1100" y="390"/>
                      </a:cubicBezTo>
                      <a:cubicBezTo>
                        <a:pt x="1200" y="420"/>
                        <a:pt x="1300" y="480"/>
                        <a:pt x="1340" y="570"/>
                      </a:cubicBezTo>
                      <a:cubicBezTo>
                        <a:pt x="1380" y="660"/>
                        <a:pt x="1400" y="840"/>
                        <a:pt x="1340" y="930"/>
                      </a:cubicBezTo>
                      <a:cubicBezTo>
                        <a:pt x="1280" y="1020"/>
                        <a:pt x="1100" y="1110"/>
                        <a:pt x="980" y="1110"/>
                      </a:cubicBezTo>
                      <a:cubicBezTo>
                        <a:pt x="860" y="1110"/>
                        <a:pt x="700" y="990"/>
                        <a:pt x="620" y="930"/>
                      </a:cubicBezTo>
                      <a:cubicBezTo>
                        <a:pt x="540" y="870"/>
                        <a:pt x="540" y="840"/>
                        <a:pt x="500" y="750"/>
                      </a:cubicBezTo>
                      <a:cubicBezTo>
                        <a:pt x="460" y="660"/>
                        <a:pt x="400" y="480"/>
                        <a:pt x="380" y="390"/>
                      </a:cubicBezTo>
                      <a:cubicBezTo>
                        <a:pt x="360" y="300"/>
                        <a:pt x="400" y="270"/>
                        <a:pt x="380" y="210"/>
                      </a:cubicBezTo>
                      <a:cubicBezTo>
                        <a:pt x="360" y="150"/>
                        <a:pt x="320" y="60"/>
                        <a:pt x="260" y="30"/>
                      </a:cubicBezTo>
                      <a:cubicBezTo>
                        <a:pt x="200" y="0"/>
                        <a:pt x="40" y="30"/>
                        <a:pt x="20" y="30"/>
                      </a:cubicBezTo>
                      <a:cubicBezTo>
                        <a:pt x="0" y="30"/>
                        <a:pt x="70" y="30"/>
                        <a:pt x="140" y="30"/>
                      </a:cubicBezTo>
                    </a:path>
                  </a:pathLst>
                </a:custGeom>
                <a:noFill/>
                <a:ln w="50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9" name="Text Box 57"/>
              <p:cNvSpPr/>
              <p:nvPr/>
            </p:nvSpPr>
            <p:spPr>
              <a:xfrm>
                <a:off x="5695920" y="2080800"/>
                <a:ext cx="6084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3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tARN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Text Box 58"/>
              <p:cNvSpPr/>
              <p:nvPr/>
            </p:nvSpPr>
            <p:spPr>
              <a:xfrm>
                <a:off x="6532920" y="2880000"/>
                <a:ext cx="608760" cy="11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3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nticodón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AutoShape 59"/>
              <p:cNvSpPr/>
              <p:nvPr/>
            </p:nvSpPr>
            <p:spPr>
              <a:xfrm rot="4260000">
                <a:off x="6542640" y="2642760"/>
                <a:ext cx="90360" cy="335880"/>
              </a:xfrm>
              <a:custGeom>
                <a:avLst/>
                <a:gdLst>
                  <a:gd name="textAreaLeft" fmla="*/ 0 w 90360"/>
                  <a:gd name="textAreaRight" fmla="*/ 63360 w 90360"/>
                  <a:gd name="textAreaTop" fmla="*/ 20880 h 335880"/>
                  <a:gd name="textAreaBottom" fmla="*/ 315000 h 335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1350"/>
                      <a:pt x="21600" y="2700"/>
                    </a:cubicBezTo>
                    <a:lnTo>
                      <a:pt x="21600" y="18900"/>
                    </a:lnTo>
                    <a:cubicBezTo>
                      <a:pt x="21600" y="20250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Line 60"/>
              <p:cNvSpPr/>
              <p:nvPr/>
            </p:nvSpPr>
            <p:spPr>
              <a:xfrm>
                <a:off x="6608880" y="2880000"/>
                <a:ext cx="10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3" name="Group 61"/>
            <p:cNvGrpSpPr/>
            <p:nvPr/>
          </p:nvGrpSpPr>
          <p:grpSpPr>
            <a:xfrm>
              <a:off x="4476600" y="1738440"/>
              <a:ext cx="1316880" cy="1472400"/>
              <a:chOff x="4476600" y="1738440"/>
              <a:chExt cx="1316880" cy="1472400"/>
            </a:xfrm>
          </p:grpSpPr>
          <p:grpSp>
            <p:nvGrpSpPr>
              <p:cNvPr id="1394" name="Group 62"/>
              <p:cNvGrpSpPr/>
              <p:nvPr/>
            </p:nvGrpSpPr>
            <p:grpSpPr>
              <a:xfrm>
                <a:off x="4769280" y="2140920"/>
                <a:ext cx="1024200" cy="1069920"/>
                <a:chOff x="4769280" y="2140920"/>
                <a:chExt cx="1024200" cy="1069920"/>
              </a:xfrm>
            </p:grpSpPr>
            <p:grpSp>
              <p:nvGrpSpPr>
                <p:cNvPr id="1395" name="Group 63"/>
                <p:cNvGrpSpPr/>
                <p:nvPr/>
              </p:nvGrpSpPr>
              <p:grpSpPr>
                <a:xfrm>
                  <a:off x="4769280" y="2140920"/>
                  <a:ext cx="1024200" cy="1069920"/>
                  <a:chOff x="4769280" y="2140920"/>
                  <a:chExt cx="1024200" cy="1069920"/>
                </a:xfrm>
              </p:grpSpPr>
              <p:grpSp>
                <p:nvGrpSpPr>
                  <p:cNvPr id="1396" name="Group 64"/>
                  <p:cNvGrpSpPr/>
                  <p:nvPr/>
                </p:nvGrpSpPr>
                <p:grpSpPr>
                  <a:xfrm>
                    <a:off x="4769280" y="2140920"/>
                    <a:ext cx="1024200" cy="1069920"/>
                    <a:chOff x="4769280" y="2140920"/>
                    <a:chExt cx="1024200" cy="1069920"/>
                  </a:xfrm>
                </p:grpSpPr>
                <p:grpSp>
                  <p:nvGrpSpPr>
                    <p:cNvPr id="1397" name="Group 65"/>
                    <p:cNvGrpSpPr/>
                    <p:nvPr/>
                  </p:nvGrpSpPr>
                  <p:grpSpPr>
                    <a:xfrm>
                      <a:off x="5360040" y="2960280"/>
                      <a:ext cx="265320" cy="250560"/>
                      <a:chOff x="5360040" y="2960280"/>
                      <a:chExt cx="265320" cy="250560"/>
                    </a:xfrm>
                  </p:grpSpPr>
                  <p:sp>
                    <p:nvSpPr>
                      <p:cNvPr id="1398" name="Line 66"/>
                      <p:cNvSpPr/>
                      <p:nvPr/>
                    </p:nvSpPr>
                    <p:spPr>
                      <a:xfrm>
                        <a:off x="5360040" y="3053520"/>
                        <a:ext cx="56880" cy="15732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99" name="Line 67"/>
                      <p:cNvSpPr/>
                      <p:nvPr/>
                    </p:nvSpPr>
                    <p:spPr>
                      <a:xfrm>
                        <a:off x="5462280" y="3014280"/>
                        <a:ext cx="56880" cy="15768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00" name="Line 68"/>
                      <p:cNvSpPr/>
                      <p:nvPr/>
                    </p:nvSpPr>
                    <p:spPr>
                      <a:xfrm>
                        <a:off x="5568480" y="2960280"/>
                        <a:ext cx="56880" cy="15732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401" name="Freeform 69"/>
                    <p:cNvSpPr/>
                    <p:nvPr/>
                  </p:nvSpPr>
                  <p:spPr>
                    <a:xfrm rot="2340000">
                      <a:off x="4860720" y="2340000"/>
                      <a:ext cx="841320" cy="588600"/>
                    </a:xfrm>
                    <a:custGeom>
                      <a:avLst/>
                      <a:gdLst>
                        <a:gd name="textAreaLeft" fmla="*/ 0 w 841320"/>
                        <a:gd name="textAreaRight" fmla="*/ 841680 w 841320"/>
                        <a:gd name="textAreaTop" fmla="*/ 0 h 588600"/>
                        <a:gd name="textAreaBottom" fmla="*/ 588960 h 588600"/>
                      </a:gdLst>
                      <a:ahLst/>
                      <a:rect l="textAreaLeft" t="textAreaTop" r="textAreaRight" b="textAreaBottom"/>
                      <a:pathLst>
                        <a:path w="1400" h="1110">
                          <a:moveTo>
                            <a:pt x="140" y="390"/>
                          </a:moveTo>
                          <a:cubicBezTo>
                            <a:pt x="210" y="480"/>
                            <a:pt x="280" y="570"/>
                            <a:pt x="380" y="570"/>
                          </a:cubicBezTo>
                          <a:cubicBezTo>
                            <a:pt x="480" y="570"/>
                            <a:pt x="620" y="420"/>
                            <a:pt x="740" y="390"/>
                          </a:cubicBezTo>
                          <a:cubicBezTo>
                            <a:pt x="860" y="360"/>
                            <a:pt x="1000" y="360"/>
                            <a:pt x="1100" y="390"/>
                          </a:cubicBezTo>
                          <a:cubicBezTo>
                            <a:pt x="1200" y="420"/>
                            <a:pt x="1300" y="480"/>
                            <a:pt x="1340" y="570"/>
                          </a:cubicBezTo>
                          <a:cubicBezTo>
                            <a:pt x="1380" y="660"/>
                            <a:pt x="1400" y="840"/>
                            <a:pt x="1340" y="930"/>
                          </a:cubicBezTo>
                          <a:cubicBezTo>
                            <a:pt x="1280" y="1020"/>
                            <a:pt x="1100" y="1110"/>
                            <a:pt x="980" y="1110"/>
                          </a:cubicBezTo>
                          <a:cubicBezTo>
                            <a:pt x="860" y="1110"/>
                            <a:pt x="700" y="990"/>
                            <a:pt x="620" y="930"/>
                          </a:cubicBezTo>
                          <a:cubicBezTo>
                            <a:pt x="540" y="870"/>
                            <a:pt x="540" y="840"/>
                            <a:pt x="500" y="750"/>
                          </a:cubicBezTo>
                          <a:cubicBezTo>
                            <a:pt x="460" y="660"/>
                            <a:pt x="400" y="480"/>
                            <a:pt x="380" y="390"/>
                          </a:cubicBezTo>
                          <a:cubicBezTo>
                            <a:pt x="360" y="300"/>
                            <a:pt x="400" y="270"/>
                            <a:pt x="380" y="210"/>
                          </a:cubicBezTo>
                          <a:cubicBezTo>
                            <a:pt x="360" y="150"/>
                            <a:pt x="320" y="60"/>
                            <a:pt x="260" y="30"/>
                          </a:cubicBezTo>
                          <a:cubicBezTo>
                            <a:pt x="200" y="0"/>
                            <a:pt x="40" y="30"/>
                            <a:pt x="20" y="30"/>
                          </a:cubicBezTo>
                          <a:cubicBezTo>
                            <a:pt x="0" y="30"/>
                            <a:pt x="70" y="30"/>
                            <a:pt x="140" y="30"/>
                          </a:cubicBezTo>
                        </a:path>
                      </a:pathLst>
                    </a:custGeom>
                    <a:noFill/>
                    <a:ln w="507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2" name="Oval 70"/>
                  <p:cNvSpPr/>
                  <p:nvPr/>
                </p:nvSpPr>
                <p:spPr>
                  <a:xfrm>
                    <a:off x="4781520" y="2195640"/>
                    <a:ext cx="380880" cy="22860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3" name="Text Box 71"/>
                <p:cNvSpPr/>
                <p:nvPr/>
              </p:nvSpPr>
              <p:spPr>
                <a:xfrm>
                  <a:off x="4802040" y="2235240"/>
                  <a:ext cx="30492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3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Fen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4" name="Text Box 72"/>
              <p:cNvSpPr/>
              <p:nvPr/>
            </p:nvSpPr>
            <p:spPr>
              <a:xfrm>
                <a:off x="4476600" y="1738440"/>
                <a:ext cx="9151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tARN transportando un Aminoácido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5" name="Text Box 73"/>
            <p:cNvSpPr/>
            <p:nvPr/>
          </p:nvSpPr>
          <p:spPr>
            <a:xfrm>
              <a:off x="4324320" y="4290840"/>
              <a:ext cx="11430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dones para los correspondientes aminoácid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06" name="Group 74"/>
            <p:cNvGrpSpPr/>
            <p:nvPr/>
          </p:nvGrpSpPr>
          <p:grpSpPr>
            <a:xfrm>
              <a:off x="2190600" y="3235320"/>
              <a:ext cx="4646520" cy="763200"/>
              <a:chOff x="2190600" y="3235320"/>
              <a:chExt cx="4646520" cy="763200"/>
            </a:xfrm>
          </p:grpSpPr>
          <p:sp>
            <p:nvSpPr>
              <p:cNvPr id="1407" name="Freeform 75"/>
              <p:cNvSpPr/>
              <p:nvPr/>
            </p:nvSpPr>
            <p:spPr>
              <a:xfrm>
                <a:off x="2266560" y="3315960"/>
                <a:ext cx="4570560" cy="682560"/>
              </a:xfrm>
              <a:custGeom>
                <a:avLst/>
                <a:gdLst>
                  <a:gd name="textAreaLeft" fmla="*/ 0 w 4570560"/>
                  <a:gd name="textAreaRight" fmla="*/ 4570920 w 4570560"/>
                  <a:gd name="textAreaTop" fmla="*/ 0 h 682560"/>
                  <a:gd name="textAreaBottom" fmla="*/ 682560 h 682560"/>
                </a:gdLst>
                <a:ahLst/>
                <a:rect l="textAreaLeft" t="textAreaTop" r="textAreaRight" b="textAreaBottom"/>
                <a:pathLst>
                  <a:path w="7200" h="930">
                    <a:moveTo>
                      <a:pt x="0" y="900"/>
                    </a:moveTo>
                    <a:cubicBezTo>
                      <a:pt x="110" y="825"/>
                      <a:pt x="220" y="750"/>
                      <a:pt x="360" y="720"/>
                    </a:cubicBezTo>
                    <a:cubicBezTo>
                      <a:pt x="500" y="690"/>
                      <a:pt x="640" y="690"/>
                      <a:pt x="840" y="720"/>
                    </a:cubicBezTo>
                    <a:cubicBezTo>
                      <a:pt x="1040" y="750"/>
                      <a:pt x="1320" y="870"/>
                      <a:pt x="1560" y="900"/>
                    </a:cubicBezTo>
                    <a:cubicBezTo>
                      <a:pt x="1800" y="930"/>
                      <a:pt x="2060" y="930"/>
                      <a:pt x="2280" y="900"/>
                    </a:cubicBezTo>
                    <a:cubicBezTo>
                      <a:pt x="2500" y="870"/>
                      <a:pt x="2660" y="780"/>
                      <a:pt x="2880" y="720"/>
                    </a:cubicBezTo>
                    <a:cubicBezTo>
                      <a:pt x="3100" y="660"/>
                      <a:pt x="3360" y="570"/>
                      <a:pt x="3600" y="540"/>
                    </a:cubicBezTo>
                    <a:cubicBezTo>
                      <a:pt x="3840" y="510"/>
                      <a:pt x="4060" y="510"/>
                      <a:pt x="4320" y="540"/>
                    </a:cubicBezTo>
                    <a:cubicBezTo>
                      <a:pt x="4580" y="570"/>
                      <a:pt x="4880" y="720"/>
                      <a:pt x="5160" y="720"/>
                    </a:cubicBezTo>
                    <a:cubicBezTo>
                      <a:pt x="5440" y="720"/>
                      <a:pt x="5780" y="600"/>
                      <a:pt x="6000" y="540"/>
                    </a:cubicBezTo>
                    <a:cubicBezTo>
                      <a:pt x="6220" y="480"/>
                      <a:pt x="6280" y="450"/>
                      <a:pt x="6480" y="360"/>
                    </a:cubicBezTo>
                    <a:cubicBezTo>
                      <a:pt x="6680" y="270"/>
                      <a:pt x="7080" y="60"/>
                      <a:pt x="7200" y="0"/>
                    </a:cubicBez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08" name="Group 76"/>
              <p:cNvGrpSpPr/>
              <p:nvPr/>
            </p:nvGrpSpPr>
            <p:grpSpPr>
              <a:xfrm>
                <a:off x="2190600" y="3771000"/>
                <a:ext cx="226440" cy="225720"/>
                <a:chOff x="2190600" y="3771000"/>
                <a:chExt cx="226440" cy="225720"/>
              </a:xfrm>
            </p:grpSpPr>
            <p:sp>
              <p:nvSpPr>
                <p:cNvPr id="1409" name="Line 77"/>
                <p:cNvSpPr/>
                <p:nvPr/>
              </p:nvSpPr>
              <p:spPr>
                <a:xfrm>
                  <a:off x="2190600" y="3882960"/>
                  <a:ext cx="75600" cy="1137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0" name="Line 78"/>
                <p:cNvSpPr/>
                <p:nvPr/>
              </p:nvSpPr>
              <p:spPr>
                <a:xfrm>
                  <a:off x="2266200" y="3832560"/>
                  <a:ext cx="75600" cy="1134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1" name="Line 79"/>
                <p:cNvSpPr/>
                <p:nvPr/>
              </p:nvSpPr>
              <p:spPr>
                <a:xfrm>
                  <a:off x="2341800" y="3771000"/>
                  <a:ext cx="75240" cy="1134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2" name="Group 80"/>
              <p:cNvGrpSpPr/>
              <p:nvPr/>
            </p:nvGrpSpPr>
            <p:grpSpPr>
              <a:xfrm>
                <a:off x="2512800" y="3698280"/>
                <a:ext cx="189360" cy="143280"/>
                <a:chOff x="2512800" y="3698280"/>
                <a:chExt cx="189360" cy="143280"/>
              </a:xfrm>
            </p:grpSpPr>
            <p:sp>
              <p:nvSpPr>
                <p:cNvPr id="1413" name="Line 81"/>
                <p:cNvSpPr/>
                <p:nvPr/>
              </p:nvSpPr>
              <p:spPr>
                <a:xfrm flipH="1">
                  <a:off x="2512800" y="3705840"/>
                  <a:ext cx="432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4" name="Line 82"/>
                <p:cNvSpPr/>
                <p:nvPr/>
              </p:nvSpPr>
              <p:spPr>
                <a:xfrm flipH="1">
                  <a:off x="2602080" y="3705840"/>
                  <a:ext cx="432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5" name="Line 83"/>
                <p:cNvSpPr/>
                <p:nvPr/>
              </p:nvSpPr>
              <p:spPr>
                <a:xfrm flipH="1">
                  <a:off x="2697480" y="3698280"/>
                  <a:ext cx="468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6" name="Group 84"/>
              <p:cNvGrpSpPr/>
              <p:nvPr/>
            </p:nvGrpSpPr>
            <p:grpSpPr>
              <a:xfrm>
                <a:off x="2876040" y="3710880"/>
                <a:ext cx="226440" cy="178200"/>
                <a:chOff x="2876040" y="3710880"/>
                <a:chExt cx="226440" cy="178200"/>
              </a:xfrm>
            </p:grpSpPr>
            <p:sp>
              <p:nvSpPr>
                <p:cNvPr id="1417" name="Line 85"/>
                <p:cNvSpPr/>
                <p:nvPr/>
              </p:nvSpPr>
              <p:spPr>
                <a:xfrm flipH="1">
                  <a:off x="2876040" y="3710880"/>
                  <a:ext cx="46800" cy="1274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8" name="Line 86"/>
                <p:cNvSpPr/>
                <p:nvPr/>
              </p:nvSpPr>
              <p:spPr>
                <a:xfrm flipH="1">
                  <a:off x="2960280" y="3740400"/>
                  <a:ext cx="46800" cy="1274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9" name="Line 87"/>
                <p:cNvSpPr/>
                <p:nvPr/>
              </p:nvSpPr>
              <p:spPr>
                <a:xfrm flipH="1">
                  <a:off x="3055680" y="3762000"/>
                  <a:ext cx="46800" cy="127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Group 88"/>
              <p:cNvGrpSpPr/>
              <p:nvPr/>
            </p:nvGrpSpPr>
            <p:grpSpPr>
              <a:xfrm>
                <a:off x="3269880" y="3830760"/>
                <a:ext cx="199440" cy="140400"/>
                <a:chOff x="3269880" y="3830760"/>
                <a:chExt cx="199440" cy="140400"/>
              </a:xfrm>
            </p:grpSpPr>
            <p:sp>
              <p:nvSpPr>
                <p:cNvPr id="1421" name="Line 89"/>
                <p:cNvSpPr/>
                <p:nvPr/>
              </p:nvSpPr>
              <p:spPr>
                <a:xfrm flipH="1">
                  <a:off x="3269880" y="3830760"/>
                  <a:ext cx="13680" cy="1328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2" name="Line 90"/>
                <p:cNvSpPr/>
                <p:nvPr/>
              </p:nvSpPr>
              <p:spPr>
                <a:xfrm flipH="1">
                  <a:off x="3359160" y="3838680"/>
                  <a:ext cx="14040" cy="1324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3" name="Line 91"/>
                <p:cNvSpPr/>
                <p:nvPr/>
              </p:nvSpPr>
              <p:spPr>
                <a:xfrm flipH="1">
                  <a:off x="3455640" y="3835440"/>
                  <a:ext cx="13680" cy="1324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4" name="Group 92"/>
              <p:cNvGrpSpPr/>
              <p:nvPr/>
            </p:nvGrpSpPr>
            <p:grpSpPr>
              <a:xfrm>
                <a:off x="3650400" y="3801240"/>
                <a:ext cx="199440" cy="162360"/>
                <a:chOff x="3650400" y="3801240"/>
                <a:chExt cx="199440" cy="162360"/>
              </a:xfrm>
            </p:grpSpPr>
            <p:sp>
              <p:nvSpPr>
                <p:cNvPr id="1425" name="Line 93"/>
                <p:cNvSpPr/>
                <p:nvPr/>
              </p:nvSpPr>
              <p:spPr>
                <a:xfrm>
                  <a:off x="3650400" y="3830400"/>
                  <a:ext cx="12600" cy="1332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6" name="Line 94"/>
                <p:cNvSpPr/>
                <p:nvPr/>
              </p:nvSpPr>
              <p:spPr>
                <a:xfrm>
                  <a:off x="3741480" y="3821040"/>
                  <a:ext cx="14040" cy="1332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7" name="Line 95"/>
                <p:cNvSpPr/>
                <p:nvPr/>
              </p:nvSpPr>
              <p:spPr>
                <a:xfrm>
                  <a:off x="3837600" y="3801240"/>
                  <a:ext cx="12240" cy="1332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8" name="Group 96"/>
              <p:cNvGrpSpPr/>
              <p:nvPr/>
            </p:nvGrpSpPr>
            <p:grpSpPr>
              <a:xfrm>
                <a:off x="4025160" y="3674520"/>
                <a:ext cx="215280" cy="190440"/>
                <a:chOff x="4025160" y="3674520"/>
                <a:chExt cx="215280" cy="190440"/>
              </a:xfrm>
            </p:grpSpPr>
            <p:sp>
              <p:nvSpPr>
                <p:cNvPr id="1429" name="Line 97"/>
                <p:cNvSpPr/>
                <p:nvPr/>
              </p:nvSpPr>
              <p:spPr>
                <a:xfrm>
                  <a:off x="4025160" y="3734280"/>
                  <a:ext cx="36000" cy="1306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0" name="Line 98"/>
                <p:cNvSpPr/>
                <p:nvPr/>
              </p:nvSpPr>
              <p:spPr>
                <a:xfrm>
                  <a:off x="4112280" y="3709080"/>
                  <a:ext cx="36000" cy="1306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1" name="Line 99"/>
                <p:cNvSpPr/>
                <p:nvPr/>
              </p:nvSpPr>
              <p:spPr>
                <a:xfrm>
                  <a:off x="4204080" y="3674520"/>
                  <a:ext cx="36360" cy="1306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2" name="Group 100"/>
              <p:cNvGrpSpPr/>
              <p:nvPr/>
            </p:nvGrpSpPr>
            <p:grpSpPr>
              <a:xfrm>
                <a:off x="4412520" y="3574800"/>
                <a:ext cx="199440" cy="162360"/>
                <a:chOff x="4412520" y="3574800"/>
                <a:chExt cx="199440" cy="162360"/>
              </a:xfrm>
            </p:grpSpPr>
            <p:sp>
              <p:nvSpPr>
                <p:cNvPr id="1433" name="Line 101"/>
                <p:cNvSpPr/>
                <p:nvPr/>
              </p:nvSpPr>
              <p:spPr>
                <a:xfrm>
                  <a:off x="4412520" y="3601440"/>
                  <a:ext cx="1224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4" name="Line 102"/>
                <p:cNvSpPr/>
                <p:nvPr/>
              </p:nvSpPr>
              <p:spPr>
                <a:xfrm>
                  <a:off x="4503600" y="3593520"/>
                  <a:ext cx="1224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5" name="Line 103"/>
                <p:cNvSpPr/>
                <p:nvPr/>
              </p:nvSpPr>
              <p:spPr>
                <a:xfrm>
                  <a:off x="4599720" y="3574800"/>
                  <a:ext cx="1224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6" name="Group 104"/>
              <p:cNvGrpSpPr/>
              <p:nvPr/>
            </p:nvGrpSpPr>
            <p:grpSpPr>
              <a:xfrm>
                <a:off x="4796280" y="3551400"/>
                <a:ext cx="194400" cy="140040"/>
                <a:chOff x="4796280" y="3551400"/>
                <a:chExt cx="194400" cy="140040"/>
              </a:xfrm>
            </p:grpSpPr>
            <p:sp>
              <p:nvSpPr>
                <p:cNvPr id="1437" name="Line 105"/>
                <p:cNvSpPr/>
                <p:nvPr/>
              </p:nvSpPr>
              <p:spPr>
                <a:xfrm flipH="1">
                  <a:off x="4796280" y="3551400"/>
                  <a:ext cx="1080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8" name="Line 106"/>
                <p:cNvSpPr/>
                <p:nvPr/>
              </p:nvSpPr>
              <p:spPr>
                <a:xfrm flipH="1">
                  <a:off x="4885200" y="3555720"/>
                  <a:ext cx="1080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9" name="Line 107"/>
                <p:cNvSpPr/>
                <p:nvPr/>
              </p:nvSpPr>
              <p:spPr>
                <a:xfrm flipH="1">
                  <a:off x="4980240" y="3551400"/>
                  <a:ext cx="1044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0" name="Group 108"/>
              <p:cNvGrpSpPr/>
              <p:nvPr/>
            </p:nvGrpSpPr>
            <p:grpSpPr>
              <a:xfrm>
                <a:off x="5159880" y="3608280"/>
                <a:ext cx="229320" cy="185760"/>
                <a:chOff x="5159880" y="3608280"/>
                <a:chExt cx="229320" cy="185760"/>
              </a:xfrm>
            </p:grpSpPr>
            <p:sp>
              <p:nvSpPr>
                <p:cNvPr id="1441" name="Line 109"/>
                <p:cNvSpPr/>
                <p:nvPr/>
              </p:nvSpPr>
              <p:spPr>
                <a:xfrm flipH="1">
                  <a:off x="5159880" y="3608280"/>
                  <a:ext cx="52560" cy="1256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2" name="Line 110"/>
                <p:cNvSpPr/>
                <p:nvPr/>
              </p:nvSpPr>
              <p:spPr>
                <a:xfrm flipH="1">
                  <a:off x="5241960" y="3641040"/>
                  <a:ext cx="52560" cy="1260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3" name="Line 111"/>
                <p:cNvSpPr/>
                <p:nvPr/>
              </p:nvSpPr>
              <p:spPr>
                <a:xfrm flipH="1">
                  <a:off x="5336640" y="3668040"/>
                  <a:ext cx="52560" cy="1260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4" name="Group 112"/>
              <p:cNvGrpSpPr/>
              <p:nvPr/>
            </p:nvGrpSpPr>
            <p:grpSpPr>
              <a:xfrm>
                <a:off x="5559840" y="3693600"/>
                <a:ext cx="191520" cy="153000"/>
                <a:chOff x="5559840" y="3693600"/>
                <a:chExt cx="191520" cy="153000"/>
              </a:xfrm>
            </p:grpSpPr>
            <p:sp>
              <p:nvSpPr>
                <p:cNvPr id="1445" name="Line 113"/>
                <p:cNvSpPr/>
                <p:nvPr/>
              </p:nvSpPr>
              <p:spPr>
                <a:xfrm>
                  <a:off x="5559840" y="3710520"/>
                  <a:ext cx="4320" cy="136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6" name="Line 114"/>
                <p:cNvSpPr/>
                <p:nvPr/>
              </p:nvSpPr>
              <p:spPr>
                <a:xfrm>
                  <a:off x="5649480" y="3705840"/>
                  <a:ext cx="432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7" name="Line 115"/>
                <p:cNvSpPr/>
                <p:nvPr/>
              </p:nvSpPr>
              <p:spPr>
                <a:xfrm>
                  <a:off x="5747040" y="3693600"/>
                  <a:ext cx="432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8" name="Group 116"/>
              <p:cNvGrpSpPr/>
              <p:nvPr/>
            </p:nvGrpSpPr>
            <p:grpSpPr>
              <a:xfrm>
                <a:off x="5926320" y="3554640"/>
                <a:ext cx="219960" cy="201600"/>
                <a:chOff x="5926320" y="3554640"/>
                <a:chExt cx="219960" cy="201600"/>
              </a:xfrm>
            </p:grpSpPr>
            <p:sp>
              <p:nvSpPr>
                <p:cNvPr id="1449" name="Line 117"/>
                <p:cNvSpPr/>
                <p:nvPr/>
              </p:nvSpPr>
              <p:spPr>
                <a:xfrm>
                  <a:off x="5926320" y="3629520"/>
                  <a:ext cx="46800" cy="126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0" name="Line 118"/>
                <p:cNvSpPr/>
                <p:nvPr/>
              </p:nvSpPr>
              <p:spPr>
                <a:xfrm>
                  <a:off x="6011280" y="3598200"/>
                  <a:ext cx="46800" cy="1263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1" name="Line 119"/>
                <p:cNvSpPr/>
                <p:nvPr/>
              </p:nvSpPr>
              <p:spPr>
                <a:xfrm>
                  <a:off x="6099480" y="3554640"/>
                  <a:ext cx="46800" cy="1263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2" name="Group 120"/>
              <p:cNvGrpSpPr/>
              <p:nvPr/>
            </p:nvGrpSpPr>
            <p:grpSpPr>
              <a:xfrm>
                <a:off x="6231240" y="3416760"/>
                <a:ext cx="219960" cy="201960"/>
                <a:chOff x="6231240" y="3416760"/>
                <a:chExt cx="219960" cy="201960"/>
              </a:xfrm>
            </p:grpSpPr>
            <p:sp>
              <p:nvSpPr>
                <p:cNvPr id="1453" name="Line 121"/>
                <p:cNvSpPr/>
                <p:nvPr/>
              </p:nvSpPr>
              <p:spPr>
                <a:xfrm>
                  <a:off x="6231240" y="3492720"/>
                  <a:ext cx="46800" cy="1260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4" name="Line 122"/>
                <p:cNvSpPr/>
                <p:nvPr/>
              </p:nvSpPr>
              <p:spPr>
                <a:xfrm>
                  <a:off x="6316200" y="3461760"/>
                  <a:ext cx="46800" cy="1260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5" name="Line 123"/>
                <p:cNvSpPr/>
                <p:nvPr/>
              </p:nvSpPr>
              <p:spPr>
                <a:xfrm>
                  <a:off x="6404400" y="3416760"/>
                  <a:ext cx="46800" cy="1260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6" name="Group 124"/>
              <p:cNvGrpSpPr/>
              <p:nvPr/>
            </p:nvGrpSpPr>
            <p:grpSpPr>
              <a:xfrm>
                <a:off x="6535800" y="3235320"/>
                <a:ext cx="219960" cy="201600"/>
                <a:chOff x="6535800" y="3235320"/>
                <a:chExt cx="219960" cy="201600"/>
              </a:xfrm>
            </p:grpSpPr>
            <p:sp>
              <p:nvSpPr>
                <p:cNvPr id="1457" name="Line 125"/>
                <p:cNvSpPr/>
                <p:nvPr/>
              </p:nvSpPr>
              <p:spPr>
                <a:xfrm>
                  <a:off x="6535800" y="3311280"/>
                  <a:ext cx="47160" cy="1256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8" name="Line 126"/>
                <p:cNvSpPr/>
                <p:nvPr/>
              </p:nvSpPr>
              <p:spPr>
                <a:xfrm>
                  <a:off x="6620400" y="3278520"/>
                  <a:ext cx="47160" cy="1260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9" name="Line 127"/>
                <p:cNvSpPr/>
                <p:nvPr/>
              </p:nvSpPr>
              <p:spPr>
                <a:xfrm>
                  <a:off x="6708600" y="3235320"/>
                  <a:ext cx="47160" cy="1256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0" name="Text Box 128"/>
            <p:cNvSpPr/>
            <p:nvPr/>
          </p:nvSpPr>
          <p:spPr>
            <a:xfrm>
              <a:off x="5543640" y="3909960"/>
              <a:ext cx="6094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3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dó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AutoShape 129"/>
            <p:cNvSpPr/>
            <p:nvPr/>
          </p:nvSpPr>
          <p:spPr>
            <a:xfrm rot="4560000">
              <a:off x="5622840" y="3683880"/>
              <a:ext cx="119160" cy="336600"/>
            </a:xfrm>
            <a:custGeom>
              <a:avLst/>
              <a:gdLst>
                <a:gd name="textAreaLeft" fmla="*/ 0 w 119160"/>
                <a:gd name="textAreaRight" fmla="*/ 83520 w 119160"/>
                <a:gd name="textAreaTop" fmla="*/ 20160 h 336600"/>
                <a:gd name="textAreaBottom" fmla="*/ 316440 h 33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1311"/>
                    <a:pt x="21600" y="2622"/>
                  </a:cubicBezTo>
                  <a:lnTo>
                    <a:pt x="21600" y="18978"/>
                  </a:lnTo>
                  <a:cubicBezTo>
                    <a:pt x="21600" y="20289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Text Box 130"/>
            <p:cNvSpPr/>
            <p:nvPr/>
          </p:nvSpPr>
          <p:spPr>
            <a:xfrm>
              <a:off x="1962000" y="4024440"/>
              <a:ext cx="3049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6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5’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Text Box 131"/>
            <p:cNvSpPr/>
            <p:nvPr/>
          </p:nvSpPr>
          <p:spPr>
            <a:xfrm>
              <a:off x="6762600" y="3224160"/>
              <a:ext cx="3049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6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3’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Text Box 132"/>
            <p:cNvSpPr/>
            <p:nvPr/>
          </p:nvSpPr>
          <p:spPr>
            <a:xfrm>
              <a:off x="2190600" y="4024440"/>
              <a:ext cx="60984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3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AR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Text Box 133"/>
            <p:cNvSpPr/>
            <p:nvPr/>
          </p:nvSpPr>
          <p:spPr>
            <a:xfrm>
              <a:off x="2800440" y="4253040"/>
              <a:ext cx="60948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3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ibosom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Line 134"/>
            <p:cNvSpPr/>
            <p:nvPr/>
          </p:nvSpPr>
          <p:spPr>
            <a:xfrm>
              <a:off x="4857840" y="3452760"/>
              <a:ext cx="9144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Text Box 135"/>
            <p:cNvSpPr/>
            <p:nvPr/>
          </p:nvSpPr>
          <p:spPr>
            <a:xfrm>
              <a:off x="4781520" y="3338640"/>
              <a:ext cx="1143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rección de lectura del mAR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Line 136"/>
            <p:cNvSpPr/>
            <p:nvPr/>
          </p:nvSpPr>
          <p:spPr>
            <a:xfrm>
              <a:off x="4400640" y="2995560"/>
              <a:ext cx="75960" cy="57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69" name="Group 137"/>
            <p:cNvGrpSpPr/>
            <p:nvPr/>
          </p:nvGrpSpPr>
          <p:grpSpPr>
            <a:xfrm>
              <a:off x="3166560" y="2741760"/>
              <a:ext cx="1854360" cy="1892160"/>
              <a:chOff x="3166560" y="2741760"/>
              <a:chExt cx="1854360" cy="1892160"/>
            </a:xfrm>
          </p:grpSpPr>
          <p:sp>
            <p:nvSpPr>
              <p:cNvPr id="1470" name="Line 138"/>
              <p:cNvSpPr/>
              <p:nvPr/>
            </p:nvSpPr>
            <p:spPr>
              <a:xfrm flipV="1">
                <a:off x="3409920" y="4181040"/>
                <a:ext cx="228600" cy="117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Line 139"/>
              <p:cNvSpPr/>
              <p:nvPr/>
            </p:nvSpPr>
            <p:spPr>
              <a:xfrm>
                <a:off x="3943440" y="4138560"/>
                <a:ext cx="3808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72" name="Group 140"/>
              <p:cNvGrpSpPr/>
              <p:nvPr/>
            </p:nvGrpSpPr>
            <p:grpSpPr>
              <a:xfrm>
                <a:off x="3166560" y="2741760"/>
                <a:ext cx="1854360" cy="1892160"/>
                <a:chOff x="3166560" y="2741760"/>
                <a:chExt cx="1854360" cy="1892160"/>
              </a:xfrm>
            </p:grpSpPr>
            <p:sp>
              <p:nvSpPr>
                <p:cNvPr id="1473" name="Oval 141"/>
                <p:cNvSpPr/>
                <p:nvPr/>
              </p:nvSpPr>
              <p:spPr>
                <a:xfrm rot="20580000">
                  <a:off x="3308400" y="2933640"/>
                  <a:ext cx="1492920" cy="119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100000">
                      <a:srgbClr val="ffffff">
                        <a:alpha val="47058"/>
                      </a:srgbClr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4" name="Oval 142"/>
                <p:cNvSpPr/>
                <p:nvPr/>
              </p:nvSpPr>
              <p:spPr>
                <a:xfrm rot="20580000">
                  <a:off x="3474000" y="3835440"/>
                  <a:ext cx="1492920" cy="592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5" name="AutoShape 143"/>
              <p:cNvSpPr/>
              <p:nvPr/>
            </p:nvSpPr>
            <p:spPr>
              <a:xfrm rot="4260000">
                <a:off x="3731400" y="3812400"/>
                <a:ext cx="92160" cy="334800"/>
              </a:xfrm>
              <a:custGeom>
                <a:avLst/>
                <a:gdLst>
                  <a:gd name="textAreaLeft" fmla="*/ 0 w 92160"/>
                  <a:gd name="textAreaRight" fmla="*/ 64800 w 92160"/>
                  <a:gd name="textAreaTop" fmla="*/ 20880 h 334800"/>
                  <a:gd name="textAreaBottom" fmla="*/ 313920 h 334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1350"/>
                      <a:pt x="21600" y="2700"/>
                    </a:cubicBezTo>
                    <a:lnTo>
                      <a:pt x="21600" y="18900"/>
                    </a:lnTo>
                    <a:cubicBezTo>
                      <a:pt x="21600" y="20250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AutoShape 144"/>
              <p:cNvSpPr/>
              <p:nvPr/>
            </p:nvSpPr>
            <p:spPr>
              <a:xfrm rot="4260000">
                <a:off x="4111560" y="3673440"/>
                <a:ext cx="91800" cy="336240"/>
              </a:xfrm>
              <a:custGeom>
                <a:avLst/>
                <a:gdLst>
                  <a:gd name="textAreaLeft" fmla="*/ 0 w 91800"/>
                  <a:gd name="textAreaRight" fmla="*/ 64440 w 91800"/>
                  <a:gd name="textAreaTop" fmla="*/ 20880 h 336240"/>
                  <a:gd name="textAreaBottom" fmla="*/ 315360 h 3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1350"/>
                      <a:pt x="21600" y="2700"/>
                    </a:cubicBezTo>
                    <a:lnTo>
                      <a:pt x="21600" y="18900"/>
                    </a:lnTo>
                    <a:cubicBezTo>
                      <a:pt x="21600" y="20250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AutoShape 145"/>
              <p:cNvSpPr/>
              <p:nvPr/>
            </p:nvSpPr>
            <p:spPr>
              <a:xfrm rot="4380000">
                <a:off x="4461120" y="3569400"/>
                <a:ext cx="115920" cy="336600"/>
              </a:xfrm>
              <a:custGeom>
                <a:avLst/>
                <a:gdLst>
                  <a:gd name="textAreaLeft" fmla="*/ 0 w 115920"/>
                  <a:gd name="textAreaRight" fmla="*/ 81360 w 115920"/>
                  <a:gd name="textAreaTop" fmla="*/ 20160 h 336600"/>
                  <a:gd name="textAreaBottom" fmla="*/ 316440 h 336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1311"/>
                      <a:pt x="21600" y="2622"/>
                    </a:cubicBezTo>
                    <a:lnTo>
                      <a:pt x="21600" y="18978"/>
                    </a:lnTo>
                    <a:cubicBezTo>
                      <a:pt x="21600" y="20289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Text Box 146"/>
              <p:cNvSpPr/>
              <p:nvPr/>
            </p:nvSpPr>
            <p:spPr>
              <a:xfrm>
                <a:off x="3714840" y="4062240"/>
                <a:ext cx="304560" cy="11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6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Val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Text Box 147"/>
              <p:cNvSpPr/>
              <p:nvPr/>
            </p:nvSpPr>
            <p:spPr>
              <a:xfrm>
                <a:off x="4095720" y="3909960"/>
                <a:ext cx="304920" cy="11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6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la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Text Box 148"/>
              <p:cNvSpPr/>
              <p:nvPr/>
            </p:nvSpPr>
            <p:spPr>
              <a:xfrm>
                <a:off x="4476600" y="3795840"/>
                <a:ext cx="304920" cy="11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6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Gli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Line 149"/>
              <p:cNvSpPr/>
              <p:nvPr/>
            </p:nvSpPr>
            <p:spPr>
              <a:xfrm>
                <a:off x="4248000" y="402444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Line 150"/>
              <p:cNvSpPr/>
              <p:nvPr/>
            </p:nvSpPr>
            <p:spPr>
              <a:xfrm flipH="1">
                <a:off x="4551480" y="3909960"/>
                <a:ext cx="7920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83" name="Group 151"/>
              <p:cNvGrpSpPr/>
              <p:nvPr/>
            </p:nvGrpSpPr>
            <p:grpSpPr>
              <a:xfrm>
                <a:off x="3576960" y="3012840"/>
                <a:ext cx="1035360" cy="1335600"/>
                <a:chOff x="3576960" y="3012840"/>
                <a:chExt cx="1035360" cy="1335600"/>
              </a:xfrm>
            </p:grpSpPr>
            <p:sp>
              <p:nvSpPr>
                <p:cNvPr id="1484" name="AutoShape 152"/>
                <p:cNvSpPr/>
                <p:nvPr/>
              </p:nvSpPr>
              <p:spPr>
                <a:xfrm rot="20400000">
                  <a:off x="3757680" y="3092400"/>
                  <a:ext cx="673920" cy="1176120"/>
                </a:xfrm>
                <a:custGeom>
                  <a:avLst/>
                  <a:gdLst>
                    <a:gd name="textAreaLeft" fmla="*/ 32760 w 673920"/>
                    <a:gd name="textAreaRight" fmla="*/ 641160 w 673920"/>
                    <a:gd name="textAreaTop" fmla="*/ 32760 h 1176120"/>
                    <a:gd name="textAreaBottom" fmla="*/ 1143360 h 1176120"/>
                  </a:gdLst>
                  <a:ahLst/>
                  <a:rect l="textAreaLeft" t="textAreaTop" r="textAreaRight" b="textAreaBottom"/>
                  <a:pathLst>
                    <a:path w="21600" h="37688">
                      <a:moveTo>
                        <a:pt x="3600" y="0"/>
                      </a:moveTo>
                      <a:arcTo wR="3600" hR="3600" stAng="16200000" swAng="-5400000"/>
                      <a:lnTo>
                        <a:pt x="0" y="34088"/>
                      </a:lnTo>
                      <a:arcTo wR="3600" hR="3600" stAng="10800000" swAng="-5400000"/>
                      <a:lnTo>
                        <a:pt x="18000" y="3768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5" name="Text Box 153"/>
                <p:cNvSpPr/>
                <p:nvPr/>
              </p:nvSpPr>
              <p:spPr>
                <a:xfrm>
                  <a:off x="3761640" y="3301200"/>
                  <a:ext cx="505440" cy="41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6" name="Group 154"/>
              <p:cNvGrpSpPr/>
              <p:nvPr/>
            </p:nvGrpSpPr>
            <p:grpSpPr>
              <a:xfrm>
                <a:off x="4030200" y="3011400"/>
                <a:ext cx="889560" cy="1107720"/>
                <a:chOff x="4030200" y="3011400"/>
                <a:chExt cx="889560" cy="1107720"/>
              </a:xfrm>
            </p:grpSpPr>
            <p:sp>
              <p:nvSpPr>
                <p:cNvPr id="1487" name="AutoShape 155"/>
                <p:cNvSpPr/>
                <p:nvPr/>
              </p:nvSpPr>
              <p:spPr>
                <a:xfrm rot="20400000">
                  <a:off x="4176360" y="3084480"/>
                  <a:ext cx="596520" cy="961560"/>
                </a:xfrm>
                <a:custGeom>
                  <a:avLst/>
                  <a:gdLst>
                    <a:gd name="textAreaLeft" fmla="*/ 28800 w 596520"/>
                    <a:gd name="textAreaRight" fmla="*/ 567720 w 596520"/>
                    <a:gd name="textAreaTop" fmla="*/ 28800 h 961560"/>
                    <a:gd name="textAreaBottom" fmla="*/ 932760 h 961560"/>
                  </a:gdLst>
                  <a:ahLst/>
                  <a:rect l="textAreaLeft" t="textAreaTop" r="textAreaRight" b="textAreaBottom"/>
                  <a:pathLst>
                    <a:path w="21600" h="34810">
                      <a:moveTo>
                        <a:pt x="3600" y="0"/>
                      </a:moveTo>
                      <a:arcTo wR="3600" hR="3600" stAng="16200000" swAng="-5400000"/>
                      <a:lnTo>
                        <a:pt x="0" y="31210"/>
                      </a:lnTo>
                      <a:arcTo wR="3600" hR="3600" stAng="10800000" swAng="-5400000"/>
                      <a:lnTo>
                        <a:pt x="18000" y="348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8" name="Text Box 156"/>
                <p:cNvSpPr/>
                <p:nvPr/>
              </p:nvSpPr>
              <p:spPr>
                <a:xfrm>
                  <a:off x="4179240" y="3254760"/>
                  <a:ext cx="447480" cy="34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9" name="AutoShape 157"/>
            <p:cNvSpPr/>
            <p:nvPr/>
          </p:nvSpPr>
          <p:spPr>
            <a:xfrm flipH="1" flipV="1" rot="2580000">
              <a:off x="3584160" y="1878120"/>
              <a:ext cx="1676520" cy="1433520"/>
            </a:xfrm>
            <a:custGeom>
              <a:avLst/>
              <a:gdLst>
                <a:gd name="textAreaLeft" fmla="*/ 838440 w 1676520"/>
                <a:gd name="textAreaRight" fmla="*/ 1676880 w 1676520"/>
                <a:gd name="textAreaTop" fmla="*/ 145800 h 1433520"/>
                <a:gd name="textAreaBottom" fmla="*/ 716040 h 14335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7788" y="2565"/>
                  </a:moveTo>
                  <a:cubicBezTo>
                    <a:pt x="20206" y="4617"/>
                    <a:pt x="21600" y="7628"/>
                    <a:pt x="21600" y="10800"/>
                  </a:cubicBezTo>
                  <a:lnTo>
                    <a:pt x="10800" y="10800"/>
                  </a:lnTo>
                  <a:lnTo>
                    <a:pt x="17788" y="2565"/>
                  </a:lnTo>
                  <a:close/>
                </a:path>
                <a:path fill="none" w="21600" h="21600">
                  <a:moveTo>
                    <a:pt x="17788" y="2565"/>
                  </a:moveTo>
                  <a:cubicBezTo>
                    <a:pt x="20206" y="4617"/>
                    <a:pt x="21600" y="7628"/>
                    <a:pt x="21600" y="108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90" name="Group 158"/>
            <p:cNvGrpSpPr/>
            <p:nvPr/>
          </p:nvGrpSpPr>
          <p:grpSpPr>
            <a:xfrm>
              <a:off x="3409920" y="2195640"/>
              <a:ext cx="227160" cy="226800"/>
              <a:chOff x="3409920" y="2195640"/>
              <a:chExt cx="227160" cy="226800"/>
            </a:xfrm>
          </p:grpSpPr>
          <p:sp>
            <p:nvSpPr>
              <p:cNvPr id="1491" name="Oval 159"/>
              <p:cNvSpPr/>
              <p:nvPr/>
            </p:nvSpPr>
            <p:spPr>
              <a:xfrm>
                <a:off x="3409920" y="2195640"/>
                <a:ext cx="227160" cy="226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Text Box 160"/>
              <p:cNvSpPr/>
              <p:nvPr/>
            </p:nvSpPr>
            <p:spPr>
              <a:xfrm>
                <a:off x="3409920" y="2223720"/>
                <a:ext cx="227160" cy="11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62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93" name="Group 161"/>
            <p:cNvGrpSpPr/>
            <p:nvPr/>
          </p:nvGrpSpPr>
          <p:grpSpPr>
            <a:xfrm>
              <a:off x="3333600" y="3224160"/>
              <a:ext cx="227160" cy="227160"/>
              <a:chOff x="3333600" y="3224160"/>
              <a:chExt cx="227160" cy="227160"/>
            </a:xfrm>
          </p:grpSpPr>
          <p:sp>
            <p:nvSpPr>
              <p:cNvPr id="1494" name="Oval 162"/>
              <p:cNvSpPr/>
              <p:nvPr/>
            </p:nvSpPr>
            <p:spPr>
              <a:xfrm>
                <a:off x="3333600" y="3224160"/>
                <a:ext cx="227160" cy="227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Text Box 163"/>
              <p:cNvSpPr/>
              <p:nvPr/>
            </p:nvSpPr>
            <p:spPr>
              <a:xfrm>
                <a:off x="3333600" y="3252600"/>
                <a:ext cx="227160" cy="11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62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96" name="Group 164"/>
            <p:cNvGrpSpPr/>
            <p:nvPr/>
          </p:nvGrpSpPr>
          <p:grpSpPr>
            <a:xfrm>
              <a:off x="2419200" y="5052960"/>
              <a:ext cx="2207880" cy="227160"/>
              <a:chOff x="2419200" y="5052960"/>
              <a:chExt cx="2207880" cy="227160"/>
            </a:xfrm>
          </p:grpSpPr>
          <p:grpSp>
            <p:nvGrpSpPr>
              <p:cNvPr id="1497" name="Group 165"/>
              <p:cNvGrpSpPr/>
              <p:nvPr/>
            </p:nvGrpSpPr>
            <p:grpSpPr>
              <a:xfrm>
                <a:off x="2419200" y="5052960"/>
                <a:ext cx="226800" cy="227160"/>
                <a:chOff x="2419200" y="5052960"/>
                <a:chExt cx="226800" cy="227160"/>
              </a:xfrm>
            </p:grpSpPr>
            <p:sp>
              <p:nvSpPr>
                <p:cNvPr id="1498" name="Oval 166"/>
                <p:cNvSpPr/>
                <p:nvPr/>
              </p:nvSpPr>
              <p:spPr>
                <a:xfrm>
                  <a:off x="2419200" y="5052960"/>
                  <a:ext cx="226800" cy="2271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9" name="Text Box 167"/>
                <p:cNvSpPr/>
                <p:nvPr/>
              </p:nvSpPr>
              <p:spPr>
                <a:xfrm>
                  <a:off x="2419200" y="5081400"/>
                  <a:ext cx="226800" cy="11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62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0" name="Text Box 168"/>
              <p:cNvSpPr/>
              <p:nvPr/>
            </p:nvSpPr>
            <p:spPr>
              <a:xfrm>
                <a:off x="2647440" y="5079960"/>
                <a:ext cx="1979640" cy="20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79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Arial"/>
                  </a:rPr>
                  <a:t>Enzima</a:t>
                </a:r>
                <a:r>
                  <a:rPr b="1" i="1" lang="en-US" sz="1400" spc="-1" strike="noStrike">
                    <a:solidFill>
                      <a:srgbClr val="ff0000"/>
                    </a:solidFill>
                    <a:latin typeface="Arial"/>
                  </a:rPr>
                  <a:t> Peptidililtransferas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01" name="Group 169"/>
            <p:cNvGrpSpPr/>
            <p:nvPr/>
          </p:nvGrpSpPr>
          <p:grpSpPr>
            <a:xfrm>
              <a:off x="5315040" y="5052960"/>
              <a:ext cx="1775880" cy="461520"/>
              <a:chOff x="5315040" y="5052960"/>
              <a:chExt cx="1775880" cy="461520"/>
            </a:xfrm>
          </p:grpSpPr>
          <p:grpSp>
            <p:nvGrpSpPr>
              <p:cNvPr id="1502" name="Group 170"/>
              <p:cNvGrpSpPr/>
              <p:nvPr/>
            </p:nvGrpSpPr>
            <p:grpSpPr>
              <a:xfrm>
                <a:off x="5315040" y="5052960"/>
                <a:ext cx="226440" cy="226080"/>
                <a:chOff x="5315040" y="5052960"/>
                <a:chExt cx="226440" cy="226080"/>
              </a:xfrm>
            </p:grpSpPr>
            <p:sp>
              <p:nvSpPr>
                <p:cNvPr id="1503" name="Oval 171"/>
                <p:cNvSpPr/>
                <p:nvPr/>
              </p:nvSpPr>
              <p:spPr>
                <a:xfrm>
                  <a:off x="5315040" y="5052960"/>
                  <a:ext cx="226440" cy="22608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4" name="Text Box 172"/>
                <p:cNvSpPr/>
                <p:nvPr/>
              </p:nvSpPr>
              <p:spPr>
                <a:xfrm>
                  <a:off x="5315040" y="5081400"/>
                  <a:ext cx="226440" cy="11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62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5" name="Text Box 173"/>
              <p:cNvSpPr/>
              <p:nvPr/>
            </p:nvSpPr>
            <p:spPr>
              <a:xfrm>
                <a:off x="5606640" y="5081400"/>
                <a:ext cx="1484280" cy="43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en-US" sz="1400" spc="-1" strike="noStrike">
                    <a:solidFill>
                      <a:srgbClr val="ff0000"/>
                    </a:solidFill>
                    <a:latin typeface="Arial"/>
                  </a:rPr>
                  <a:t>Translocasa</a:t>
                </a:r>
                <a:r>
                  <a:rPr b="1" i="1" lang="en-US" sz="11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Line 174"/>
              <p:cNvSpPr/>
              <p:nvPr/>
            </p:nvSpPr>
            <p:spPr>
              <a:xfrm>
                <a:off x="6083640" y="5372280"/>
                <a:ext cx="287280" cy="10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07" name="AutoShape 175"/>
            <p:cNvSpPr/>
            <p:nvPr/>
          </p:nvSpPr>
          <p:spPr>
            <a:xfrm rot="4560000">
              <a:off x="6648840" y="3272400"/>
              <a:ext cx="118800" cy="336600"/>
            </a:xfrm>
            <a:custGeom>
              <a:avLst/>
              <a:gdLst>
                <a:gd name="textAreaLeft" fmla="*/ 0 w 118800"/>
                <a:gd name="textAreaRight" fmla="*/ 83520 w 118800"/>
                <a:gd name="textAreaTop" fmla="*/ 20160 h 336600"/>
                <a:gd name="textAreaBottom" fmla="*/ 316440 h 33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1311"/>
                    <a:pt x="21600" y="2622"/>
                  </a:cubicBezTo>
                  <a:lnTo>
                    <a:pt x="21600" y="18978"/>
                  </a:lnTo>
                  <a:cubicBezTo>
                    <a:pt x="21600" y="20289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Text Box 176"/>
            <p:cNvSpPr/>
            <p:nvPr/>
          </p:nvSpPr>
          <p:spPr>
            <a:xfrm>
              <a:off x="6516720" y="3530520"/>
              <a:ext cx="719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dón de terminació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Text Box 177"/>
            <p:cNvSpPr/>
            <p:nvPr/>
          </p:nvSpPr>
          <p:spPr>
            <a:xfrm>
              <a:off x="1771560" y="2133720"/>
              <a:ext cx="554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77360" y="301320"/>
            <a:ext cx="82184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Transcripción de un gen eucariota, maduración del ARNm y tra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1" name="Picture 6" descr="Gene_Intron_Exon"/>
          <p:cNvPicPr/>
          <p:nvPr/>
        </p:nvPicPr>
        <p:blipFill>
          <a:blip r:embed="rId1"/>
          <a:stretch/>
        </p:blipFill>
        <p:spPr>
          <a:xfrm>
            <a:off x="108000" y="749160"/>
            <a:ext cx="2287440" cy="2824200"/>
          </a:xfrm>
          <a:prstGeom prst="rect">
            <a:avLst/>
          </a:prstGeom>
          <a:ln w="0">
            <a:noFill/>
          </a:ln>
        </p:spPr>
      </p:pic>
      <p:sp>
        <p:nvSpPr>
          <p:cNvPr id="1512" name="Rectangle 39"/>
          <p:cNvSpPr/>
          <p:nvPr/>
        </p:nvSpPr>
        <p:spPr>
          <a:xfrm>
            <a:off x="1054080" y="4392720"/>
            <a:ext cx="1018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teí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Rectangle 52"/>
          <p:cNvSpPr/>
          <p:nvPr/>
        </p:nvSpPr>
        <p:spPr>
          <a:xfrm>
            <a:off x="5573880" y="4876920"/>
            <a:ext cx="23238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de-DE" sz="1800" spc="-1" strike="noStrike">
                <a:solidFill>
                  <a:srgbClr val="cc0055"/>
                </a:solidFill>
                <a:latin typeface="Arial"/>
              </a:rPr>
              <a:t>Modificacion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de-DE" sz="1800" spc="-1" strike="noStrike">
                <a:solidFill>
                  <a:srgbClr val="cc0055"/>
                </a:solidFill>
                <a:latin typeface="Arial"/>
              </a:rPr>
              <a:t>postransduccion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4" name="69 Grupo"/>
          <p:cNvGrpSpPr/>
          <p:nvPr/>
        </p:nvGrpSpPr>
        <p:grpSpPr>
          <a:xfrm>
            <a:off x="2639880" y="1268280"/>
            <a:ext cx="5964480" cy="1625760"/>
            <a:chOff x="2639880" y="1268280"/>
            <a:chExt cx="5964480" cy="1625760"/>
          </a:xfrm>
        </p:grpSpPr>
        <p:sp>
          <p:nvSpPr>
            <p:cNvPr id="1515" name="Rectangle 7"/>
            <p:cNvSpPr/>
            <p:nvPr/>
          </p:nvSpPr>
          <p:spPr>
            <a:xfrm>
              <a:off x="2639880" y="1750680"/>
              <a:ext cx="773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preARN: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16" name="Group 8"/>
            <p:cNvGrpSpPr/>
            <p:nvPr/>
          </p:nvGrpSpPr>
          <p:grpSpPr>
            <a:xfrm>
              <a:off x="3634200" y="1268280"/>
              <a:ext cx="4969800" cy="287280"/>
              <a:chOff x="3634200" y="1268280"/>
              <a:chExt cx="4969800" cy="287280"/>
            </a:xfrm>
          </p:grpSpPr>
          <p:sp>
            <p:nvSpPr>
              <p:cNvPr id="1517" name="Rectangle 9"/>
              <p:cNvSpPr/>
              <p:nvPr/>
            </p:nvSpPr>
            <p:spPr>
              <a:xfrm>
                <a:off x="8158680" y="1268280"/>
                <a:ext cx="435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3'UT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Rectangle 10"/>
              <p:cNvSpPr/>
              <p:nvPr/>
            </p:nvSpPr>
            <p:spPr>
              <a:xfrm>
                <a:off x="5797440" y="1268280"/>
                <a:ext cx="9360" cy="191880"/>
              </a:xfrm>
              <a:prstGeom prst="rect">
                <a:avLst/>
              </a:prstGeom>
              <a:noFill/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Rectangle 11"/>
              <p:cNvSpPr/>
              <p:nvPr/>
            </p:nvSpPr>
            <p:spPr>
              <a:xfrm>
                <a:off x="3634200" y="1268280"/>
                <a:ext cx="435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5'UT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Line 12"/>
              <p:cNvSpPr/>
              <p:nvPr/>
            </p:nvSpPr>
            <p:spPr>
              <a:xfrm flipV="1">
                <a:off x="3719160" y="1482480"/>
                <a:ext cx="0" cy="6840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Line 13"/>
              <p:cNvSpPr/>
              <p:nvPr/>
            </p:nvSpPr>
            <p:spPr>
              <a:xfrm>
                <a:off x="3719160" y="1481040"/>
                <a:ext cx="4884840" cy="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Line 14"/>
              <p:cNvSpPr/>
              <p:nvPr/>
            </p:nvSpPr>
            <p:spPr>
              <a:xfrm flipV="1">
                <a:off x="4005000" y="1481040"/>
                <a:ext cx="0" cy="7128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Line 15"/>
              <p:cNvSpPr/>
              <p:nvPr/>
            </p:nvSpPr>
            <p:spPr>
              <a:xfrm flipV="1">
                <a:off x="8181720" y="1484280"/>
                <a:ext cx="0" cy="7128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Line 16"/>
              <p:cNvSpPr/>
              <p:nvPr/>
            </p:nvSpPr>
            <p:spPr>
              <a:xfrm flipV="1">
                <a:off x="8596080" y="1477800"/>
                <a:ext cx="0" cy="7128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25" name="Rectangle 17"/>
            <p:cNvSpPr/>
            <p:nvPr/>
          </p:nvSpPr>
          <p:spPr>
            <a:xfrm>
              <a:off x="7202520" y="1790640"/>
              <a:ext cx="985680" cy="188640"/>
            </a:xfrm>
            <a:prstGeom prst="rect">
              <a:avLst/>
            </a:prstGeom>
            <a:solidFill>
              <a:srgbClr val="660033"/>
            </a:solidFill>
            <a:ln w="1260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Rectangle 18"/>
            <p:cNvSpPr/>
            <p:nvPr/>
          </p:nvSpPr>
          <p:spPr>
            <a:xfrm>
              <a:off x="4012920" y="1792080"/>
              <a:ext cx="630000" cy="188640"/>
            </a:xfrm>
            <a:prstGeom prst="rect">
              <a:avLst/>
            </a:prstGeom>
            <a:solidFill>
              <a:srgbClr val="660033"/>
            </a:solidFill>
            <a:ln w="1260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Rectangle 19"/>
            <p:cNvSpPr/>
            <p:nvPr/>
          </p:nvSpPr>
          <p:spPr>
            <a:xfrm>
              <a:off x="5079960" y="1792080"/>
              <a:ext cx="1023840" cy="188640"/>
            </a:xfrm>
            <a:prstGeom prst="rect">
              <a:avLst/>
            </a:prstGeom>
            <a:solidFill>
              <a:srgbClr val="660033"/>
            </a:solidFill>
            <a:ln w="1260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Rectangle 20"/>
            <p:cNvSpPr/>
            <p:nvPr/>
          </p:nvSpPr>
          <p:spPr>
            <a:xfrm>
              <a:off x="4173840" y="1609560"/>
              <a:ext cx="343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Exon 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Rectangle 21"/>
            <p:cNvSpPr/>
            <p:nvPr/>
          </p:nvSpPr>
          <p:spPr>
            <a:xfrm>
              <a:off x="5434560" y="1609560"/>
              <a:ext cx="343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Exon 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Rectangle 22"/>
            <p:cNvSpPr/>
            <p:nvPr/>
          </p:nvSpPr>
          <p:spPr>
            <a:xfrm>
              <a:off x="7506360" y="1609560"/>
              <a:ext cx="343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Exon 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Rectangle 23"/>
            <p:cNvSpPr/>
            <p:nvPr/>
          </p:nvSpPr>
          <p:spPr>
            <a:xfrm>
              <a:off x="4670640" y="1674720"/>
              <a:ext cx="40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Intron 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Rectangle 24"/>
            <p:cNvSpPr/>
            <p:nvPr/>
          </p:nvSpPr>
          <p:spPr>
            <a:xfrm>
              <a:off x="6451920" y="1674720"/>
              <a:ext cx="40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Intron 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Line 25"/>
            <p:cNvSpPr/>
            <p:nvPr/>
          </p:nvSpPr>
          <p:spPr>
            <a:xfrm>
              <a:off x="3719520" y="1898640"/>
              <a:ext cx="4884840" cy="0"/>
            </a:xfrm>
            <a:prstGeom prst="line">
              <a:avLst/>
            </a:prstGeom>
            <a:ln w="381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Rectangle 26"/>
            <p:cNvSpPr/>
            <p:nvPr/>
          </p:nvSpPr>
          <p:spPr>
            <a:xfrm>
              <a:off x="7133040" y="2649600"/>
              <a:ext cx="823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AAAAAAA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Rectangle 27"/>
            <p:cNvSpPr/>
            <p:nvPr/>
          </p:nvSpPr>
          <p:spPr>
            <a:xfrm>
              <a:off x="2640240" y="2665440"/>
              <a:ext cx="1396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ARNm maduro: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Rectangle 29"/>
            <p:cNvSpPr/>
            <p:nvPr/>
          </p:nvSpPr>
          <p:spPr>
            <a:xfrm>
              <a:off x="7351560" y="243684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poly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Rectangle 30"/>
            <p:cNvSpPr/>
            <p:nvPr/>
          </p:nvSpPr>
          <p:spPr>
            <a:xfrm>
              <a:off x="4435560" y="2637000"/>
              <a:ext cx="630000" cy="18864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Rectangle 31"/>
            <p:cNvSpPr/>
            <p:nvPr/>
          </p:nvSpPr>
          <p:spPr>
            <a:xfrm>
              <a:off x="5073480" y="2637000"/>
              <a:ext cx="1023840" cy="18864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Line 32"/>
            <p:cNvSpPr/>
            <p:nvPr/>
          </p:nvSpPr>
          <p:spPr>
            <a:xfrm>
              <a:off x="4144680" y="2733840"/>
              <a:ext cx="295200" cy="0"/>
            </a:xfrm>
            <a:prstGeom prst="line">
              <a:avLst/>
            </a:prstGeom>
            <a:ln w="381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Rectangle 33"/>
            <p:cNvSpPr/>
            <p:nvPr/>
          </p:nvSpPr>
          <p:spPr>
            <a:xfrm>
              <a:off x="4458600" y="2665440"/>
              <a:ext cx="28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U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Line 34"/>
            <p:cNvSpPr/>
            <p:nvPr/>
          </p:nvSpPr>
          <p:spPr>
            <a:xfrm>
              <a:off x="4336920" y="2073240"/>
              <a:ext cx="4572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Line 35"/>
            <p:cNvSpPr/>
            <p:nvPr/>
          </p:nvSpPr>
          <p:spPr>
            <a:xfrm>
              <a:off x="5619600" y="2073240"/>
              <a:ext cx="0" cy="44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Line 36"/>
            <p:cNvSpPr/>
            <p:nvPr/>
          </p:nvSpPr>
          <p:spPr>
            <a:xfrm flipH="1">
              <a:off x="6966000" y="2085840"/>
              <a:ext cx="40608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Rectangle 37"/>
            <p:cNvSpPr/>
            <p:nvPr/>
          </p:nvSpPr>
          <p:spPr>
            <a:xfrm>
              <a:off x="6114960" y="2637000"/>
              <a:ext cx="1023840" cy="1886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Text Box 38"/>
            <p:cNvSpPr/>
            <p:nvPr/>
          </p:nvSpPr>
          <p:spPr>
            <a:xfrm>
              <a:off x="6772320" y="2611440"/>
              <a:ext cx="4982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A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Rectangle 60"/>
            <p:cNvSpPr/>
            <p:nvPr/>
          </p:nvSpPr>
          <p:spPr>
            <a:xfrm>
              <a:off x="4014720" y="1790640"/>
              <a:ext cx="630000" cy="18864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Rectangle 61"/>
            <p:cNvSpPr/>
            <p:nvPr/>
          </p:nvSpPr>
          <p:spPr>
            <a:xfrm>
              <a:off x="4042800" y="1819080"/>
              <a:ext cx="28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AU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Rectangle 62"/>
            <p:cNvSpPr/>
            <p:nvPr/>
          </p:nvSpPr>
          <p:spPr>
            <a:xfrm>
              <a:off x="5081400" y="1790640"/>
              <a:ext cx="1023840" cy="18864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Rectangle 63"/>
            <p:cNvSpPr/>
            <p:nvPr/>
          </p:nvSpPr>
          <p:spPr>
            <a:xfrm>
              <a:off x="7139160" y="1790640"/>
              <a:ext cx="1023840" cy="1886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Rectangle 64"/>
            <p:cNvSpPr/>
            <p:nvPr/>
          </p:nvSpPr>
          <p:spPr>
            <a:xfrm>
              <a:off x="7912440" y="1819080"/>
              <a:ext cx="27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UA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1" name="Rectangle 28"/>
          <p:cNvSpPr/>
          <p:nvPr/>
        </p:nvSpPr>
        <p:spPr>
          <a:xfrm>
            <a:off x="4688640" y="2138400"/>
            <a:ext cx="2387160" cy="18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de-DE" sz="1200" spc="-1" strike="noStrike">
                <a:solidFill>
                  <a:srgbClr val="660033"/>
                </a:solidFill>
                <a:latin typeface="Arial"/>
              </a:rPr>
              <a:t>5‘CAP / Polyadenylation/Splic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2" name="Grupo 9"/>
          <p:cNvGrpSpPr/>
          <p:nvPr/>
        </p:nvGrpSpPr>
        <p:grpSpPr>
          <a:xfrm>
            <a:off x="1619280" y="2786040"/>
            <a:ext cx="7416720" cy="865080"/>
            <a:chOff x="1619280" y="2786040"/>
            <a:chExt cx="7416720" cy="865080"/>
          </a:xfrm>
        </p:grpSpPr>
        <p:sp>
          <p:nvSpPr>
            <p:cNvPr id="1553" name="Rectangle 66"/>
            <p:cNvSpPr/>
            <p:nvPr/>
          </p:nvSpPr>
          <p:spPr>
            <a:xfrm>
              <a:off x="1619280" y="3357360"/>
              <a:ext cx="7416720" cy="29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002060"/>
                  </a:solidFill>
                  <a:latin typeface="Arial"/>
                </a:rPr>
                <a:t>5’metGG</a:t>
              </a:r>
              <a:r>
                <a:rPr b="1" lang="en-US" sz="1600" spc="-1" strike="noStrike">
                  <a:solidFill>
                    <a:srgbClr val="ff6600"/>
                  </a:solidFill>
                  <a:latin typeface="Arial"/>
                </a:rPr>
                <a:t>AUG…….CAG</a:t>
              </a:r>
              <a:r>
                <a:rPr b="1" lang="en-US" sz="1600" spc="-1" strike="noStrike">
                  <a:solidFill>
                    <a:srgbClr val="00b050"/>
                  </a:solidFill>
                  <a:latin typeface="Arial"/>
                </a:rPr>
                <a:t>UGGAAA……..CUA</a:t>
              </a:r>
              <a:r>
                <a:rPr b="1" lang="en-US" sz="1600" spc="-1" strike="noStrike">
                  <a:solidFill>
                    <a:srgbClr val="cc66ff"/>
                  </a:solidFill>
                  <a:latin typeface="Arial"/>
                </a:rPr>
                <a:t>GUCGCC……..UAA</a:t>
              </a:r>
              <a:r>
                <a:rPr b="1" lang="en-US" sz="1600" spc="-1" strike="noStrike">
                  <a:solidFill>
                    <a:srgbClr val="002060"/>
                  </a:solidFill>
                  <a:latin typeface="Arial"/>
                </a:rPr>
                <a:t>AAAA…AAA-3</a:t>
              </a:r>
              <a:r>
                <a:rPr b="1" lang="en-US" sz="1800" spc="-1" strike="noStrike">
                  <a:solidFill>
                    <a:srgbClr val="262699"/>
                  </a:solidFill>
                  <a:latin typeface="Arial"/>
                </a:rPr>
                <a:t>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Conector recto 2"/>
            <p:cNvSpPr/>
            <p:nvPr/>
          </p:nvSpPr>
          <p:spPr>
            <a:xfrm flipH="1">
              <a:off x="1979280" y="2786040"/>
              <a:ext cx="234648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Conector recto 5"/>
            <p:cNvSpPr/>
            <p:nvPr/>
          </p:nvSpPr>
          <p:spPr>
            <a:xfrm>
              <a:off x="7945560" y="2877480"/>
              <a:ext cx="837360" cy="56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6" name="Rectangle 41"/>
          <p:cNvSpPr/>
          <p:nvPr/>
        </p:nvSpPr>
        <p:spPr>
          <a:xfrm>
            <a:off x="2637000" y="5907240"/>
            <a:ext cx="85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000" spc="-1" strike="noStrike">
                <a:solidFill>
                  <a:srgbClr val="004eff"/>
                </a:solidFill>
                <a:latin typeface="Arial"/>
              </a:rPr>
              <a:t>MCPLTW..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7" name="Rectangle 42"/>
          <p:cNvSpPr/>
          <p:nvPr/>
        </p:nvSpPr>
        <p:spPr>
          <a:xfrm>
            <a:off x="6635880" y="5907240"/>
            <a:ext cx="74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000" spc="-1" strike="noStrike">
                <a:solidFill>
                  <a:srgbClr val="004eff"/>
                </a:solidFill>
                <a:latin typeface="Arial"/>
              </a:rPr>
              <a:t>..............GF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8" name="Grupo 75"/>
          <p:cNvGrpSpPr/>
          <p:nvPr/>
        </p:nvGrpSpPr>
        <p:grpSpPr>
          <a:xfrm>
            <a:off x="2556000" y="5668920"/>
            <a:ext cx="4932360" cy="193680"/>
            <a:chOff x="2556000" y="5668920"/>
            <a:chExt cx="4932360" cy="193680"/>
          </a:xfrm>
        </p:grpSpPr>
        <p:sp>
          <p:nvSpPr>
            <p:cNvPr id="1559" name="Rectangle 43"/>
            <p:cNvSpPr/>
            <p:nvPr/>
          </p:nvSpPr>
          <p:spPr>
            <a:xfrm>
              <a:off x="5796360" y="5668920"/>
              <a:ext cx="1692000" cy="192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Rectangle 44"/>
            <p:cNvSpPr/>
            <p:nvPr/>
          </p:nvSpPr>
          <p:spPr>
            <a:xfrm>
              <a:off x="2556000" y="5668920"/>
              <a:ext cx="1404000" cy="1922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Rectangle 45"/>
            <p:cNvSpPr/>
            <p:nvPr/>
          </p:nvSpPr>
          <p:spPr>
            <a:xfrm>
              <a:off x="3924000" y="5668920"/>
              <a:ext cx="1908000" cy="1936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2" name="Rectangle 58"/>
          <p:cNvSpPr/>
          <p:nvPr/>
        </p:nvSpPr>
        <p:spPr>
          <a:xfrm>
            <a:off x="5364000" y="5548320"/>
            <a:ext cx="76320" cy="15228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3" name="Rectangle 59"/>
          <p:cNvSpPr/>
          <p:nvPr/>
        </p:nvSpPr>
        <p:spPr>
          <a:xfrm>
            <a:off x="5580000" y="5764320"/>
            <a:ext cx="76320" cy="1522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Rectangle 40"/>
          <p:cNvSpPr/>
          <p:nvPr/>
        </p:nvSpPr>
        <p:spPr>
          <a:xfrm>
            <a:off x="3703680" y="5516640"/>
            <a:ext cx="1679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Rectangle 58"/>
          <p:cNvSpPr/>
          <p:nvPr/>
        </p:nvSpPr>
        <p:spPr>
          <a:xfrm>
            <a:off x="3708360" y="5797440"/>
            <a:ext cx="76320" cy="152640"/>
          </a:xfrm>
          <a:prstGeom prst="rect">
            <a:avLst/>
          </a:prstGeom>
          <a:solidFill>
            <a:srgbClr val="00b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6" name="Grupo 11"/>
          <p:cNvGrpSpPr/>
          <p:nvPr/>
        </p:nvGrpSpPr>
        <p:grpSpPr>
          <a:xfrm>
            <a:off x="2556000" y="3716280"/>
            <a:ext cx="4932360" cy="1161000"/>
            <a:chOff x="2556000" y="3716280"/>
            <a:chExt cx="4932360" cy="1161000"/>
          </a:xfrm>
        </p:grpSpPr>
        <p:sp>
          <p:nvSpPr>
            <p:cNvPr id="1567" name="Rectangle 41"/>
            <p:cNvSpPr/>
            <p:nvPr/>
          </p:nvSpPr>
          <p:spPr>
            <a:xfrm>
              <a:off x="2637720" y="4724640"/>
              <a:ext cx="854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004eff"/>
                  </a:solidFill>
                  <a:latin typeface="Arial"/>
                </a:rPr>
                <a:t>MCPLTW....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Rectangle 42"/>
            <p:cNvSpPr/>
            <p:nvPr/>
          </p:nvSpPr>
          <p:spPr>
            <a:xfrm>
              <a:off x="6636240" y="4724640"/>
              <a:ext cx="745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004eff"/>
                  </a:solidFill>
                  <a:latin typeface="Arial"/>
                </a:rPr>
                <a:t>..............GF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69" name="Grupo 10"/>
            <p:cNvGrpSpPr/>
            <p:nvPr/>
          </p:nvGrpSpPr>
          <p:grpSpPr>
            <a:xfrm>
              <a:off x="2556000" y="4485240"/>
              <a:ext cx="4932360" cy="194760"/>
              <a:chOff x="2556000" y="4485240"/>
              <a:chExt cx="4932360" cy="194760"/>
            </a:xfrm>
          </p:grpSpPr>
          <p:sp>
            <p:nvSpPr>
              <p:cNvPr id="1570" name="Rectangle 43"/>
              <p:cNvSpPr/>
              <p:nvPr/>
            </p:nvSpPr>
            <p:spPr>
              <a:xfrm>
                <a:off x="5796360" y="4485240"/>
                <a:ext cx="1692000" cy="19332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1" name="Rectangle 44"/>
              <p:cNvSpPr/>
              <p:nvPr/>
            </p:nvSpPr>
            <p:spPr>
              <a:xfrm>
                <a:off x="2556000" y="4485240"/>
                <a:ext cx="1404000" cy="19332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2" name="Rectangle 45"/>
              <p:cNvSpPr/>
              <p:nvPr/>
            </p:nvSpPr>
            <p:spPr>
              <a:xfrm>
                <a:off x="3924000" y="4485240"/>
                <a:ext cx="1908000" cy="19476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73" name="Rectangle 40"/>
            <p:cNvSpPr/>
            <p:nvPr/>
          </p:nvSpPr>
          <p:spPr>
            <a:xfrm>
              <a:off x="3703680" y="4334040"/>
              <a:ext cx="16794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Line 46"/>
            <p:cNvSpPr/>
            <p:nvPr/>
          </p:nvSpPr>
          <p:spPr>
            <a:xfrm>
              <a:off x="5220360" y="3716280"/>
              <a:ext cx="0" cy="61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Rectangle 39"/>
            <p:cNvSpPr/>
            <p:nvPr/>
          </p:nvSpPr>
          <p:spPr>
            <a:xfrm>
              <a:off x="5435640" y="3860280"/>
              <a:ext cx="1641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2400" spc="-1" strike="noStrike">
                  <a:solidFill>
                    <a:srgbClr val="ff0000"/>
                  </a:solidFill>
                  <a:latin typeface="Arial"/>
                </a:rPr>
                <a:t>Traducció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6" name="Line 46"/>
          <p:cNvSpPr/>
          <p:nvPr/>
        </p:nvSpPr>
        <p:spPr>
          <a:xfrm>
            <a:off x="5219640" y="4898880"/>
            <a:ext cx="0" cy="617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Desformilación (eliminación de grupo formilo de la fMET inicial por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deformilasas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 en procariota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Glicosidación (adición de cadenas de oliosacáridos a las proteínas por acción de las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glucosil transferasas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Formación de puentes disulfuros -S-S- (entre grupos –SH de cisteínas dentro de la misma cadena o de cadenas diferentes por acción de 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proteín-disulfuro isomerasa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Fosfori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Arial"/>
              </a:rPr>
              <a:t>Aceti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92d050"/>
                </a:solidFill>
                <a:latin typeface="Arial"/>
              </a:rPr>
              <a:t>Meti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Modificaciones postraduccionales de las proteí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Modificaciones postraduc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0" name="Group 2"/>
          <p:cNvGrpSpPr/>
          <p:nvPr/>
        </p:nvGrpSpPr>
        <p:grpSpPr>
          <a:xfrm>
            <a:off x="852120" y="974880"/>
            <a:ext cx="3358440" cy="2337840"/>
            <a:chOff x="852120" y="974880"/>
            <a:chExt cx="3358440" cy="2337840"/>
          </a:xfrm>
        </p:grpSpPr>
        <p:pic>
          <p:nvPicPr>
            <p:cNvPr id="1581" name="Picture 3" descr=""/>
            <p:cNvPicPr/>
            <p:nvPr/>
          </p:nvPicPr>
          <p:blipFill>
            <a:blip r:embed="rId1"/>
            <a:stretch/>
          </p:blipFill>
          <p:spPr>
            <a:xfrm>
              <a:off x="1076040" y="1412640"/>
              <a:ext cx="2989440" cy="19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2" name="Text Box 4"/>
            <p:cNvSpPr/>
            <p:nvPr/>
          </p:nvSpPr>
          <p:spPr>
            <a:xfrm>
              <a:off x="852120" y="974880"/>
              <a:ext cx="335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Fosforilación-Defosforila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3" name="Group 5"/>
          <p:cNvGrpSpPr/>
          <p:nvPr/>
        </p:nvGrpSpPr>
        <p:grpSpPr>
          <a:xfrm>
            <a:off x="4848120" y="981000"/>
            <a:ext cx="3637080" cy="2373120"/>
            <a:chOff x="4848120" y="981000"/>
            <a:chExt cx="3637080" cy="2373120"/>
          </a:xfrm>
        </p:grpSpPr>
        <p:pic>
          <p:nvPicPr>
            <p:cNvPr id="1584" name="Picture 6" descr=""/>
            <p:cNvPicPr/>
            <p:nvPr/>
          </p:nvPicPr>
          <p:blipFill>
            <a:blip r:embed="rId2"/>
            <a:stretch/>
          </p:blipFill>
          <p:spPr>
            <a:xfrm>
              <a:off x="4848120" y="1412640"/>
              <a:ext cx="3637080" cy="19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5" name="Text Box 7"/>
            <p:cNvSpPr/>
            <p:nvPr/>
          </p:nvSpPr>
          <p:spPr>
            <a:xfrm>
              <a:off x="5906160" y="98100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Acetila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6" name="Group 8"/>
          <p:cNvGrpSpPr/>
          <p:nvPr/>
        </p:nvGrpSpPr>
        <p:grpSpPr>
          <a:xfrm>
            <a:off x="465120" y="3573360"/>
            <a:ext cx="4021200" cy="2550960"/>
            <a:chOff x="465120" y="3573360"/>
            <a:chExt cx="4021200" cy="2550960"/>
          </a:xfrm>
        </p:grpSpPr>
        <p:pic>
          <p:nvPicPr>
            <p:cNvPr id="1587" name="Picture 9" descr=""/>
            <p:cNvPicPr/>
            <p:nvPr/>
          </p:nvPicPr>
          <p:blipFill>
            <a:blip r:embed="rId3"/>
            <a:stretch/>
          </p:blipFill>
          <p:spPr>
            <a:xfrm>
              <a:off x="465120" y="3938400"/>
              <a:ext cx="4021200" cy="21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8" name="Text Box 10"/>
            <p:cNvSpPr/>
            <p:nvPr/>
          </p:nvSpPr>
          <p:spPr>
            <a:xfrm>
              <a:off x="1476720" y="3573360"/>
              <a:ext cx="16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Carboxila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9" name="Group 11"/>
          <p:cNvGrpSpPr/>
          <p:nvPr/>
        </p:nvGrpSpPr>
        <p:grpSpPr>
          <a:xfrm>
            <a:off x="4648320" y="3573360"/>
            <a:ext cx="4037040" cy="2517480"/>
            <a:chOff x="4648320" y="3573360"/>
            <a:chExt cx="4037040" cy="2517480"/>
          </a:xfrm>
        </p:grpSpPr>
        <p:pic>
          <p:nvPicPr>
            <p:cNvPr id="1590" name="Picture 12" descr=""/>
            <p:cNvPicPr/>
            <p:nvPr/>
          </p:nvPicPr>
          <p:blipFill>
            <a:blip r:embed="rId4"/>
            <a:stretch/>
          </p:blipFill>
          <p:spPr>
            <a:xfrm>
              <a:off x="4648320" y="3971520"/>
              <a:ext cx="403704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1" name="Text Box 13"/>
            <p:cNvSpPr/>
            <p:nvPr/>
          </p:nvSpPr>
          <p:spPr>
            <a:xfrm>
              <a:off x="6078600" y="3573360"/>
              <a:ext cx="129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Metila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8" dur="20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Acidos nucleicos: Estructura del 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NA-comparedto-DNA_thymineAndUracilCorrected"/>
          <p:cNvPicPr/>
          <p:nvPr/>
        </p:nvPicPr>
        <p:blipFill>
          <a:blip r:embed="rId1">
            <a:lum contrast="96000"/>
          </a:blip>
          <a:stretch/>
        </p:blipFill>
        <p:spPr>
          <a:xfrm>
            <a:off x="2057400" y="1268280"/>
            <a:ext cx="4890960" cy="496440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  <p:sp>
        <p:nvSpPr>
          <p:cNvPr id="109" name="Rectángulo 1"/>
          <p:cNvSpPr/>
          <p:nvPr/>
        </p:nvSpPr>
        <p:spPr>
          <a:xfrm>
            <a:off x="1908000" y="1125360"/>
            <a:ext cx="2448000" cy="5399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2" name="Picture 1" descr=""/>
          <p:cNvPicPr/>
          <p:nvPr/>
        </p:nvPicPr>
        <p:blipFill>
          <a:blip r:embed="rId1"/>
          <a:stretch/>
        </p:blipFill>
        <p:spPr>
          <a:xfrm>
            <a:off x="1330200" y="549360"/>
            <a:ext cx="6697800" cy="562140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  <p:sp>
        <p:nvSpPr>
          <p:cNvPr id="1593" name="CuadroTexto 1"/>
          <p:cNvSpPr/>
          <p:nvPr/>
        </p:nvSpPr>
        <p:spPr>
          <a:xfrm>
            <a:off x="582840" y="1116000"/>
            <a:ext cx="456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4" name="Elipse 1"/>
          <p:cNvSpPr/>
          <p:nvPr/>
        </p:nvSpPr>
        <p:spPr>
          <a:xfrm>
            <a:off x="3276720" y="1413000"/>
            <a:ext cx="309564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Text Box 1"/>
          <p:cNvSpPr/>
          <p:nvPr/>
        </p:nvSpPr>
        <p:spPr>
          <a:xfrm>
            <a:off x="684360" y="333360"/>
            <a:ext cx="77752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Regulación transcripcional en eucariota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6" name="Group 2"/>
          <p:cNvGrpSpPr/>
          <p:nvPr/>
        </p:nvGrpSpPr>
        <p:grpSpPr>
          <a:xfrm>
            <a:off x="1042920" y="404640"/>
            <a:ext cx="7270560" cy="2263680"/>
            <a:chOff x="1042920" y="404640"/>
            <a:chExt cx="7270560" cy="2263680"/>
          </a:xfrm>
        </p:grpSpPr>
        <p:grpSp>
          <p:nvGrpSpPr>
            <p:cNvPr id="1597" name="Group 3"/>
            <p:cNvGrpSpPr/>
            <p:nvPr/>
          </p:nvGrpSpPr>
          <p:grpSpPr>
            <a:xfrm>
              <a:off x="1042920" y="404640"/>
              <a:ext cx="7269480" cy="2263680"/>
              <a:chOff x="1042920" y="404640"/>
              <a:chExt cx="7269480" cy="2263680"/>
            </a:xfrm>
          </p:grpSpPr>
          <p:grpSp>
            <p:nvGrpSpPr>
              <p:cNvPr id="1598" name="Group 4"/>
              <p:cNvGrpSpPr/>
              <p:nvPr/>
            </p:nvGrpSpPr>
            <p:grpSpPr>
              <a:xfrm>
                <a:off x="1042920" y="811080"/>
                <a:ext cx="7269480" cy="1857240"/>
                <a:chOff x="1042920" y="811080"/>
                <a:chExt cx="7269480" cy="1857240"/>
              </a:xfrm>
            </p:grpSpPr>
            <p:sp>
              <p:nvSpPr>
                <p:cNvPr id="1599" name="Line 5"/>
                <p:cNvSpPr/>
                <p:nvPr/>
              </p:nvSpPr>
              <p:spPr>
                <a:xfrm>
                  <a:off x="1042920" y="1505880"/>
                  <a:ext cx="7269480" cy="1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0" name="Text Box 6"/>
                <p:cNvSpPr/>
                <p:nvPr/>
              </p:nvSpPr>
              <p:spPr>
                <a:xfrm>
                  <a:off x="1595160" y="1332720"/>
                  <a:ext cx="2300760" cy="348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GC    CAAT          TATA        Inr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1" name="Text Box 7"/>
                <p:cNvSpPr/>
                <p:nvPr/>
              </p:nvSpPr>
              <p:spPr>
                <a:xfrm>
                  <a:off x="4172040" y="1332720"/>
                  <a:ext cx="736200" cy="348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xon 1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2" name="Text Box 8"/>
                <p:cNvSpPr/>
                <p:nvPr/>
              </p:nvSpPr>
              <p:spPr>
                <a:xfrm>
                  <a:off x="5459040" y="1332720"/>
                  <a:ext cx="736560" cy="348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xon 2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3" name="Text Box 9"/>
                <p:cNvSpPr/>
                <p:nvPr/>
              </p:nvSpPr>
              <p:spPr>
                <a:xfrm>
                  <a:off x="6931800" y="1332720"/>
                  <a:ext cx="736200" cy="348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xon 3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4" name="Text Box 10"/>
                <p:cNvSpPr/>
                <p:nvPr/>
              </p:nvSpPr>
              <p:spPr>
                <a:xfrm>
                  <a:off x="2423520" y="811080"/>
                  <a:ext cx="73620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romotor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5" name="Text Box 11"/>
                <p:cNvSpPr/>
                <p:nvPr/>
              </p:nvSpPr>
              <p:spPr>
                <a:xfrm>
                  <a:off x="4078440" y="811080"/>
                  <a:ext cx="36792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tg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6" name="Line 12"/>
                <p:cNvSpPr/>
                <p:nvPr/>
              </p:nvSpPr>
              <p:spPr>
                <a:xfrm>
                  <a:off x="4172040" y="985320"/>
                  <a:ext cx="1440" cy="347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07" name="Group 13"/>
                <p:cNvGrpSpPr/>
                <p:nvPr/>
              </p:nvGrpSpPr>
              <p:grpSpPr>
                <a:xfrm>
                  <a:off x="4172040" y="1681920"/>
                  <a:ext cx="274320" cy="345600"/>
                  <a:chOff x="4172040" y="1681920"/>
                  <a:chExt cx="274320" cy="345600"/>
                </a:xfrm>
              </p:grpSpPr>
              <p:sp>
                <p:nvSpPr>
                  <p:cNvPr id="1608" name="Line 14"/>
                  <p:cNvSpPr/>
                  <p:nvPr/>
                </p:nvSpPr>
                <p:spPr>
                  <a:xfrm>
                    <a:off x="4172040" y="1681920"/>
                    <a:ext cx="1440" cy="344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9" name="Line 15"/>
                  <p:cNvSpPr/>
                  <p:nvPr/>
                </p:nvSpPr>
                <p:spPr>
                  <a:xfrm>
                    <a:off x="4172040" y="2026440"/>
                    <a:ext cx="27432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0" name="Text Box 16"/>
                <p:cNvSpPr/>
                <p:nvPr/>
              </p:nvSpPr>
              <p:spPr>
                <a:xfrm>
                  <a:off x="4172040" y="2029320"/>
                  <a:ext cx="367920" cy="34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+1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1" name="Text Box 17"/>
                <p:cNvSpPr/>
                <p:nvPr/>
              </p:nvSpPr>
              <p:spPr>
                <a:xfrm>
                  <a:off x="5551200" y="2029320"/>
                  <a:ext cx="644400" cy="34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trones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2" name="Line 18"/>
                <p:cNvSpPr/>
                <p:nvPr/>
              </p:nvSpPr>
              <p:spPr>
                <a:xfrm flipH="1" flipV="1">
                  <a:off x="5181120" y="1505520"/>
                  <a:ext cx="279000" cy="524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3" name="Line 19"/>
                <p:cNvSpPr/>
                <p:nvPr/>
              </p:nvSpPr>
              <p:spPr>
                <a:xfrm flipV="1">
                  <a:off x="6195600" y="1505520"/>
                  <a:ext cx="275760" cy="524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4" name="Text Box 20"/>
                <p:cNvSpPr/>
                <p:nvPr/>
              </p:nvSpPr>
              <p:spPr>
                <a:xfrm>
                  <a:off x="1779120" y="2029320"/>
                  <a:ext cx="1380600" cy="34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itios reguladores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5" name="Line 21"/>
                <p:cNvSpPr/>
                <p:nvPr/>
              </p:nvSpPr>
              <p:spPr>
                <a:xfrm flipH="1" flipV="1">
                  <a:off x="1777320" y="1680120"/>
                  <a:ext cx="186840" cy="350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6" name="Line 22"/>
                <p:cNvSpPr/>
                <p:nvPr/>
              </p:nvSpPr>
              <p:spPr>
                <a:xfrm flipV="1">
                  <a:off x="2331360" y="1680120"/>
                  <a:ext cx="1080" cy="350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7" name="Line 23"/>
                <p:cNvSpPr/>
                <p:nvPr/>
              </p:nvSpPr>
              <p:spPr>
                <a:xfrm flipV="1">
                  <a:off x="2975400" y="1680120"/>
                  <a:ext cx="91800" cy="350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8" name="Text Box 24"/>
                <p:cNvSpPr/>
                <p:nvPr/>
              </p:nvSpPr>
              <p:spPr>
                <a:xfrm>
                  <a:off x="3251880" y="2029320"/>
                  <a:ext cx="8280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gión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iciadora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9" name="Line 25"/>
                <p:cNvSpPr/>
                <p:nvPr/>
              </p:nvSpPr>
              <p:spPr>
                <a:xfrm flipV="1">
                  <a:off x="3710520" y="1680120"/>
                  <a:ext cx="1080" cy="350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0" name="AutoShape 26"/>
                <p:cNvSpPr/>
                <p:nvPr/>
              </p:nvSpPr>
              <p:spPr>
                <a:xfrm rot="5400000">
                  <a:off x="2657880" y="96840"/>
                  <a:ext cx="174240" cy="2300760"/>
                </a:xfrm>
                <a:custGeom>
                  <a:avLst/>
                  <a:gdLst>
                    <a:gd name="textAreaLeft" fmla="*/ 111240 w 174240"/>
                    <a:gd name="textAreaRight" fmla="*/ 174600 w 174240"/>
                    <a:gd name="textAreaTop" fmla="*/ 59760 h 2300760"/>
                    <a:gd name="textAreaBottom" fmla="*/ 2241000 h 2300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450"/>
                      </a:lnTo>
                      <a:cubicBezTo>
                        <a:pt x="10800" y="10350"/>
                        <a:pt x="5400" y="11250"/>
                        <a:pt x="0" y="11250"/>
                      </a:cubicBezTo>
                      <a:cubicBezTo>
                        <a:pt x="5400" y="11250"/>
                        <a:pt x="10800" y="12150"/>
                        <a:pt x="10800" y="1305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1" name="Text Box 27"/>
              <p:cNvSpPr/>
              <p:nvPr/>
            </p:nvSpPr>
            <p:spPr>
              <a:xfrm>
                <a:off x="1042920" y="404640"/>
                <a:ext cx="36792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22" name="Text Box 28"/>
            <p:cNvSpPr/>
            <p:nvPr/>
          </p:nvSpPr>
          <p:spPr>
            <a:xfrm>
              <a:off x="1042920" y="1641600"/>
              <a:ext cx="2757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’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Text Box 29"/>
            <p:cNvSpPr/>
            <p:nvPr/>
          </p:nvSpPr>
          <p:spPr>
            <a:xfrm>
              <a:off x="8037720" y="1641600"/>
              <a:ext cx="2757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’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24" name="Picture 30" descr=""/>
          <p:cNvPicPr/>
          <p:nvPr/>
        </p:nvPicPr>
        <p:blipFill>
          <a:blip r:embed="rId1"/>
          <a:stretch/>
        </p:blipFill>
        <p:spPr>
          <a:xfrm>
            <a:off x="2000160" y="2481120"/>
            <a:ext cx="5143680" cy="397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Regulación transcripcional en procariotas.</a:t>
            </a:r>
            <a:br>
              <a:rPr sz="2800"/>
            </a:br>
            <a:r>
              <a:rPr b="1" lang="en-US" sz="2800" spc="-1" strike="noStrike">
                <a:solidFill>
                  <a:srgbClr val="262699"/>
                </a:solidFill>
                <a:latin typeface="Arial"/>
              </a:rPr>
              <a:t>Operón L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6" name="Picture 2" descr=""/>
          <p:cNvPicPr/>
          <p:nvPr/>
        </p:nvPicPr>
        <p:blipFill>
          <a:blip r:embed="rId1"/>
          <a:srcRect l="0" t="60445" r="0" b="0"/>
          <a:stretch/>
        </p:blipFill>
        <p:spPr>
          <a:xfrm>
            <a:off x="993600" y="2484360"/>
            <a:ext cx="7201080" cy="1790640"/>
          </a:xfrm>
          <a:prstGeom prst="rect">
            <a:avLst/>
          </a:prstGeom>
          <a:ln w="0">
            <a:noFill/>
          </a:ln>
        </p:spPr>
      </p:pic>
      <p:sp>
        <p:nvSpPr>
          <p:cNvPr id="1627" name="CuadroTexto 1"/>
          <p:cNvSpPr/>
          <p:nvPr/>
        </p:nvSpPr>
        <p:spPr>
          <a:xfrm>
            <a:off x="611280" y="126828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1800" spc="-1" strike="noStrike">
                <a:solidFill>
                  <a:srgbClr val="262699"/>
                </a:solidFill>
                <a:latin typeface="Arial"/>
              </a:rPr>
              <a:t>El operón lac es una unidad de transcripción que codifica proteínas  (enzimas) requeridas para el </a:t>
            </a: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transporte y metabolismo de la lactosa </a:t>
            </a:r>
            <a:r>
              <a:rPr b="1" lang="es-AR" sz="1800" spc="-1" strike="noStrike">
                <a:solidFill>
                  <a:srgbClr val="262699"/>
                </a:solidFill>
                <a:latin typeface="Arial"/>
              </a:rPr>
              <a:t>en la bacteria </a:t>
            </a: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Escherichia coli</a:t>
            </a:r>
            <a:r>
              <a:rPr b="1" lang="es-AR" sz="1800" spc="-1" strike="noStrike">
                <a:solidFill>
                  <a:srgbClr val="262699"/>
                </a:solidFill>
                <a:latin typeface="Arial"/>
              </a:rPr>
              <a:t>, así como en algunas otras bacterias entérica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8" name="Picture 2" descr=""/>
          <p:cNvPicPr/>
          <p:nvPr/>
        </p:nvPicPr>
        <p:blipFill>
          <a:blip r:embed="rId2"/>
          <a:srcRect l="0" t="14116" r="0" b="42928"/>
          <a:stretch/>
        </p:blipFill>
        <p:spPr>
          <a:xfrm>
            <a:off x="900000" y="4292640"/>
            <a:ext cx="720108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Regulación del operón l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0" name="Group 8"/>
          <p:cNvGrpSpPr/>
          <p:nvPr/>
        </p:nvGrpSpPr>
        <p:grpSpPr>
          <a:xfrm>
            <a:off x="461880" y="1647720"/>
            <a:ext cx="4038840" cy="4157640"/>
            <a:chOff x="461880" y="1647720"/>
            <a:chExt cx="4038840" cy="4157640"/>
          </a:xfrm>
        </p:grpSpPr>
        <p:pic>
          <p:nvPicPr>
            <p:cNvPr id="1631" name="Picture 2" descr=""/>
            <p:cNvPicPr/>
            <p:nvPr/>
          </p:nvPicPr>
          <p:blipFill>
            <a:blip r:embed="rId1"/>
            <a:stretch/>
          </p:blipFill>
          <p:spPr>
            <a:xfrm>
              <a:off x="461880" y="2104920"/>
              <a:ext cx="4038840" cy="3700440"/>
            </a:xfrm>
            <a:prstGeom prst="rect">
              <a:avLst/>
            </a:prstGeom>
            <a:ln w="25560">
              <a:solidFill>
                <a:srgbClr val="333399"/>
              </a:solidFill>
              <a:miter/>
            </a:ln>
          </p:spPr>
        </p:pic>
        <p:sp>
          <p:nvSpPr>
            <p:cNvPr id="1632" name="Text Box 4"/>
            <p:cNvSpPr/>
            <p:nvPr/>
          </p:nvSpPr>
          <p:spPr>
            <a:xfrm>
              <a:off x="1117440" y="1647720"/>
              <a:ext cx="27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 ausencia de Lacto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3" name="Group 7"/>
          <p:cNvGrpSpPr/>
          <p:nvPr/>
        </p:nvGrpSpPr>
        <p:grpSpPr>
          <a:xfrm>
            <a:off x="4716360" y="1628640"/>
            <a:ext cx="3899160" cy="4176720"/>
            <a:chOff x="4716360" y="1628640"/>
            <a:chExt cx="3899160" cy="4176720"/>
          </a:xfrm>
        </p:grpSpPr>
        <p:pic>
          <p:nvPicPr>
            <p:cNvPr id="1634" name="Picture 3" descr=""/>
            <p:cNvPicPr/>
            <p:nvPr/>
          </p:nvPicPr>
          <p:blipFill>
            <a:blip r:embed="rId2"/>
            <a:stretch/>
          </p:blipFill>
          <p:spPr>
            <a:xfrm>
              <a:off x="4716360" y="2093760"/>
              <a:ext cx="3899160" cy="3711600"/>
            </a:xfrm>
            <a:prstGeom prst="rect">
              <a:avLst/>
            </a:prstGeom>
            <a:ln w="25560">
              <a:solidFill>
                <a:srgbClr val="333399"/>
              </a:solidFill>
              <a:miter/>
            </a:ln>
          </p:spPr>
        </p:pic>
        <p:sp>
          <p:nvSpPr>
            <p:cNvPr id="1635" name="Text Box 5"/>
            <p:cNvSpPr/>
            <p:nvPr/>
          </p:nvSpPr>
          <p:spPr>
            <a:xfrm>
              <a:off x="5254200" y="1628640"/>
              <a:ext cx="285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En presencia de Lacto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Tipos de ARN y características específ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2417400" y="1638360"/>
            <a:ext cx="7340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3924720" y="238428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ARN ribosom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3854160" y="1771560"/>
            <a:ext cx="24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ARN transferen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3924360" y="1231920"/>
            <a:ext cx="207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RN mensaje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11"/>
          <p:cNvSpPr/>
          <p:nvPr/>
        </p:nvSpPr>
        <p:spPr>
          <a:xfrm flipV="1">
            <a:off x="3301920" y="1447920"/>
            <a:ext cx="576360" cy="28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3301920" y="195264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3301920" y="2097000"/>
            <a:ext cx="576360" cy="50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187280" y="3357720"/>
          <a:ext cx="6769440" cy="2554200"/>
        </p:xfrm>
        <a:graphic>
          <a:graphicData uri="http://schemas.openxmlformats.org/drawingml/2006/table">
            <a:tbl>
              <a:tblPr/>
              <a:tblGrid>
                <a:gridCol w="2320920"/>
                <a:gridCol w="2743200"/>
                <a:gridCol w="1705320"/>
              </a:tblGrid>
              <a:tr h="473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po de AR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acterísticas estructural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un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ARN mensajero (mARN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Transcripto primario.                 Cola poli-A 3’.                      Caperuza de 7-metil guanosina 5’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Molde para síntesis de proteín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ARN transferencial (tARN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Un tARN específico para c/aa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Extremo 3’: CC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Transporte de aa en la síntesis de proteína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ARN ribosomal (rARN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Se asocia con proteínas.                 3 tamaños diferentes en procariotas y 4 en eucariota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Componente estructural de ribosoma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 u="sng">
                <a:solidFill>
                  <a:srgbClr val="0066ff"/>
                </a:solidFill>
                <a:uFillTx/>
                <a:latin typeface="Arial"/>
              </a:rPr>
              <a:t>Tipos de ARN: ribosomal, transferencial y mensaj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11"/>
          <p:cNvGrpSpPr/>
          <p:nvPr/>
        </p:nvGrpSpPr>
        <p:grpSpPr>
          <a:xfrm>
            <a:off x="218520" y="907920"/>
            <a:ext cx="3258000" cy="2843280"/>
            <a:chOff x="218520" y="907920"/>
            <a:chExt cx="3258000" cy="2843280"/>
          </a:xfrm>
        </p:grpSpPr>
        <p:pic>
          <p:nvPicPr>
            <p:cNvPr id="121" name="Picture 6" descr=""/>
            <p:cNvPicPr/>
            <p:nvPr/>
          </p:nvPicPr>
          <p:blipFill>
            <a:blip r:embed="rId1"/>
            <a:stretch/>
          </p:blipFill>
          <p:spPr>
            <a:xfrm>
              <a:off x="235080" y="1319400"/>
              <a:ext cx="3241440" cy="2431800"/>
            </a:xfrm>
            <a:prstGeom prst="rect">
              <a:avLst/>
            </a:prstGeom>
            <a:ln w="25560">
              <a:solidFill>
                <a:srgbClr val="0000ff"/>
              </a:solidFill>
              <a:miter/>
            </a:ln>
          </p:spPr>
        </p:pic>
        <p:sp>
          <p:nvSpPr>
            <p:cNvPr id="122" name="Text Box 8"/>
            <p:cNvSpPr/>
            <p:nvPr/>
          </p:nvSpPr>
          <p:spPr>
            <a:xfrm>
              <a:off x="218520" y="907920"/>
              <a:ext cx="76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1800" spc="-1" strike="noStrike">
                  <a:solidFill>
                    <a:srgbClr val="3333cc"/>
                  </a:solidFill>
                  <a:latin typeface="Arial"/>
                </a:rPr>
                <a:t>ARN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" name="Group 13"/>
          <p:cNvGrpSpPr/>
          <p:nvPr/>
        </p:nvGrpSpPr>
        <p:grpSpPr>
          <a:xfrm>
            <a:off x="6374880" y="907920"/>
            <a:ext cx="2518200" cy="4032360"/>
            <a:chOff x="6374880" y="907920"/>
            <a:chExt cx="2518200" cy="4032360"/>
          </a:xfrm>
        </p:grpSpPr>
        <p:pic>
          <p:nvPicPr>
            <p:cNvPr id="124" name="Picture 7" descr=""/>
            <p:cNvPicPr/>
            <p:nvPr/>
          </p:nvPicPr>
          <p:blipFill>
            <a:blip r:embed="rId2"/>
            <a:stretch/>
          </p:blipFill>
          <p:spPr>
            <a:xfrm>
              <a:off x="6386400" y="1339560"/>
              <a:ext cx="2506680" cy="3600720"/>
            </a:xfrm>
            <a:prstGeom prst="rect">
              <a:avLst/>
            </a:prstGeom>
            <a:ln w="25560">
              <a:solidFill>
                <a:srgbClr val="0000ff"/>
              </a:solidFill>
              <a:miter/>
            </a:ln>
          </p:spPr>
        </p:pic>
        <p:sp>
          <p:nvSpPr>
            <p:cNvPr id="125" name="Text Box 10"/>
            <p:cNvSpPr/>
            <p:nvPr/>
          </p:nvSpPr>
          <p:spPr>
            <a:xfrm>
              <a:off x="6374880" y="9079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1800" spc="-1" strike="noStrike">
                  <a:solidFill>
                    <a:srgbClr val="3333cc"/>
                  </a:solidFill>
                  <a:latin typeface="Arial"/>
                </a:rPr>
                <a:t>ARN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CuadroTexto 4"/>
          <p:cNvSpPr/>
          <p:nvPr/>
        </p:nvSpPr>
        <p:spPr>
          <a:xfrm>
            <a:off x="235080" y="3932280"/>
            <a:ext cx="32288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1400" spc="-1" strike="noStrike">
                <a:solidFill>
                  <a:srgbClr val="262699"/>
                </a:solidFill>
                <a:latin typeface="Arial"/>
              </a:rPr>
              <a:t>L: proteínas de la subunidad mayor (del inglés: </a:t>
            </a:r>
            <a:r>
              <a:rPr b="1" i="1" lang="es-AR" sz="1400" spc="-1" strike="noStrike">
                <a:solidFill>
                  <a:srgbClr val="262699"/>
                </a:solidFill>
                <a:latin typeface="Arial"/>
              </a:rPr>
              <a:t>Large</a:t>
            </a:r>
            <a:r>
              <a:rPr b="1" lang="es-AR" sz="1400" spc="-1" strike="noStrike">
                <a:solidFill>
                  <a:srgbClr val="262699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1400" spc="-1" strike="noStrike">
                <a:solidFill>
                  <a:srgbClr val="262699"/>
                </a:solidFill>
                <a:latin typeface="Arial"/>
              </a:rPr>
              <a:t>S: proteínas de la subunidad menor (del inglés: </a:t>
            </a:r>
            <a:r>
              <a:rPr b="1" i="1" lang="es-AR" sz="1400" spc="-1" strike="noStrike">
                <a:solidFill>
                  <a:srgbClr val="262699"/>
                </a:solidFill>
                <a:latin typeface="Arial"/>
              </a:rPr>
              <a:t>Small</a:t>
            </a:r>
            <a:r>
              <a:rPr b="1" lang="es-AR" sz="1400" spc="-1" strike="noStrike">
                <a:solidFill>
                  <a:srgbClr val="262699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1400" spc="-1" strike="noStrike">
                <a:solidFill>
                  <a:srgbClr val="ff0000"/>
                </a:solidFill>
                <a:latin typeface="Arial"/>
              </a:rPr>
              <a:t>S: unidades Svedberg, del coeficiente de sedimentación de la partícul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CuadroTexto 5"/>
          <p:cNvSpPr/>
          <p:nvPr/>
        </p:nvSpPr>
        <p:spPr>
          <a:xfrm flipV="1" rot="10800000">
            <a:off x="108000" y="6025320"/>
            <a:ext cx="8928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Theodor Svedberg, galardonado con el premio Nobel de Química en 1926. Gracias a su invención de la ultracentrífuga y a la metodología analítica, fue posible la separación de macromoléculas o partículas en las dispersiones coloidales y otros sistemas dispersos, así como la medición precisa del coeficiente de sedimentació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Grupo 7"/>
          <p:cNvGrpSpPr/>
          <p:nvPr/>
        </p:nvGrpSpPr>
        <p:grpSpPr>
          <a:xfrm>
            <a:off x="3602160" y="907920"/>
            <a:ext cx="2579400" cy="4032360"/>
            <a:chOff x="3602160" y="907920"/>
            <a:chExt cx="2579400" cy="4032360"/>
          </a:xfrm>
        </p:grpSpPr>
        <p:grpSp>
          <p:nvGrpSpPr>
            <p:cNvPr id="129" name="Group 12"/>
            <p:cNvGrpSpPr/>
            <p:nvPr/>
          </p:nvGrpSpPr>
          <p:grpSpPr>
            <a:xfrm>
              <a:off x="3602160" y="907920"/>
              <a:ext cx="2579400" cy="4032360"/>
              <a:chOff x="3602160" y="907920"/>
              <a:chExt cx="2579400" cy="4032360"/>
            </a:xfrm>
          </p:grpSpPr>
          <p:pic>
            <p:nvPicPr>
              <p:cNvPr id="130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3602160" y="1339560"/>
                <a:ext cx="2579400" cy="3600720"/>
              </a:xfrm>
              <a:prstGeom prst="rect">
                <a:avLst/>
              </a:prstGeom>
              <a:ln w="25560">
                <a:solidFill>
                  <a:srgbClr val="0000ff"/>
                </a:solidFill>
                <a:miter/>
              </a:ln>
            </p:spPr>
          </p:pic>
          <p:sp>
            <p:nvSpPr>
              <p:cNvPr id="131" name="Text Box 9"/>
              <p:cNvSpPr/>
              <p:nvPr/>
            </p:nvSpPr>
            <p:spPr>
              <a:xfrm>
                <a:off x="3604320" y="907920"/>
                <a:ext cx="750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1800" spc="-1" strike="noStrike">
                    <a:solidFill>
                      <a:srgbClr val="3333cc"/>
                    </a:solidFill>
                    <a:latin typeface="Arial"/>
                  </a:rPr>
                  <a:t>ARN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2" name="CuadroTexto 6"/>
            <p:cNvSpPr/>
            <p:nvPr/>
          </p:nvSpPr>
          <p:spPr>
            <a:xfrm>
              <a:off x="4786560" y="1999080"/>
              <a:ext cx="45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AR" sz="1200" spc="-1" strike="noStrike">
                  <a:solidFill>
                    <a:srgbClr val="000000"/>
                  </a:solidFill>
                  <a:latin typeface="Arial"/>
                </a:rPr>
                <a:t>5’ P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CuadroTexto 14"/>
            <p:cNvSpPr/>
            <p:nvPr/>
          </p:nvSpPr>
          <p:spPr>
            <a:xfrm>
              <a:off x="4067640" y="1555920"/>
              <a:ext cx="57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AR" sz="1200" spc="-1" strike="noStrike">
                  <a:solidFill>
                    <a:srgbClr val="000000"/>
                  </a:solidFill>
                  <a:latin typeface="Arial"/>
                </a:rPr>
                <a:t>3’ H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Estructura de un 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3" descr=""/>
          <p:cNvPicPr/>
          <p:nvPr/>
        </p:nvPicPr>
        <p:blipFill>
          <a:blip r:embed="rId1"/>
          <a:srcRect l="0" t="0" r="0" b="76842"/>
          <a:stretch/>
        </p:blipFill>
        <p:spPr>
          <a:xfrm>
            <a:off x="538200" y="2203560"/>
            <a:ext cx="8426520" cy="252072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42"/>
          <p:cNvGrpSpPr/>
          <p:nvPr/>
        </p:nvGrpSpPr>
        <p:grpSpPr>
          <a:xfrm>
            <a:off x="610920" y="1335240"/>
            <a:ext cx="7705800" cy="1014120"/>
            <a:chOff x="610920" y="1335240"/>
            <a:chExt cx="7705800" cy="1014120"/>
          </a:xfrm>
        </p:grpSpPr>
        <p:sp>
          <p:nvSpPr>
            <p:cNvPr id="137" name="AutoShape 36"/>
            <p:cNvSpPr/>
            <p:nvPr/>
          </p:nvSpPr>
          <p:spPr>
            <a:xfrm rot="5400000">
              <a:off x="4283640" y="-1683720"/>
              <a:ext cx="360360" cy="770580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200880 h 7705800"/>
                <a:gd name="textAreaBottom" fmla="*/ 7504920 h 770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Text Box 37"/>
            <p:cNvSpPr/>
            <p:nvPr/>
          </p:nvSpPr>
          <p:spPr>
            <a:xfrm>
              <a:off x="1403280" y="1335240"/>
              <a:ext cx="6553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1600" spc="-1" strike="noStrike" u="sng">
                  <a:solidFill>
                    <a:srgbClr val="ccccff"/>
                  </a:solidFill>
                  <a:uFillTx/>
                  <a:latin typeface="Arial"/>
                </a:rPr>
                <a:t>Gen</a:t>
              </a: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: fragmento de </a:t>
              </a:r>
              <a:r>
                <a:rPr b="1" lang="en-US" sz="1600" spc="-1" strike="noStrike" u="sng">
                  <a:solidFill>
                    <a:srgbClr val="ccccff"/>
                  </a:solidFill>
                  <a:uFillTx/>
                  <a:latin typeface="Arial"/>
                </a:rPr>
                <a:t>ADN</a:t>
              </a: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 que codifica la información necesaria para la síntesis de un compuesto biológico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Oval 38"/>
          <p:cNvSpPr/>
          <p:nvPr/>
        </p:nvSpPr>
        <p:spPr>
          <a:xfrm>
            <a:off x="971640" y="2781360"/>
            <a:ext cx="863640" cy="71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" name="Group 41"/>
          <p:cNvGrpSpPr/>
          <p:nvPr/>
        </p:nvGrpSpPr>
        <p:grpSpPr>
          <a:xfrm>
            <a:off x="2050920" y="3789000"/>
            <a:ext cx="5760720" cy="748080"/>
            <a:chOff x="2050920" y="3789000"/>
            <a:chExt cx="5760720" cy="748080"/>
          </a:xfrm>
        </p:grpSpPr>
        <p:sp>
          <p:nvSpPr>
            <p:cNvPr id="141" name="AutoShape 39"/>
            <p:cNvSpPr/>
            <p:nvPr/>
          </p:nvSpPr>
          <p:spPr>
            <a:xfrm rot="16200000">
              <a:off x="4750920" y="1088640"/>
              <a:ext cx="360360" cy="576072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150120 h 5760720"/>
                <a:gd name="textAreaBottom" fmla="*/ 5610600 h 576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55"/>
                  </a:lnTo>
                  <a:cubicBezTo>
                    <a:pt x="10800" y="9855"/>
                    <a:pt x="5400" y="10755"/>
                    <a:pt x="0" y="10755"/>
                  </a:cubicBezTo>
                  <a:cubicBezTo>
                    <a:pt x="5400" y="10755"/>
                    <a:pt x="10800" y="11655"/>
                    <a:pt x="10800" y="12555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Text Box 40"/>
            <p:cNvSpPr/>
            <p:nvPr/>
          </p:nvSpPr>
          <p:spPr>
            <a:xfrm>
              <a:off x="3616560" y="4168800"/>
              <a:ext cx="317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gión codificante del AR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Oval 43"/>
          <p:cNvSpPr/>
          <p:nvPr/>
        </p:nvSpPr>
        <p:spPr>
          <a:xfrm>
            <a:off x="7956720" y="2421000"/>
            <a:ext cx="1008000" cy="936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45"/>
          <p:cNvSpPr/>
          <p:nvPr/>
        </p:nvSpPr>
        <p:spPr>
          <a:xfrm>
            <a:off x="1116000" y="2349360"/>
            <a:ext cx="1079640" cy="719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Secuencia del gen de la beta-globina hum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rcRect l="0" t="22907" r="23464" b="12878"/>
          <a:stretch/>
        </p:blipFill>
        <p:spPr>
          <a:xfrm>
            <a:off x="2411280" y="765000"/>
            <a:ext cx="5400720" cy="5705640"/>
          </a:xfrm>
          <a:prstGeom prst="rect">
            <a:avLst/>
          </a:prstGeom>
          <a:ln w="0">
            <a:noFill/>
          </a:ln>
        </p:spPr>
      </p:pic>
      <p:sp>
        <p:nvSpPr>
          <p:cNvPr id="147" name="5 Rectángulo"/>
          <p:cNvSpPr/>
          <p:nvPr/>
        </p:nvSpPr>
        <p:spPr>
          <a:xfrm>
            <a:off x="2428920" y="1428840"/>
            <a:ext cx="44290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6 Rectángulo"/>
          <p:cNvSpPr/>
          <p:nvPr/>
        </p:nvSpPr>
        <p:spPr>
          <a:xfrm>
            <a:off x="2428920" y="1714680"/>
            <a:ext cx="435780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7 Rectángulo"/>
          <p:cNvSpPr/>
          <p:nvPr/>
        </p:nvSpPr>
        <p:spPr>
          <a:xfrm>
            <a:off x="2428920" y="2071800"/>
            <a:ext cx="44290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8 Rectángulo"/>
          <p:cNvSpPr/>
          <p:nvPr/>
        </p:nvSpPr>
        <p:spPr>
          <a:xfrm>
            <a:off x="2428920" y="2428920"/>
            <a:ext cx="44290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9 Rectángulo"/>
          <p:cNvSpPr/>
          <p:nvPr/>
        </p:nvSpPr>
        <p:spPr>
          <a:xfrm>
            <a:off x="2428920" y="2714760"/>
            <a:ext cx="44290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10 Rectángulo"/>
          <p:cNvSpPr/>
          <p:nvPr/>
        </p:nvSpPr>
        <p:spPr>
          <a:xfrm>
            <a:off x="2428920" y="3071880"/>
            <a:ext cx="44290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11 Rectángulo"/>
          <p:cNvSpPr/>
          <p:nvPr/>
        </p:nvSpPr>
        <p:spPr>
          <a:xfrm>
            <a:off x="2428920" y="5357880"/>
            <a:ext cx="44290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12 Rectángulo"/>
          <p:cNvSpPr/>
          <p:nvPr/>
        </p:nvSpPr>
        <p:spPr>
          <a:xfrm>
            <a:off x="2428920" y="5715000"/>
            <a:ext cx="44290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13 Rectángulo"/>
          <p:cNvSpPr/>
          <p:nvPr/>
        </p:nvSpPr>
        <p:spPr>
          <a:xfrm>
            <a:off x="2428920" y="6072120"/>
            <a:ext cx="85716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65"/>
          <p:cNvGrpSpPr/>
          <p:nvPr/>
        </p:nvGrpSpPr>
        <p:grpSpPr>
          <a:xfrm>
            <a:off x="684360" y="477720"/>
            <a:ext cx="8064360" cy="5904000"/>
            <a:chOff x="684360" y="477720"/>
            <a:chExt cx="8064360" cy="5904000"/>
          </a:xfrm>
        </p:grpSpPr>
        <p:grpSp>
          <p:nvGrpSpPr>
            <p:cNvPr id="157" name="Group 4"/>
            <p:cNvGrpSpPr/>
            <p:nvPr/>
          </p:nvGrpSpPr>
          <p:grpSpPr>
            <a:xfrm>
              <a:off x="684360" y="1341360"/>
              <a:ext cx="3580920" cy="4609800"/>
              <a:chOff x="684360" y="1341360"/>
              <a:chExt cx="3580920" cy="4609800"/>
            </a:xfrm>
          </p:grpSpPr>
          <p:grpSp>
            <p:nvGrpSpPr>
              <p:cNvPr id="158" name="Group 5"/>
              <p:cNvGrpSpPr/>
              <p:nvPr/>
            </p:nvGrpSpPr>
            <p:grpSpPr>
              <a:xfrm>
                <a:off x="684360" y="1455480"/>
                <a:ext cx="3504960" cy="456840"/>
                <a:chOff x="684360" y="1455480"/>
                <a:chExt cx="3504960" cy="456840"/>
              </a:xfrm>
            </p:grpSpPr>
            <p:grpSp>
              <p:nvGrpSpPr>
                <p:cNvPr id="159" name="Group 6"/>
                <p:cNvGrpSpPr/>
                <p:nvPr/>
              </p:nvGrpSpPr>
              <p:grpSpPr>
                <a:xfrm>
                  <a:off x="684360" y="1638360"/>
                  <a:ext cx="3504960" cy="273960"/>
                  <a:chOff x="684360" y="1638360"/>
                  <a:chExt cx="3504960" cy="273960"/>
                </a:xfrm>
              </p:grpSpPr>
              <p:grpSp>
                <p:nvGrpSpPr>
                  <p:cNvPr id="160" name="Group 7"/>
                  <p:cNvGrpSpPr/>
                  <p:nvPr/>
                </p:nvGrpSpPr>
                <p:grpSpPr>
                  <a:xfrm>
                    <a:off x="836640" y="1683720"/>
                    <a:ext cx="3200400" cy="72720"/>
                    <a:chOff x="836640" y="1683720"/>
                    <a:chExt cx="3200400" cy="72720"/>
                  </a:xfrm>
                </p:grpSpPr>
                <p:sp>
                  <p:nvSpPr>
                    <p:cNvPr id="161" name="Rectangle 8"/>
                    <p:cNvSpPr/>
                    <p:nvPr/>
                  </p:nvSpPr>
                  <p:spPr>
                    <a:xfrm>
                      <a:off x="836640" y="1683720"/>
                      <a:ext cx="3200400" cy="727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920" bIns="25920" anchor="t">
                      <a:norm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Rectangle 9"/>
                    <p:cNvSpPr/>
                    <p:nvPr/>
                  </p:nvSpPr>
                  <p:spPr>
                    <a:xfrm>
                      <a:off x="1751040" y="1683720"/>
                      <a:ext cx="731520" cy="72720"/>
                    </a:xfrm>
                    <a:prstGeom prst="rect">
                      <a:avLst/>
                    </a:prstGeom>
                    <a:blipFill rotWithShape="0">
                      <a:blip r:embed="rId1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920" bIns="25920" anchor="t">
                      <a:norm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" name="Group 10"/>
                  <p:cNvGrpSpPr/>
                  <p:nvPr/>
                </p:nvGrpSpPr>
                <p:grpSpPr>
                  <a:xfrm>
                    <a:off x="836640" y="1798200"/>
                    <a:ext cx="3200400" cy="72720"/>
                    <a:chOff x="836640" y="1798200"/>
                    <a:chExt cx="3200400" cy="72720"/>
                  </a:xfrm>
                </p:grpSpPr>
                <p:sp>
                  <p:nvSpPr>
                    <p:cNvPr id="164" name="Rectangle 11"/>
                    <p:cNvSpPr/>
                    <p:nvPr/>
                  </p:nvSpPr>
                  <p:spPr>
                    <a:xfrm>
                      <a:off x="836640" y="1798200"/>
                      <a:ext cx="3200400" cy="727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920" bIns="25920" anchor="t">
                      <a:norm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Rectangle 12"/>
                    <p:cNvSpPr/>
                    <p:nvPr/>
                  </p:nvSpPr>
                  <p:spPr>
                    <a:xfrm>
                      <a:off x="1751040" y="1798200"/>
                      <a:ext cx="731520" cy="72720"/>
                    </a:xfrm>
                    <a:prstGeom prst="rect">
                      <a:avLst/>
                    </a:prstGeom>
                    <a:blipFill rotWithShape="0">
                      <a:blip r:embed="rId2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920" bIns="25920" anchor="t">
                      <a:norm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6" name="Text Box 13"/>
                  <p:cNvSpPr/>
                  <p:nvPr/>
                </p:nvSpPr>
                <p:spPr>
                  <a:xfrm>
                    <a:off x="684360" y="1638360"/>
                    <a:ext cx="84960" cy="11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5’</a:t>
                    </a:r>
                    <a:endParaRPr b="0" lang="en-US" sz="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Text Box 14"/>
                  <p:cNvSpPr/>
                  <p:nvPr/>
                </p:nvSpPr>
                <p:spPr>
                  <a:xfrm>
                    <a:off x="4104360" y="1798200"/>
                    <a:ext cx="84960" cy="11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5’</a:t>
                    </a:r>
                    <a:endParaRPr b="0" lang="en-US" sz="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Text Box 15"/>
                  <p:cNvSpPr/>
                  <p:nvPr/>
                </p:nvSpPr>
                <p:spPr>
                  <a:xfrm>
                    <a:off x="4104360" y="1638360"/>
                    <a:ext cx="84960" cy="11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3’</a:t>
                    </a:r>
                    <a:endParaRPr b="0" lang="en-US" sz="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Text Box 16"/>
                  <p:cNvSpPr/>
                  <p:nvPr/>
                </p:nvSpPr>
                <p:spPr>
                  <a:xfrm>
                    <a:off x="684360" y="1798200"/>
                    <a:ext cx="84960" cy="11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3’</a:t>
                    </a:r>
                    <a:endParaRPr b="0" lang="en-US" sz="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0" name="AutoShape 17"/>
                <p:cNvSpPr/>
                <p:nvPr/>
              </p:nvSpPr>
              <p:spPr>
                <a:xfrm rot="5400000">
                  <a:off x="2055600" y="1264680"/>
                  <a:ext cx="75960" cy="685440"/>
                </a:xfrm>
                <a:custGeom>
                  <a:avLst/>
                  <a:gdLst>
                    <a:gd name="textAreaLeft" fmla="*/ 48600 w 75960"/>
                    <a:gd name="textAreaRight" fmla="*/ 76320 w 75960"/>
                    <a:gd name="textAreaTop" fmla="*/ 17640 h 685440"/>
                    <a:gd name="textAreaBottom" fmla="*/ 667800 h 685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Text Box 18"/>
                <p:cNvSpPr/>
                <p:nvPr/>
              </p:nvSpPr>
              <p:spPr>
                <a:xfrm>
                  <a:off x="1903320" y="1455480"/>
                  <a:ext cx="4176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romotor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Group 19"/>
              <p:cNvGrpSpPr/>
              <p:nvPr/>
            </p:nvGrpSpPr>
            <p:grpSpPr>
              <a:xfrm>
                <a:off x="988920" y="1341360"/>
                <a:ext cx="532800" cy="799920"/>
                <a:chOff x="988920" y="1341360"/>
                <a:chExt cx="532800" cy="799920"/>
              </a:xfrm>
            </p:grpSpPr>
            <p:sp>
              <p:nvSpPr>
                <p:cNvPr id="173" name="Oval 20"/>
                <p:cNvSpPr/>
                <p:nvPr/>
              </p:nvSpPr>
              <p:spPr>
                <a:xfrm>
                  <a:off x="988920" y="1341360"/>
                  <a:ext cx="380880" cy="799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7676"/>
                    </a:gs>
                    <a:gs pos="100000">
                      <a:srgbClr val="fffff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AutoShape 21"/>
                <p:cNvSpPr/>
                <p:nvPr/>
              </p:nvSpPr>
              <p:spPr>
                <a:xfrm>
                  <a:off x="1293480" y="1455480"/>
                  <a:ext cx="228240" cy="22824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67676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Text Box 22"/>
                <p:cNvSpPr/>
                <p:nvPr/>
              </p:nvSpPr>
              <p:spPr>
                <a:xfrm>
                  <a:off x="1370880" y="1477800"/>
                  <a:ext cx="75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GreekC"/>
                    </a:rPr>
                    <a:t>σ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Line 23"/>
              <p:cNvSpPr/>
              <p:nvPr/>
            </p:nvSpPr>
            <p:spPr>
              <a:xfrm flipV="1">
                <a:off x="1217520" y="2140920"/>
                <a:ext cx="7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Text Box 24"/>
              <p:cNvSpPr/>
              <p:nvPr/>
            </p:nvSpPr>
            <p:spPr>
              <a:xfrm>
                <a:off x="836640" y="2369880"/>
                <a:ext cx="883080" cy="22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RN polimerasa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8" name="Group 25"/>
              <p:cNvGrpSpPr/>
              <p:nvPr/>
            </p:nvGrpSpPr>
            <p:grpSpPr>
              <a:xfrm>
                <a:off x="684360" y="2895840"/>
                <a:ext cx="3504960" cy="273960"/>
                <a:chOff x="684360" y="2895840"/>
                <a:chExt cx="3504960" cy="273960"/>
              </a:xfrm>
            </p:grpSpPr>
            <p:grpSp>
              <p:nvGrpSpPr>
                <p:cNvPr id="179" name="Group 26"/>
                <p:cNvGrpSpPr/>
                <p:nvPr/>
              </p:nvGrpSpPr>
              <p:grpSpPr>
                <a:xfrm>
                  <a:off x="836640" y="2941200"/>
                  <a:ext cx="3200400" cy="72720"/>
                  <a:chOff x="836640" y="2941200"/>
                  <a:chExt cx="3200400" cy="72720"/>
                </a:xfrm>
              </p:grpSpPr>
              <p:sp>
                <p:nvSpPr>
                  <p:cNvPr id="180" name="Rectangle 27"/>
                  <p:cNvSpPr/>
                  <p:nvPr/>
                </p:nvSpPr>
                <p:spPr>
                  <a:xfrm>
                    <a:off x="836640" y="2941200"/>
                    <a:ext cx="3200400" cy="727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rm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Rectangle 28"/>
                  <p:cNvSpPr/>
                  <p:nvPr/>
                </p:nvSpPr>
                <p:spPr>
                  <a:xfrm>
                    <a:off x="1751040" y="2941200"/>
                    <a:ext cx="731520" cy="7272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rm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Group 29"/>
                <p:cNvGrpSpPr/>
                <p:nvPr/>
              </p:nvGrpSpPr>
              <p:grpSpPr>
                <a:xfrm>
                  <a:off x="836640" y="3055680"/>
                  <a:ext cx="3200400" cy="72720"/>
                  <a:chOff x="836640" y="3055680"/>
                  <a:chExt cx="3200400" cy="72720"/>
                </a:xfrm>
              </p:grpSpPr>
              <p:sp>
                <p:nvSpPr>
                  <p:cNvPr id="183" name="Rectangle 30"/>
                  <p:cNvSpPr/>
                  <p:nvPr/>
                </p:nvSpPr>
                <p:spPr>
                  <a:xfrm>
                    <a:off x="836640" y="3055680"/>
                    <a:ext cx="3200400" cy="727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rm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Rectangle 31"/>
                  <p:cNvSpPr/>
                  <p:nvPr/>
                </p:nvSpPr>
                <p:spPr>
                  <a:xfrm>
                    <a:off x="1751040" y="3055680"/>
                    <a:ext cx="731520" cy="7272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rm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" name="Text Box 32"/>
                <p:cNvSpPr/>
                <p:nvPr/>
              </p:nvSpPr>
              <p:spPr>
                <a:xfrm>
                  <a:off x="684360" y="2895840"/>
                  <a:ext cx="8496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’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Text Box 33"/>
                <p:cNvSpPr/>
                <p:nvPr/>
              </p:nvSpPr>
              <p:spPr>
                <a:xfrm>
                  <a:off x="4104360" y="3055680"/>
                  <a:ext cx="8496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’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Text Box 34"/>
                <p:cNvSpPr/>
                <p:nvPr/>
              </p:nvSpPr>
              <p:spPr>
                <a:xfrm>
                  <a:off x="4104360" y="2895840"/>
                  <a:ext cx="8496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’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Text Box 35"/>
                <p:cNvSpPr/>
                <p:nvPr/>
              </p:nvSpPr>
              <p:spPr>
                <a:xfrm>
                  <a:off x="684360" y="3055680"/>
                  <a:ext cx="8496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’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Line 36"/>
              <p:cNvSpPr/>
              <p:nvPr/>
            </p:nvSpPr>
            <p:spPr>
              <a:xfrm>
                <a:off x="1370160" y="1912680"/>
                <a:ext cx="45720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0" name="Group 37"/>
              <p:cNvGrpSpPr/>
              <p:nvPr/>
            </p:nvGrpSpPr>
            <p:grpSpPr>
              <a:xfrm>
                <a:off x="1903320" y="2598480"/>
                <a:ext cx="532800" cy="799920"/>
                <a:chOff x="1903320" y="2598480"/>
                <a:chExt cx="532800" cy="799920"/>
              </a:xfrm>
            </p:grpSpPr>
            <p:sp>
              <p:nvSpPr>
                <p:cNvPr id="191" name="Oval 38"/>
                <p:cNvSpPr/>
                <p:nvPr/>
              </p:nvSpPr>
              <p:spPr>
                <a:xfrm>
                  <a:off x="1903320" y="2598480"/>
                  <a:ext cx="380880" cy="799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7676"/>
                    </a:gs>
                    <a:gs pos="100000">
                      <a:srgbClr val="fffff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AutoShape 39"/>
                <p:cNvSpPr/>
                <p:nvPr/>
              </p:nvSpPr>
              <p:spPr>
                <a:xfrm>
                  <a:off x="2207880" y="2712600"/>
                  <a:ext cx="228240" cy="22824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67676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Text Box 40"/>
                <p:cNvSpPr/>
                <p:nvPr/>
              </p:nvSpPr>
              <p:spPr>
                <a:xfrm>
                  <a:off x="2285280" y="2734920"/>
                  <a:ext cx="75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GreekC"/>
                    </a:rPr>
                    <a:t>σ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" name="Group 41"/>
              <p:cNvGrpSpPr/>
              <p:nvPr/>
            </p:nvGrpSpPr>
            <p:grpSpPr>
              <a:xfrm>
                <a:off x="760320" y="3627360"/>
                <a:ext cx="3429000" cy="799920"/>
                <a:chOff x="760320" y="3627360"/>
                <a:chExt cx="3429000" cy="799920"/>
              </a:xfrm>
            </p:grpSpPr>
            <p:grpSp>
              <p:nvGrpSpPr>
                <p:cNvPr id="195" name="Group 42"/>
                <p:cNvGrpSpPr/>
                <p:nvPr/>
              </p:nvGrpSpPr>
              <p:grpSpPr>
                <a:xfrm>
                  <a:off x="760320" y="3741480"/>
                  <a:ext cx="3429000" cy="511920"/>
                  <a:chOff x="760320" y="3741480"/>
                  <a:chExt cx="3429000" cy="511920"/>
                </a:xfrm>
              </p:grpSpPr>
              <p:grpSp>
                <p:nvGrpSpPr>
                  <p:cNvPr id="196" name="Group 43"/>
                  <p:cNvGrpSpPr/>
                  <p:nvPr/>
                </p:nvGrpSpPr>
                <p:grpSpPr>
                  <a:xfrm>
                    <a:off x="881640" y="3906360"/>
                    <a:ext cx="822960" cy="186840"/>
                    <a:chOff x="881640" y="3906360"/>
                    <a:chExt cx="822960" cy="186840"/>
                  </a:xfrm>
                </p:grpSpPr>
                <p:sp>
                  <p:nvSpPr>
                    <p:cNvPr id="197" name="Rectangle 44"/>
                    <p:cNvSpPr/>
                    <p:nvPr/>
                  </p:nvSpPr>
                  <p:spPr>
                    <a:xfrm>
                      <a:off x="881640" y="3906360"/>
                      <a:ext cx="822960" cy="727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920" bIns="25920" anchor="t">
                      <a:norm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Rectangle 45"/>
                    <p:cNvSpPr/>
                    <p:nvPr/>
                  </p:nvSpPr>
                  <p:spPr>
                    <a:xfrm>
                      <a:off x="881640" y="4020480"/>
                      <a:ext cx="822960" cy="727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920" bIns="25920" anchor="t">
                      <a:norm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9" name="Text Box 46"/>
                  <p:cNvSpPr/>
                  <p:nvPr/>
                </p:nvSpPr>
                <p:spPr>
                  <a:xfrm>
                    <a:off x="760320" y="3860640"/>
                    <a:ext cx="152280" cy="159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rm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5’</a:t>
                    </a:r>
                    <a:endParaRPr b="0" lang="en-US" sz="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Text Box 47"/>
                  <p:cNvSpPr/>
                  <p:nvPr/>
                </p:nvSpPr>
                <p:spPr>
                  <a:xfrm>
                    <a:off x="760320" y="4020840"/>
                    <a:ext cx="15228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rm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3’</a:t>
                    </a:r>
                    <a:endParaRPr b="0" lang="en-US" sz="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AutoShape 48"/>
                  <p:cNvSpPr/>
                  <p:nvPr/>
                </p:nvSpPr>
                <p:spPr>
                  <a:xfrm>
                    <a:off x="1674720" y="3741480"/>
                    <a:ext cx="380880" cy="228240"/>
                  </a:xfrm>
                  <a:custGeom>
                    <a:avLst/>
                    <a:gdLst>
                      <a:gd name="textAreaLeft" fmla="*/ 218880 w 380880"/>
                      <a:gd name="textAreaRight" fmla="*/ 321480 w 380880"/>
                      <a:gd name="textAreaTop" fmla="*/ 30960 h 228240"/>
                      <a:gd name="textAreaBottom" fmla="*/ 97560 h 228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6079"/>
                        </a:moveTo>
                        <a:lnTo>
                          <a:pt x="15126" y="0"/>
                        </a:lnTo>
                        <a:lnTo>
                          <a:pt x="15126" y="2912"/>
                        </a:lnTo>
                        <a:lnTo>
                          <a:pt x="12427" y="2912"/>
                        </a:lnTo>
                        <a:cubicBezTo>
                          <a:pt x="5564" y="2912"/>
                          <a:pt x="0" y="7052"/>
                          <a:pt x="0" y="12158"/>
                        </a:cubicBezTo>
                        <a:lnTo>
                          <a:pt x="0" y="21600"/>
                        </a:lnTo>
                        <a:lnTo>
                          <a:pt x="6474" y="21600"/>
                        </a:lnTo>
                        <a:lnTo>
                          <a:pt x="6474" y="12158"/>
                        </a:lnTo>
                        <a:cubicBezTo>
                          <a:pt x="6474" y="10550"/>
                          <a:pt x="9139" y="9246"/>
                          <a:pt x="12427" y="9246"/>
                        </a:cubicBezTo>
                        <a:lnTo>
                          <a:pt x="15126" y="9246"/>
                        </a:lnTo>
                        <a:lnTo>
                          <a:pt x="15126" y="12158"/>
                        </a:lnTo>
                        <a:lnTo>
                          <a:pt x="21600" y="6079"/>
                        </a:lnTo>
                        <a:close/>
                      </a:path>
                    </a:pathLst>
                  </a:custGeom>
                  <a:blipFill rotWithShape="0">
                    <a:blip r:embed="rId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AutoShape 49"/>
                  <p:cNvSpPr/>
                  <p:nvPr/>
                </p:nvSpPr>
                <p:spPr>
                  <a:xfrm flipH="1" rot="10819200">
                    <a:off x="1674720" y="4019760"/>
                    <a:ext cx="380880" cy="228240"/>
                  </a:xfrm>
                  <a:custGeom>
                    <a:avLst/>
                    <a:gdLst>
                      <a:gd name="textAreaLeft" fmla="*/ 219240 w 380880"/>
                      <a:gd name="textAreaRight" fmla="*/ 321840 w 380880"/>
                      <a:gd name="textAreaTop" fmla="*/ 30960 h 228240"/>
                      <a:gd name="textAreaBottom" fmla="*/ 97560 h 228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6079"/>
                        </a:moveTo>
                        <a:lnTo>
                          <a:pt x="15126" y="0"/>
                        </a:lnTo>
                        <a:lnTo>
                          <a:pt x="15126" y="2912"/>
                        </a:lnTo>
                        <a:lnTo>
                          <a:pt x="12427" y="2912"/>
                        </a:lnTo>
                        <a:cubicBezTo>
                          <a:pt x="5564" y="2912"/>
                          <a:pt x="0" y="7052"/>
                          <a:pt x="0" y="12158"/>
                        </a:cubicBezTo>
                        <a:lnTo>
                          <a:pt x="0" y="21600"/>
                        </a:lnTo>
                        <a:lnTo>
                          <a:pt x="6474" y="21600"/>
                        </a:lnTo>
                        <a:lnTo>
                          <a:pt x="6474" y="12158"/>
                        </a:lnTo>
                        <a:cubicBezTo>
                          <a:pt x="6474" y="10550"/>
                          <a:pt x="9139" y="9246"/>
                          <a:pt x="12427" y="9246"/>
                        </a:cubicBezTo>
                        <a:lnTo>
                          <a:pt x="15126" y="9246"/>
                        </a:lnTo>
                        <a:lnTo>
                          <a:pt x="15126" y="12158"/>
                        </a:lnTo>
                        <a:lnTo>
                          <a:pt x="21600" y="6079"/>
                        </a:lnTo>
                        <a:close/>
                      </a:path>
                    </a:pathLst>
                  </a:custGeom>
                  <a:blipFill rotWithShape="0">
                    <a:blip r:embed="rId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3" name="Group 50"/>
                  <p:cNvGrpSpPr/>
                  <p:nvPr/>
                </p:nvGrpSpPr>
                <p:grpSpPr>
                  <a:xfrm>
                    <a:off x="2473560" y="3860640"/>
                    <a:ext cx="1715760" cy="274320"/>
                    <a:chOff x="2473560" y="3860640"/>
                    <a:chExt cx="1715760" cy="274320"/>
                  </a:xfrm>
                </p:grpSpPr>
                <p:sp>
                  <p:nvSpPr>
                    <p:cNvPr id="204" name="Text Box 51"/>
                    <p:cNvSpPr/>
                    <p:nvPr/>
                  </p:nvSpPr>
                  <p:spPr>
                    <a:xfrm>
                      <a:off x="4104360" y="4020840"/>
                      <a:ext cx="84960" cy="114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’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Text Box 52"/>
                    <p:cNvSpPr/>
                    <p:nvPr/>
                  </p:nvSpPr>
                  <p:spPr>
                    <a:xfrm>
                      <a:off x="4104360" y="3860640"/>
                      <a:ext cx="84960" cy="114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’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06" name="Group 53"/>
                    <p:cNvGrpSpPr/>
                    <p:nvPr/>
                  </p:nvGrpSpPr>
                  <p:grpSpPr>
                    <a:xfrm>
                      <a:off x="2473560" y="3906360"/>
                      <a:ext cx="1563480" cy="186840"/>
                      <a:chOff x="2473560" y="3906360"/>
                      <a:chExt cx="1563480" cy="186840"/>
                    </a:xfrm>
                  </p:grpSpPr>
                  <p:sp>
                    <p:nvSpPr>
                      <p:cNvPr id="207" name="Rectangle 54"/>
                      <p:cNvSpPr/>
                      <p:nvPr/>
                    </p:nvSpPr>
                    <p:spPr>
                      <a:xfrm>
                        <a:off x="2473560" y="3906360"/>
                        <a:ext cx="1563480" cy="7272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920" bIns="2592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8" name="Rectangle 55"/>
                      <p:cNvSpPr/>
                      <p:nvPr/>
                    </p:nvSpPr>
                    <p:spPr>
                      <a:xfrm>
                        <a:off x="2473560" y="4020480"/>
                        <a:ext cx="1563480" cy="7272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920" bIns="2592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209" name="AutoShape 56"/>
                  <p:cNvSpPr/>
                  <p:nvPr/>
                </p:nvSpPr>
                <p:spPr>
                  <a:xfrm flipH="1">
                    <a:off x="2131920" y="3741480"/>
                    <a:ext cx="380880" cy="228240"/>
                  </a:xfrm>
                  <a:custGeom>
                    <a:avLst/>
                    <a:gdLst>
                      <a:gd name="textAreaLeft" fmla="*/ 219240 w 380880"/>
                      <a:gd name="textAreaRight" fmla="*/ 321840 w 380880"/>
                      <a:gd name="textAreaTop" fmla="*/ 30960 h 228240"/>
                      <a:gd name="textAreaBottom" fmla="*/ 97560 h 228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6079"/>
                        </a:moveTo>
                        <a:lnTo>
                          <a:pt x="15126" y="0"/>
                        </a:lnTo>
                        <a:lnTo>
                          <a:pt x="15126" y="2912"/>
                        </a:lnTo>
                        <a:lnTo>
                          <a:pt x="12427" y="2912"/>
                        </a:lnTo>
                        <a:cubicBezTo>
                          <a:pt x="5564" y="2912"/>
                          <a:pt x="0" y="7052"/>
                          <a:pt x="0" y="12158"/>
                        </a:cubicBezTo>
                        <a:lnTo>
                          <a:pt x="0" y="21600"/>
                        </a:lnTo>
                        <a:lnTo>
                          <a:pt x="6474" y="21600"/>
                        </a:lnTo>
                        <a:lnTo>
                          <a:pt x="6474" y="12158"/>
                        </a:lnTo>
                        <a:cubicBezTo>
                          <a:pt x="6474" y="10550"/>
                          <a:pt x="9139" y="9246"/>
                          <a:pt x="12427" y="9246"/>
                        </a:cubicBezTo>
                        <a:lnTo>
                          <a:pt x="15126" y="9246"/>
                        </a:lnTo>
                        <a:lnTo>
                          <a:pt x="15126" y="12158"/>
                        </a:lnTo>
                        <a:lnTo>
                          <a:pt x="21600" y="6079"/>
                        </a:lnTo>
                        <a:close/>
                      </a:path>
                    </a:pathLst>
                  </a:custGeom>
                  <a:blipFill rotWithShape="0">
                    <a:blip r:embed="rId7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AutoShape 57"/>
                  <p:cNvSpPr/>
                  <p:nvPr/>
                </p:nvSpPr>
                <p:spPr>
                  <a:xfrm rot="10800000">
                    <a:off x="2131920" y="4025160"/>
                    <a:ext cx="380880" cy="228240"/>
                  </a:xfrm>
                  <a:custGeom>
                    <a:avLst/>
                    <a:gdLst>
                      <a:gd name="textAreaLeft" fmla="*/ 218880 w 380880"/>
                      <a:gd name="textAreaRight" fmla="*/ 321480 w 380880"/>
                      <a:gd name="textAreaTop" fmla="*/ 30960 h 228240"/>
                      <a:gd name="textAreaBottom" fmla="*/ 97560 h 228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6079"/>
                        </a:moveTo>
                        <a:lnTo>
                          <a:pt x="15126" y="0"/>
                        </a:lnTo>
                        <a:lnTo>
                          <a:pt x="15126" y="2912"/>
                        </a:lnTo>
                        <a:lnTo>
                          <a:pt x="12427" y="2912"/>
                        </a:lnTo>
                        <a:cubicBezTo>
                          <a:pt x="5564" y="2912"/>
                          <a:pt x="0" y="7052"/>
                          <a:pt x="0" y="12158"/>
                        </a:cubicBezTo>
                        <a:lnTo>
                          <a:pt x="0" y="21600"/>
                        </a:lnTo>
                        <a:lnTo>
                          <a:pt x="6474" y="21600"/>
                        </a:lnTo>
                        <a:lnTo>
                          <a:pt x="6474" y="12158"/>
                        </a:lnTo>
                        <a:cubicBezTo>
                          <a:pt x="6474" y="10550"/>
                          <a:pt x="9139" y="9246"/>
                          <a:pt x="12427" y="9246"/>
                        </a:cubicBezTo>
                        <a:lnTo>
                          <a:pt x="15126" y="9246"/>
                        </a:lnTo>
                        <a:lnTo>
                          <a:pt x="15126" y="12158"/>
                        </a:lnTo>
                        <a:lnTo>
                          <a:pt x="21600" y="6079"/>
                        </a:lnTo>
                        <a:close/>
                      </a:path>
                    </a:pathLst>
                  </a:custGeom>
                  <a:blipFill rotWithShape="0">
                    <a:blip r:embed="rId8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Group 58"/>
                <p:cNvGrpSpPr/>
                <p:nvPr/>
              </p:nvGrpSpPr>
              <p:grpSpPr>
                <a:xfrm>
                  <a:off x="1827000" y="3627360"/>
                  <a:ext cx="609120" cy="799920"/>
                  <a:chOff x="1827000" y="3627360"/>
                  <a:chExt cx="609120" cy="799920"/>
                </a:xfrm>
              </p:grpSpPr>
              <p:sp>
                <p:nvSpPr>
                  <p:cNvPr id="212" name="Oval 59"/>
                  <p:cNvSpPr/>
                  <p:nvPr/>
                </p:nvSpPr>
                <p:spPr>
                  <a:xfrm>
                    <a:off x="1827000" y="3627360"/>
                    <a:ext cx="435240" cy="799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767676"/>
                      </a:gs>
                      <a:gs pos="100000">
                        <a:srgbClr val="ffffff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AutoShape 60"/>
                  <p:cNvSpPr/>
                  <p:nvPr/>
                </p:nvSpPr>
                <p:spPr>
                  <a:xfrm>
                    <a:off x="2175120" y="3741480"/>
                    <a:ext cx="261000" cy="228240"/>
                  </a:xfrm>
                  <a:prstGeom prst="roundRect">
                    <a:avLst>
                      <a:gd name="adj" fmla="val 16667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67676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Text Box 61"/>
                  <p:cNvSpPr/>
                  <p:nvPr/>
                </p:nvSpPr>
                <p:spPr>
                  <a:xfrm>
                    <a:off x="2261520" y="3763800"/>
                    <a:ext cx="9864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GreekC"/>
                      </a:rPr>
                      <a:t>σ</a:t>
                    </a:r>
                    <a:endParaRPr b="0" lang="en-US" sz="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5" name="Text Box 62"/>
              <p:cNvSpPr/>
              <p:nvPr/>
            </p:nvSpPr>
            <p:spPr>
              <a:xfrm>
                <a:off x="2849040" y="1912680"/>
                <a:ext cx="787680" cy="22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DN templado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63"/>
              <p:cNvSpPr/>
              <p:nvPr/>
            </p:nvSpPr>
            <p:spPr>
              <a:xfrm>
                <a:off x="2436840" y="2027160"/>
                <a:ext cx="0" cy="571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64"/>
              <p:cNvSpPr/>
              <p:nvPr/>
            </p:nvSpPr>
            <p:spPr>
              <a:xfrm>
                <a:off x="2436840" y="3284280"/>
                <a:ext cx="360" cy="4572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8" name="Group 65"/>
              <p:cNvGrpSpPr/>
              <p:nvPr/>
            </p:nvGrpSpPr>
            <p:grpSpPr>
              <a:xfrm>
                <a:off x="760320" y="5151240"/>
                <a:ext cx="3428640" cy="799920"/>
                <a:chOff x="760320" y="5151240"/>
                <a:chExt cx="3428640" cy="799920"/>
              </a:xfrm>
            </p:grpSpPr>
            <p:grpSp>
              <p:nvGrpSpPr>
                <p:cNvPr id="219" name="Group 66"/>
                <p:cNvGrpSpPr/>
                <p:nvPr/>
              </p:nvGrpSpPr>
              <p:grpSpPr>
                <a:xfrm>
                  <a:off x="760320" y="5151240"/>
                  <a:ext cx="3428640" cy="799920"/>
                  <a:chOff x="760320" y="5151240"/>
                  <a:chExt cx="3428640" cy="799920"/>
                </a:xfrm>
              </p:grpSpPr>
              <p:grpSp>
                <p:nvGrpSpPr>
                  <p:cNvPr id="220" name="Group 67"/>
                  <p:cNvGrpSpPr/>
                  <p:nvPr/>
                </p:nvGrpSpPr>
                <p:grpSpPr>
                  <a:xfrm>
                    <a:off x="760320" y="5151240"/>
                    <a:ext cx="3428640" cy="799920"/>
                    <a:chOff x="760320" y="5151240"/>
                    <a:chExt cx="3428640" cy="799920"/>
                  </a:xfrm>
                </p:grpSpPr>
                <p:grpSp>
                  <p:nvGrpSpPr>
                    <p:cNvPr id="221" name="Group 68"/>
                    <p:cNvGrpSpPr/>
                    <p:nvPr/>
                  </p:nvGrpSpPr>
                  <p:grpSpPr>
                    <a:xfrm>
                      <a:off x="760320" y="5328720"/>
                      <a:ext cx="1296000" cy="507960"/>
                      <a:chOff x="760320" y="5328720"/>
                      <a:chExt cx="1296000" cy="507960"/>
                    </a:xfrm>
                  </p:grpSpPr>
                  <p:grpSp>
                    <p:nvGrpSpPr>
                      <p:cNvPr id="222" name="Group 69"/>
                      <p:cNvGrpSpPr/>
                      <p:nvPr/>
                    </p:nvGrpSpPr>
                    <p:grpSpPr>
                      <a:xfrm>
                        <a:off x="760320" y="5448240"/>
                        <a:ext cx="990360" cy="388440"/>
                        <a:chOff x="760320" y="5448240"/>
                        <a:chExt cx="990360" cy="388440"/>
                      </a:xfrm>
                    </p:grpSpPr>
                    <p:grpSp>
                      <p:nvGrpSpPr>
                        <p:cNvPr id="223" name="Group 70"/>
                        <p:cNvGrpSpPr/>
                        <p:nvPr/>
                      </p:nvGrpSpPr>
                      <p:grpSpPr>
                        <a:xfrm>
                          <a:off x="881280" y="5493600"/>
                          <a:ext cx="822960" cy="186840"/>
                          <a:chOff x="881280" y="5493600"/>
                          <a:chExt cx="822960" cy="186840"/>
                        </a:xfrm>
                      </p:grpSpPr>
                      <p:sp>
                        <p:nvSpPr>
                          <p:cNvPr id="224" name="Rectangle 71"/>
                          <p:cNvSpPr/>
                          <p:nvPr/>
                        </p:nvSpPr>
                        <p:spPr>
                          <a:xfrm>
                            <a:off x="881280" y="5493600"/>
                            <a:ext cx="822960" cy="72720"/>
                          </a:xfrm>
                          <a:prstGeom prst="rect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5920" bIns="25920" anchor="t">
                            <a:norm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Rectangle 72"/>
                          <p:cNvSpPr/>
                          <p:nvPr/>
                        </p:nvSpPr>
                        <p:spPr>
                          <a:xfrm>
                            <a:off x="881280" y="5607720"/>
                            <a:ext cx="822960" cy="72720"/>
                          </a:xfrm>
                          <a:prstGeom prst="rect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5920" bIns="25920" anchor="t">
                            <a:norm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6" name="Text Box 73"/>
                        <p:cNvSpPr/>
                        <p:nvPr/>
                      </p:nvSpPr>
                      <p:spPr>
                        <a:xfrm>
                          <a:off x="760320" y="5448240"/>
                          <a:ext cx="152280" cy="1598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rm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r>
                            <a:rPr b="1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5’</a:t>
                          </a:r>
                          <a:endParaRPr b="0" lang="en-US" sz="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7" name="Text Box 74"/>
                        <p:cNvSpPr/>
                        <p:nvPr/>
                      </p:nvSpPr>
                      <p:spPr>
                        <a:xfrm>
                          <a:off x="760320" y="5608080"/>
                          <a:ext cx="152280" cy="228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rm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r>
                            <a:rPr b="1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3’</a:t>
                          </a:r>
                          <a:endParaRPr b="0" lang="en-US" sz="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28" name="Group 75"/>
                        <p:cNvGrpSpPr/>
                        <p:nvPr/>
                      </p:nvGrpSpPr>
                      <p:grpSpPr>
                        <a:xfrm>
                          <a:off x="1339200" y="5493600"/>
                          <a:ext cx="411480" cy="186840"/>
                          <a:chOff x="1339200" y="5493600"/>
                          <a:chExt cx="411480" cy="186840"/>
                        </a:xfrm>
                      </p:grpSpPr>
                      <p:sp>
                        <p:nvSpPr>
                          <p:cNvPr id="229" name="Rectangle 76"/>
                          <p:cNvSpPr/>
                          <p:nvPr/>
                        </p:nvSpPr>
                        <p:spPr>
                          <a:xfrm>
                            <a:off x="1339200" y="5493600"/>
                            <a:ext cx="411480" cy="72720"/>
                          </a:xfrm>
                          <a:prstGeom prst="rect">
                            <a:avLst/>
                          </a:prstGeom>
                          <a:blipFill rotWithShape="0">
                            <a:blip r:embed="rId9"/>
                            <a:srcRect/>
                            <a:tile tx="0" ty="0" sx="100000" sy="100000" algn="ctr"/>
                          </a:blip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5920" bIns="25920" anchor="t">
                            <a:norm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30" name="Rectangle 77"/>
                          <p:cNvSpPr/>
                          <p:nvPr/>
                        </p:nvSpPr>
                        <p:spPr>
                          <a:xfrm>
                            <a:off x="1339200" y="5607720"/>
                            <a:ext cx="411480" cy="72720"/>
                          </a:xfrm>
                          <a:prstGeom prst="rect">
                            <a:avLst/>
                          </a:prstGeom>
                          <a:blipFill rotWithShape="0">
                            <a:blip r:embed="rId10"/>
                            <a:srcRect/>
                            <a:tile tx="0" ty="0" sx="100000" sy="100000" algn="ctr"/>
                          </a:blip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5920" bIns="25920" anchor="t">
                            <a:norm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31" name="AutoShape 78"/>
                      <p:cNvSpPr/>
                      <p:nvPr/>
                    </p:nvSpPr>
                    <p:spPr>
                      <a:xfrm>
                        <a:off x="1674720" y="5328720"/>
                        <a:ext cx="380880" cy="228600"/>
                      </a:xfrm>
                      <a:custGeom>
                        <a:avLst/>
                        <a:gdLst>
                          <a:gd name="textAreaLeft" fmla="*/ 218880 w 380880"/>
                          <a:gd name="textAreaRight" fmla="*/ 321480 w 380880"/>
                          <a:gd name="textAreaTop" fmla="*/ 30960 h 228600"/>
                          <a:gd name="textAreaBottom" fmla="*/ 97920 h 22860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6079"/>
                            </a:moveTo>
                            <a:lnTo>
                              <a:pt x="15126" y="0"/>
                            </a:lnTo>
                            <a:lnTo>
                              <a:pt x="15126" y="2912"/>
                            </a:lnTo>
                            <a:lnTo>
                              <a:pt x="12427" y="2912"/>
                            </a:lnTo>
                            <a:cubicBezTo>
                              <a:pt x="5564" y="2912"/>
                              <a:pt x="0" y="7052"/>
                              <a:pt x="0" y="12158"/>
                            </a:cubicBezTo>
                            <a:lnTo>
                              <a:pt x="0" y="21600"/>
                            </a:lnTo>
                            <a:lnTo>
                              <a:pt x="6474" y="21600"/>
                            </a:lnTo>
                            <a:lnTo>
                              <a:pt x="6474" y="12158"/>
                            </a:lnTo>
                            <a:cubicBezTo>
                              <a:pt x="6474" y="10550"/>
                              <a:pt x="9139" y="9246"/>
                              <a:pt x="12427" y="9246"/>
                            </a:cubicBezTo>
                            <a:lnTo>
                              <a:pt x="15126" y="9246"/>
                            </a:lnTo>
                            <a:lnTo>
                              <a:pt x="15126" y="12158"/>
                            </a:lnTo>
                            <a:lnTo>
                              <a:pt x="21600" y="6079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11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160" bIns="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2" name="AutoShape 79"/>
                      <p:cNvSpPr/>
                      <p:nvPr/>
                    </p:nvSpPr>
                    <p:spPr>
                      <a:xfrm flipH="1" rot="10819200">
                        <a:off x="1674720" y="5606640"/>
                        <a:ext cx="380880" cy="228600"/>
                      </a:xfrm>
                      <a:custGeom>
                        <a:avLst/>
                        <a:gdLst>
                          <a:gd name="textAreaLeft" fmla="*/ 219240 w 380880"/>
                          <a:gd name="textAreaRight" fmla="*/ 321840 w 380880"/>
                          <a:gd name="textAreaTop" fmla="*/ 30960 h 228600"/>
                          <a:gd name="textAreaBottom" fmla="*/ 97920 h 22860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6079"/>
                            </a:moveTo>
                            <a:lnTo>
                              <a:pt x="15126" y="0"/>
                            </a:lnTo>
                            <a:lnTo>
                              <a:pt x="15126" y="2912"/>
                            </a:lnTo>
                            <a:lnTo>
                              <a:pt x="12427" y="2912"/>
                            </a:lnTo>
                            <a:cubicBezTo>
                              <a:pt x="5564" y="2912"/>
                              <a:pt x="0" y="7052"/>
                              <a:pt x="0" y="12158"/>
                            </a:cubicBezTo>
                            <a:lnTo>
                              <a:pt x="0" y="21600"/>
                            </a:lnTo>
                            <a:lnTo>
                              <a:pt x="6474" y="21600"/>
                            </a:lnTo>
                            <a:lnTo>
                              <a:pt x="6474" y="12158"/>
                            </a:lnTo>
                            <a:cubicBezTo>
                              <a:pt x="6474" y="10550"/>
                              <a:pt x="9139" y="9246"/>
                              <a:pt x="12427" y="9246"/>
                            </a:cubicBezTo>
                            <a:lnTo>
                              <a:pt x="15126" y="9246"/>
                            </a:lnTo>
                            <a:lnTo>
                              <a:pt x="15126" y="12158"/>
                            </a:lnTo>
                            <a:lnTo>
                              <a:pt x="21600" y="6079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12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160" bIns="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33" name="Group 80"/>
                    <p:cNvGrpSpPr/>
                    <p:nvPr/>
                  </p:nvGrpSpPr>
                  <p:grpSpPr>
                    <a:xfrm>
                      <a:off x="2131920" y="5328720"/>
                      <a:ext cx="2057040" cy="511920"/>
                      <a:chOff x="2131920" y="5328720"/>
                      <a:chExt cx="2057040" cy="511920"/>
                    </a:xfrm>
                  </p:grpSpPr>
                  <p:grpSp>
                    <p:nvGrpSpPr>
                      <p:cNvPr id="234" name="Group 81"/>
                      <p:cNvGrpSpPr/>
                      <p:nvPr/>
                    </p:nvGrpSpPr>
                    <p:grpSpPr>
                      <a:xfrm>
                        <a:off x="2473200" y="5448240"/>
                        <a:ext cx="1715760" cy="274320"/>
                        <a:chOff x="2473200" y="5448240"/>
                        <a:chExt cx="1715760" cy="274320"/>
                      </a:xfrm>
                    </p:grpSpPr>
                    <p:sp>
                      <p:nvSpPr>
                        <p:cNvPr id="235" name="Text Box 82"/>
                        <p:cNvSpPr/>
                        <p:nvPr/>
                      </p:nvSpPr>
                      <p:spPr>
                        <a:xfrm>
                          <a:off x="4104000" y="5608440"/>
                          <a:ext cx="84960" cy="1141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0" rIns="0" tIns="0" bIns="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r>
                            <a:rPr b="1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5’</a:t>
                          </a:r>
                          <a:endParaRPr b="0" lang="en-US" sz="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Text Box 83"/>
                        <p:cNvSpPr/>
                        <p:nvPr/>
                      </p:nvSpPr>
                      <p:spPr>
                        <a:xfrm>
                          <a:off x="4104000" y="5448240"/>
                          <a:ext cx="84960" cy="1141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0" rIns="0" tIns="0" bIns="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r>
                            <a:rPr b="1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3’</a:t>
                          </a:r>
                          <a:endParaRPr b="0" lang="en-US" sz="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37" name="Group 84"/>
                        <p:cNvGrpSpPr/>
                        <p:nvPr/>
                      </p:nvGrpSpPr>
                      <p:grpSpPr>
                        <a:xfrm>
                          <a:off x="2473200" y="5493960"/>
                          <a:ext cx="1563480" cy="186840"/>
                          <a:chOff x="2473200" y="5493960"/>
                          <a:chExt cx="1563480" cy="186840"/>
                        </a:xfrm>
                      </p:grpSpPr>
                      <p:sp>
                        <p:nvSpPr>
                          <p:cNvPr id="238" name="Rectangle 85"/>
                          <p:cNvSpPr/>
                          <p:nvPr/>
                        </p:nvSpPr>
                        <p:spPr>
                          <a:xfrm>
                            <a:off x="2473200" y="5493960"/>
                            <a:ext cx="1563480" cy="72720"/>
                          </a:xfrm>
                          <a:prstGeom prst="rect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5920" bIns="25920" anchor="t">
                            <a:norm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39" name="Rectangle 86"/>
                          <p:cNvSpPr/>
                          <p:nvPr/>
                        </p:nvSpPr>
                        <p:spPr>
                          <a:xfrm>
                            <a:off x="2473200" y="5608080"/>
                            <a:ext cx="1563480" cy="72720"/>
                          </a:xfrm>
                          <a:prstGeom prst="rect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5920" bIns="25920" anchor="t">
                            <a:norm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40" name="AutoShape 87"/>
                      <p:cNvSpPr/>
                      <p:nvPr/>
                    </p:nvSpPr>
                    <p:spPr>
                      <a:xfrm flipH="1">
                        <a:off x="2131920" y="5328720"/>
                        <a:ext cx="380880" cy="228600"/>
                      </a:xfrm>
                      <a:custGeom>
                        <a:avLst/>
                        <a:gdLst>
                          <a:gd name="textAreaLeft" fmla="*/ 219240 w 380880"/>
                          <a:gd name="textAreaRight" fmla="*/ 321840 w 380880"/>
                          <a:gd name="textAreaTop" fmla="*/ 30960 h 228600"/>
                          <a:gd name="textAreaBottom" fmla="*/ 97920 h 22860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6079"/>
                            </a:moveTo>
                            <a:lnTo>
                              <a:pt x="15126" y="0"/>
                            </a:lnTo>
                            <a:lnTo>
                              <a:pt x="15126" y="2912"/>
                            </a:lnTo>
                            <a:lnTo>
                              <a:pt x="12427" y="2912"/>
                            </a:lnTo>
                            <a:cubicBezTo>
                              <a:pt x="5564" y="2912"/>
                              <a:pt x="0" y="7052"/>
                              <a:pt x="0" y="12158"/>
                            </a:cubicBezTo>
                            <a:lnTo>
                              <a:pt x="0" y="21600"/>
                            </a:lnTo>
                            <a:lnTo>
                              <a:pt x="6474" y="21600"/>
                            </a:lnTo>
                            <a:lnTo>
                              <a:pt x="6474" y="12158"/>
                            </a:lnTo>
                            <a:cubicBezTo>
                              <a:pt x="6474" y="10550"/>
                              <a:pt x="9139" y="9246"/>
                              <a:pt x="12427" y="9246"/>
                            </a:cubicBezTo>
                            <a:lnTo>
                              <a:pt x="15126" y="9246"/>
                            </a:lnTo>
                            <a:lnTo>
                              <a:pt x="15126" y="12158"/>
                            </a:lnTo>
                            <a:lnTo>
                              <a:pt x="21600" y="6079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160" bIns="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1" name="AutoShape 88"/>
                      <p:cNvSpPr/>
                      <p:nvPr/>
                    </p:nvSpPr>
                    <p:spPr>
                      <a:xfrm rot="10800000">
                        <a:off x="2131920" y="5612400"/>
                        <a:ext cx="380880" cy="228240"/>
                      </a:xfrm>
                      <a:custGeom>
                        <a:avLst/>
                        <a:gdLst>
                          <a:gd name="textAreaLeft" fmla="*/ 218880 w 380880"/>
                          <a:gd name="textAreaRight" fmla="*/ 321480 w 380880"/>
                          <a:gd name="textAreaTop" fmla="*/ 30960 h 228240"/>
                          <a:gd name="textAreaBottom" fmla="*/ 97560 h 2282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6079"/>
                            </a:moveTo>
                            <a:lnTo>
                              <a:pt x="15126" y="0"/>
                            </a:lnTo>
                            <a:lnTo>
                              <a:pt x="15126" y="2912"/>
                            </a:lnTo>
                            <a:lnTo>
                              <a:pt x="12427" y="2912"/>
                            </a:lnTo>
                            <a:cubicBezTo>
                              <a:pt x="5564" y="2912"/>
                              <a:pt x="0" y="7052"/>
                              <a:pt x="0" y="12158"/>
                            </a:cubicBezTo>
                            <a:lnTo>
                              <a:pt x="0" y="21600"/>
                            </a:lnTo>
                            <a:lnTo>
                              <a:pt x="6474" y="21600"/>
                            </a:lnTo>
                            <a:lnTo>
                              <a:pt x="6474" y="12158"/>
                            </a:lnTo>
                            <a:cubicBezTo>
                              <a:pt x="6474" y="10550"/>
                              <a:pt x="9139" y="9246"/>
                              <a:pt x="12427" y="9246"/>
                            </a:cubicBezTo>
                            <a:lnTo>
                              <a:pt x="15126" y="9246"/>
                            </a:lnTo>
                            <a:lnTo>
                              <a:pt x="15126" y="12158"/>
                            </a:lnTo>
                            <a:lnTo>
                              <a:pt x="21600" y="6079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9800" bIns="19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42" name="Group 89"/>
                    <p:cNvGrpSpPr/>
                    <p:nvPr/>
                  </p:nvGrpSpPr>
                  <p:grpSpPr>
                    <a:xfrm>
                      <a:off x="1903320" y="5151240"/>
                      <a:ext cx="609120" cy="799920"/>
                      <a:chOff x="1903320" y="5151240"/>
                      <a:chExt cx="609120" cy="799920"/>
                    </a:xfrm>
                  </p:grpSpPr>
                  <p:sp>
                    <p:nvSpPr>
                      <p:cNvPr id="243" name="Oval 90"/>
                      <p:cNvSpPr/>
                      <p:nvPr/>
                    </p:nvSpPr>
                    <p:spPr>
                      <a:xfrm>
                        <a:off x="1903320" y="5151240"/>
                        <a:ext cx="435600" cy="79992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767676"/>
                          </a:gs>
                          <a:gs pos="100000">
                            <a:srgbClr val="ffffff"/>
                          </a:gs>
                        </a:gsLst>
                        <a:lin ang="189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4" name="AutoShape 91"/>
                      <p:cNvSpPr/>
                      <p:nvPr/>
                    </p:nvSpPr>
                    <p:spPr>
                      <a:xfrm>
                        <a:off x="2251800" y="5265360"/>
                        <a:ext cx="260640" cy="228240"/>
                      </a:xfrm>
                      <a:prstGeom prst="roundRect">
                        <a:avLst>
                          <a:gd name="adj" fmla="val 16667"/>
                        </a:avLst>
                      </a:prstGeom>
                      <a:gradFill rotWithShape="0">
                        <a:gsLst>
                          <a:gs pos="0">
                            <a:srgbClr val="ffffff">
                              <a:alpha val="48235"/>
                            </a:srgbClr>
                          </a:gs>
                          <a:gs pos="100000">
                            <a:srgbClr val="767676"/>
                          </a:gs>
                        </a:gsLst>
                        <a:lin ang="189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45" name="Group 92"/>
                    <p:cNvGrpSpPr/>
                    <p:nvPr/>
                  </p:nvGrpSpPr>
                  <p:grpSpPr>
                    <a:xfrm>
                      <a:off x="2207880" y="5493960"/>
                      <a:ext cx="228240" cy="228600"/>
                      <a:chOff x="2207880" y="5493960"/>
                      <a:chExt cx="228240" cy="228600"/>
                    </a:xfrm>
                  </p:grpSpPr>
                  <p:sp>
                    <p:nvSpPr>
                      <p:cNvPr id="246" name="Oval 93"/>
                      <p:cNvSpPr/>
                      <p:nvPr/>
                    </p:nvSpPr>
                    <p:spPr>
                      <a:xfrm>
                        <a:off x="2207880" y="5493960"/>
                        <a:ext cx="228240" cy="2286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7" name="Text Box 94"/>
                      <p:cNvSpPr/>
                      <p:nvPr/>
                    </p:nvSpPr>
                    <p:spPr>
                      <a:xfrm>
                        <a:off x="2283840" y="5557320"/>
                        <a:ext cx="152280" cy="114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rmAutofit fontScale="93000"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Pu</a:t>
                        </a:r>
                        <a:endParaRPr b="0" lang="en-US" sz="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248" name="Text Box 95"/>
                  <p:cNvSpPr/>
                  <p:nvPr/>
                </p:nvSpPr>
                <p:spPr>
                  <a:xfrm>
                    <a:off x="2314800" y="5292720"/>
                    <a:ext cx="152280" cy="11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rmAutofit fontScale="83000"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GreekC"/>
                      </a:rPr>
                      <a:t>σ</a:t>
                    </a:r>
                    <a:endParaRPr b="0" lang="en-US" sz="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9" name="Text Box 96"/>
                <p:cNvSpPr/>
                <p:nvPr/>
              </p:nvSpPr>
              <p:spPr>
                <a:xfrm>
                  <a:off x="1979280" y="5570280"/>
                  <a:ext cx="30456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3000"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PPP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" name="Group 97"/>
              <p:cNvGrpSpPr/>
              <p:nvPr/>
            </p:nvGrpSpPr>
            <p:grpSpPr>
              <a:xfrm>
                <a:off x="1623960" y="4313160"/>
                <a:ext cx="812880" cy="799920"/>
                <a:chOff x="1623960" y="4313160"/>
                <a:chExt cx="812880" cy="799920"/>
              </a:xfrm>
            </p:grpSpPr>
            <p:sp>
              <p:nvSpPr>
                <p:cNvPr id="251" name="Line 98"/>
                <p:cNvSpPr/>
                <p:nvPr/>
              </p:nvSpPr>
              <p:spPr>
                <a:xfrm>
                  <a:off x="2436480" y="4313160"/>
                  <a:ext cx="360" cy="7999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52" name="Group 99"/>
                <p:cNvGrpSpPr/>
                <p:nvPr/>
              </p:nvGrpSpPr>
              <p:grpSpPr>
                <a:xfrm>
                  <a:off x="1623960" y="4541400"/>
                  <a:ext cx="507600" cy="228600"/>
                  <a:chOff x="1623960" y="4541400"/>
                  <a:chExt cx="507600" cy="228600"/>
                </a:xfrm>
              </p:grpSpPr>
              <p:grpSp>
                <p:nvGrpSpPr>
                  <p:cNvPr id="253" name="Group 100"/>
                  <p:cNvGrpSpPr/>
                  <p:nvPr/>
                </p:nvGrpSpPr>
                <p:grpSpPr>
                  <a:xfrm>
                    <a:off x="1903320" y="4541400"/>
                    <a:ext cx="228240" cy="228600"/>
                    <a:chOff x="1903320" y="4541400"/>
                    <a:chExt cx="228240" cy="228600"/>
                  </a:xfrm>
                </p:grpSpPr>
                <p:sp>
                  <p:nvSpPr>
                    <p:cNvPr id="254" name="Oval 101"/>
                    <p:cNvSpPr/>
                    <p:nvPr/>
                  </p:nvSpPr>
                  <p:spPr>
                    <a:xfrm>
                      <a:off x="1903320" y="4541400"/>
                      <a:ext cx="228240" cy="2286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Text Box 102"/>
                    <p:cNvSpPr/>
                    <p:nvPr/>
                  </p:nvSpPr>
                  <p:spPr>
                    <a:xfrm>
                      <a:off x="1979280" y="4604760"/>
                      <a:ext cx="152280" cy="114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rmAutofit fontScale="93000"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6" name="Text Box 103"/>
                  <p:cNvSpPr/>
                  <p:nvPr/>
                </p:nvSpPr>
                <p:spPr>
                  <a:xfrm>
                    <a:off x="1623960" y="4609800"/>
                    <a:ext cx="304920" cy="11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rmAutofit fontScale="83000"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PPP</a:t>
                    </a:r>
                    <a:endParaRPr b="0" lang="en-US" sz="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7" name="Arc 104"/>
                <p:cNvSpPr/>
                <p:nvPr/>
              </p:nvSpPr>
              <p:spPr>
                <a:xfrm>
                  <a:off x="2208240" y="4655880"/>
                  <a:ext cx="228240" cy="228240"/>
                </a:xfrm>
                <a:custGeom>
                  <a:avLst/>
                  <a:gdLst>
                    <a:gd name="textAreaLeft" fmla="*/ 0 w 228240"/>
                    <a:gd name="textAreaRight" fmla="*/ 228600 w 228240"/>
                    <a:gd name="textAreaTop" fmla="*/ 0 h 228240"/>
                    <a:gd name="textAreaBottom" fmla="*/ 228600 h 22824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8" name="Text Box 105"/>
              <p:cNvSpPr/>
              <p:nvPr/>
            </p:nvSpPr>
            <p:spPr>
              <a:xfrm>
                <a:off x="2589120" y="1341360"/>
                <a:ext cx="167616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just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- Unión no específica de la Pol y migración hacia el promotor.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Text Box 106"/>
              <p:cNvSpPr/>
              <p:nvPr/>
            </p:nvSpPr>
            <p:spPr>
              <a:xfrm>
                <a:off x="2589120" y="2369880"/>
                <a:ext cx="167616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just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- Formación de un complejo Pol-promotor cerrado.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Text Box 107"/>
              <p:cNvSpPr/>
              <p:nvPr/>
            </p:nvSpPr>
            <p:spPr>
              <a:xfrm>
                <a:off x="2589120" y="3512880"/>
                <a:ext cx="167616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just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3- Formación de un complejo Pol-promotor abierto.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Text Box 108"/>
              <p:cNvSpPr/>
              <p:nvPr/>
            </p:nvSpPr>
            <p:spPr>
              <a:xfrm>
                <a:off x="2589120" y="4998960"/>
                <a:ext cx="1676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just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4- Iniciación de la síntesis de mARN, casi siempre con una purina.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2" name="Group 263"/>
            <p:cNvGrpSpPr/>
            <p:nvPr/>
          </p:nvGrpSpPr>
          <p:grpSpPr>
            <a:xfrm>
              <a:off x="4633920" y="1276200"/>
              <a:ext cx="4114800" cy="5105520"/>
              <a:chOff x="4633920" y="1276200"/>
              <a:chExt cx="4114800" cy="5105520"/>
            </a:xfrm>
          </p:grpSpPr>
          <p:grpSp>
            <p:nvGrpSpPr>
              <p:cNvPr id="263" name="Group 110"/>
              <p:cNvGrpSpPr/>
              <p:nvPr/>
            </p:nvGrpSpPr>
            <p:grpSpPr>
              <a:xfrm>
                <a:off x="4633920" y="2952720"/>
                <a:ext cx="3428640" cy="1371600"/>
                <a:chOff x="4633920" y="2952720"/>
                <a:chExt cx="3428640" cy="1371600"/>
              </a:xfrm>
            </p:grpSpPr>
            <p:grpSp>
              <p:nvGrpSpPr>
                <p:cNvPr id="264" name="Group 111"/>
                <p:cNvGrpSpPr/>
                <p:nvPr/>
              </p:nvGrpSpPr>
              <p:grpSpPr>
                <a:xfrm>
                  <a:off x="4633920" y="2952720"/>
                  <a:ext cx="3428640" cy="799920"/>
                  <a:chOff x="4633920" y="2952720"/>
                  <a:chExt cx="3428640" cy="799920"/>
                </a:xfrm>
              </p:grpSpPr>
              <p:grpSp>
                <p:nvGrpSpPr>
                  <p:cNvPr id="265" name="Group 112"/>
                  <p:cNvGrpSpPr/>
                  <p:nvPr/>
                </p:nvGrpSpPr>
                <p:grpSpPr>
                  <a:xfrm>
                    <a:off x="4633920" y="3130200"/>
                    <a:ext cx="1296000" cy="507960"/>
                    <a:chOff x="4633920" y="3130200"/>
                    <a:chExt cx="1296000" cy="507960"/>
                  </a:xfrm>
                </p:grpSpPr>
                <p:grpSp>
                  <p:nvGrpSpPr>
                    <p:cNvPr id="266" name="Group 113"/>
                    <p:cNvGrpSpPr/>
                    <p:nvPr/>
                  </p:nvGrpSpPr>
                  <p:grpSpPr>
                    <a:xfrm>
                      <a:off x="4633920" y="3249720"/>
                      <a:ext cx="990360" cy="388440"/>
                      <a:chOff x="4633920" y="3249720"/>
                      <a:chExt cx="990360" cy="388440"/>
                    </a:xfrm>
                  </p:grpSpPr>
                  <p:grpSp>
                    <p:nvGrpSpPr>
                      <p:cNvPr id="267" name="Group 114"/>
                      <p:cNvGrpSpPr/>
                      <p:nvPr/>
                    </p:nvGrpSpPr>
                    <p:grpSpPr>
                      <a:xfrm>
                        <a:off x="4754880" y="3295080"/>
                        <a:ext cx="822960" cy="186840"/>
                        <a:chOff x="4754880" y="3295080"/>
                        <a:chExt cx="822960" cy="186840"/>
                      </a:xfrm>
                    </p:grpSpPr>
                    <p:sp>
                      <p:nvSpPr>
                        <p:cNvPr id="268" name="Rectangle 115"/>
                        <p:cNvSpPr/>
                        <p:nvPr/>
                      </p:nvSpPr>
                      <p:spPr>
                        <a:xfrm>
                          <a:off x="4754880" y="3295080"/>
                          <a:ext cx="822960" cy="7272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920" bIns="25920" anchor="t">
                          <a:norm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9" name="Rectangle 116"/>
                        <p:cNvSpPr/>
                        <p:nvPr/>
                      </p:nvSpPr>
                      <p:spPr>
                        <a:xfrm>
                          <a:off x="4754880" y="3409200"/>
                          <a:ext cx="822960" cy="7272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920" bIns="25920" anchor="t">
                          <a:norm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70" name="Text Box 117"/>
                      <p:cNvSpPr/>
                      <p:nvPr/>
                    </p:nvSpPr>
                    <p:spPr>
                      <a:xfrm>
                        <a:off x="4633920" y="3249720"/>
                        <a:ext cx="152280" cy="159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5’</a:t>
                        </a:r>
                        <a:endParaRPr b="0" lang="en-US" sz="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" name="Text Box 118"/>
                      <p:cNvSpPr/>
                      <p:nvPr/>
                    </p:nvSpPr>
                    <p:spPr>
                      <a:xfrm>
                        <a:off x="4633920" y="3409560"/>
                        <a:ext cx="152280" cy="228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3’</a:t>
                        </a:r>
                        <a:endParaRPr b="0" lang="en-US" sz="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72" name="Group 119"/>
                      <p:cNvGrpSpPr/>
                      <p:nvPr/>
                    </p:nvGrpSpPr>
                    <p:grpSpPr>
                      <a:xfrm>
                        <a:off x="5212800" y="3295080"/>
                        <a:ext cx="411480" cy="186840"/>
                        <a:chOff x="5212800" y="3295080"/>
                        <a:chExt cx="411480" cy="186840"/>
                      </a:xfrm>
                    </p:grpSpPr>
                    <p:sp>
                      <p:nvSpPr>
                        <p:cNvPr id="273" name="Rectangle 120"/>
                        <p:cNvSpPr/>
                        <p:nvPr/>
                      </p:nvSpPr>
                      <p:spPr>
                        <a:xfrm>
                          <a:off x="5212800" y="3295080"/>
                          <a:ext cx="411480" cy="72720"/>
                        </a:xfrm>
                        <a:prstGeom prst="rect">
                          <a:avLst/>
                        </a:prstGeom>
                        <a:blipFill rotWithShape="0">
                          <a:blip r:embed="rId13"/>
                          <a:srcRect/>
                          <a:tile tx="0" ty="0" sx="100000" sy="100000" algn="ctr"/>
                        </a:blip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920" bIns="25920" anchor="t">
                          <a:norm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" name="Rectangle 121"/>
                        <p:cNvSpPr/>
                        <p:nvPr/>
                      </p:nvSpPr>
                      <p:spPr>
                        <a:xfrm>
                          <a:off x="5212800" y="3409200"/>
                          <a:ext cx="411480" cy="72720"/>
                        </a:xfrm>
                        <a:prstGeom prst="rect">
                          <a:avLst/>
                        </a:prstGeom>
                        <a:blipFill rotWithShape="0">
                          <a:blip r:embed="rId14"/>
                          <a:srcRect/>
                          <a:tile tx="0" ty="0" sx="100000" sy="100000" algn="ctr"/>
                        </a:blip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920" bIns="25920" anchor="t">
                          <a:norm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75" name="AutoShape 122"/>
                    <p:cNvSpPr/>
                    <p:nvPr/>
                  </p:nvSpPr>
                  <p:spPr>
                    <a:xfrm>
                      <a:off x="5548320" y="3130200"/>
                      <a:ext cx="380880" cy="228600"/>
                    </a:xfrm>
                    <a:custGeom>
                      <a:avLst/>
                      <a:gdLst>
                        <a:gd name="textAreaLeft" fmla="*/ 218880 w 380880"/>
                        <a:gd name="textAreaRight" fmla="*/ 321480 w 380880"/>
                        <a:gd name="textAreaTop" fmla="*/ 30960 h 228600"/>
                        <a:gd name="textAreaBottom" fmla="*/ 97920 h 2286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21600" y="6079"/>
                          </a:moveTo>
                          <a:lnTo>
                            <a:pt x="15126" y="0"/>
                          </a:lnTo>
                          <a:lnTo>
                            <a:pt x="15126" y="2912"/>
                          </a:lnTo>
                          <a:lnTo>
                            <a:pt x="12427" y="2912"/>
                          </a:lnTo>
                          <a:cubicBezTo>
                            <a:pt x="5564" y="2912"/>
                            <a:pt x="0" y="7052"/>
                            <a:pt x="0" y="12158"/>
                          </a:cubicBezTo>
                          <a:lnTo>
                            <a:pt x="0" y="21600"/>
                          </a:lnTo>
                          <a:lnTo>
                            <a:pt x="6474" y="21600"/>
                          </a:lnTo>
                          <a:lnTo>
                            <a:pt x="6474" y="12158"/>
                          </a:lnTo>
                          <a:cubicBezTo>
                            <a:pt x="6474" y="10550"/>
                            <a:pt x="9139" y="9246"/>
                            <a:pt x="12427" y="9246"/>
                          </a:cubicBezTo>
                          <a:lnTo>
                            <a:pt x="15126" y="9246"/>
                          </a:lnTo>
                          <a:lnTo>
                            <a:pt x="15126" y="12158"/>
                          </a:lnTo>
                          <a:lnTo>
                            <a:pt x="21600" y="6079"/>
                          </a:lnTo>
                          <a:close/>
                        </a:path>
                      </a:pathLst>
                    </a:custGeom>
                    <a:blipFill rotWithShape="0">
                      <a:blip r:embed="rId15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160" bIns="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AutoShape 123"/>
                    <p:cNvSpPr/>
                    <p:nvPr/>
                  </p:nvSpPr>
                  <p:spPr>
                    <a:xfrm flipH="1" rot="10819200">
                      <a:off x="5548320" y="3408120"/>
                      <a:ext cx="380880" cy="228600"/>
                    </a:xfrm>
                    <a:custGeom>
                      <a:avLst/>
                      <a:gdLst>
                        <a:gd name="textAreaLeft" fmla="*/ 219240 w 380880"/>
                        <a:gd name="textAreaRight" fmla="*/ 321840 w 380880"/>
                        <a:gd name="textAreaTop" fmla="*/ 30960 h 228600"/>
                        <a:gd name="textAreaBottom" fmla="*/ 97920 h 2286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21600" y="6079"/>
                          </a:moveTo>
                          <a:lnTo>
                            <a:pt x="15126" y="0"/>
                          </a:lnTo>
                          <a:lnTo>
                            <a:pt x="15126" y="2912"/>
                          </a:lnTo>
                          <a:lnTo>
                            <a:pt x="12427" y="2912"/>
                          </a:lnTo>
                          <a:cubicBezTo>
                            <a:pt x="5564" y="2912"/>
                            <a:pt x="0" y="7052"/>
                            <a:pt x="0" y="12158"/>
                          </a:cubicBezTo>
                          <a:lnTo>
                            <a:pt x="0" y="21600"/>
                          </a:lnTo>
                          <a:lnTo>
                            <a:pt x="6474" y="21600"/>
                          </a:lnTo>
                          <a:lnTo>
                            <a:pt x="6474" y="12158"/>
                          </a:lnTo>
                          <a:cubicBezTo>
                            <a:pt x="6474" y="10550"/>
                            <a:pt x="9139" y="9246"/>
                            <a:pt x="12427" y="9246"/>
                          </a:cubicBezTo>
                          <a:lnTo>
                            <a:pt x="15126" y="9246"/>
                          </a:lnTo>
                          <a:lnTo>
                            <a:pt x="15126" y="12158"/>
                          </a:lnTo>
                          <a:lnTo>
                            <a:pt x="21600" y="6079"/>
                          </a:lnTo>
                          <a:close/>
                        </a:path>
                      </a:pathLst>
                    </a:custGeom>
                    <a:blipFill rotWithShape="0">
                      <a:blip r:embed="rId16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160" bIns="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7" name="Group 124"/>
                  <p:cNvGrpSpPr/>
                  <p:nvPr/>
                </p:nvGrpSpPr>
                <p:grpSpPr>
                  <a:xfrm>
                    <a:off x="6005520" y="3130200"/>
                    <a:ext cx="2057040" cy="511920"/>
                    <a:chOff x="6005520" y="3130200"/>
                    <a:chExt cx="2057040" cy="511920"/>
                  </a:xfrm>
                </p:grpSpPr>
                <p:grpSp>
                  <p:nvGrpSpPr>
                    <p:cNvPr id="278" name="Group 125"/>
                    <p:cNvGrpSpPr/>
                    <p:nvPr/>
                  </p:nvGrpSpPr>
                  <p:grpSpPr>
                    <a:xfrm>
                      <a:off x="6346800" y="3249720"/>
                      <a:ext cx="1715760" cy="274320"/>
                      <a:chOff x="6346800" y="3249720"/>
                      <a:chExt cx="1715760" cy="274320"/>
                    </a:xfrm>
                  </p:grpSpPr>
                  <p:sp>
                    <p:nvSpPr>
                      <p:cNvPr id="279" name="Text Box 126"/>
                      <p:cNvSpPr/>
                      <p:nvPr/>
                    </p:nvSpPr>
                    <p:spPr>
                      <a:xfrm>
                        <a:off x="7977600" y="3409920"/>
                        <a:ext cx="84960" cy="114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5’</a:t>
                        </a:r>
                        <a:endParaRPr b="0" lang="en-US" sz="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0" name="Text Box 127"/>
                      <p:cNvSpPr/>
                      <p:nvPr/>
                    </p:nvSpPr>
                    <p:spPr>
                      <a:xfrm>
                        <a:off x="7977600" y="3249720"/>
                        <a:ext cx="84960" cy="114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3’</a:t>
                        </a:r>
                        <a:endParaRPr b="0" lang="en-US" sz="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81" name="Group 128"/>
                      <p:cNvGrpSpPr/>
                      <p:nvPr/>
                    </p:nvGrpSpPr>
                    <p:grpSpPr>
                      <a:xfrm>
                        <a:off x="6346800" y="3295440"/>
                        <a:ext cx="1563480" cy="186840"/>
                        <a:chOff x="6346800" y="3295440"/>
                        <a:chExt cx="1563480" cy="186840"/>
                      </a:xfrm>
                    </p:grpSpPr>
                    <p:sp>
                      <p:nvSpPr>
                        <p:cNvPr id="282" name="Rectangle 129"/>
                        <p:cNvSpPr/>
                        <p:nvPr/>
                      </p:nvSpPr>
                      <p:spPr>
                        <a:xfrm>
                          <a:off x="6346800" y="3295440"/>
                          <a:ext cx="1563480" cy="7272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920" bIns="25920" anchor="t">
                          <a:norm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3" name="Rectangle 130"/>
                        <p:cNvSpPr/>
                        <p:nvPr/>
                      </p:nvSpPr>
                      <p:spPr>
                        <a:xfrm>
                          <a:off x="6346800" y="3409560"/>
                          <a:ext cx="1563480" cy="7272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920" bIns="25920" anchor="t">
                          <a:norm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4" name="AutoShape 131"/>
                    <p:cNvSpPr/>
                    <p:nvPr/>
                  </p:nvSpPr>
                  <p:spPr>
                    <a:xfrm flipH="1">
                      <a:off x="6005520" y="3130200"/>
                      <a:ext cx="380880" cy="228600"/>
                    </a:xfrm>
                    <a:custGeom>
                      <a:avLst/>
                      <a:gdLst>
                        <a:gd name="textAreaLeft" fmla="*/ 219240 w 380880"/>
                        <a:gd name="textAreaRight" fmla="*/ 321840 w 380880"/>
                        <a:gd name="textAreaTop" fmla="*/ 30960 h 228600"/>
                        <a:gd name="textAreaBottom" fmla="*/ 97920 h 2286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21600" y="6079"/>
                          </a:moveTo>
                          <a:lnTo>
                            <a:pt x="15126" y="0"/>
                          </a:lnTo>
                          <a:lnTo>
                            <a:pt x="15126" y="2912"/>
                          </a:lnTo>
                          <a:lnTo>
                            <a:pt x="12427" y="2912"/>
                          </a:lnTo>
                          <a:cubicBezTo>
                            <a:pt x="5564" y="2912"/>
                            <a:pt x="0" y="7052"/>
                            <a:pt x="0" y="12158"/>
                          </a:cubicBezTo>
                          <a:lnTo>
                            <a:pt x="0" y="21600"/>
                          </a:lnTo>
                          <a:lnTo>
                            <a:pt x="6474" y="21600"/>
                          </a:lnTo>
                          <a:lnTo>
                            <a:pt x="6474" y="12158"/>
                          </a:lnTo>
                          <a:cubicBezTo>
                            <a:pt x="6474" y="10550"/>
                            <a:pt x="9139" y="9246"/>
                            <a:pt x="12427" y="9246"/>
                          </a:cubicBezTo>
                          <a:lnTo>
                            <a:pt x="15126" y="9246"/>
                          </a:lnTo>
                          <a:lnTo>
                            <a:pt x="15126" y="12158"/>
                          </a:lnTo>
                          <a:lnTo>
                            <a:pt x="21600" y="607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160" bIns="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AutoShape 132"/>
                    <p:cNvSpPr/>
                    <p:nvPr/>
                  </p:nvSpPr>
                  <p:spPr>
                    <a:xfrm rot="10800000">
                      <a:off x="6005520" y="3413880"/>
                      <a:ext cx="380880" cy="228240"/>
                    </a:xfrm>
                    <a:custGeom>
                      <a:avLst/>
                      <a:gdLst>
                        <a:gd name="textAreaLeft" fmla="*/ 218880 w 380880"/>
                        <a:gd name="textAreaRight" fmla="*/ 321480 w 380880"/>
                        <a:gd name="textAreaTop" fmla="*/ 30960 h 228240"/>
                        <a:gd name="textAreaBottom" fmla="*/ 97560 h 2282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21600" y="6079"/>
                          </a:moveTo>
                          <a:lnTo>
                            <a:pt x="15126" y="0"/>
                          </a:lnTo>
                          <a:lnTo>
                            <a:pt x="15126" y="2912"/>
                          </a:lnTo>
                          <a:lnTo>
                            <a:pt x="12427" y="2912"/>
                          </a:lnTo>
                          <a:cubicBezTo>
                            <a:pt x="5564" y="2912"/>
                            <a:pt x="0" y="7052"/>
                            <a:pt x="0" y="12158"/>
                          </a:cubicBezTo>
                          <a:lnTo>
                            <a:pt x="0" y="21600"/>
                          </a:lnTo>
                          <a:lnTo>
                            <a:pt x="6474" y="21600"/>
                          </a:lnTo>
                          <a:lnTo>
                            <a:pt x="6474" y="12158"/>
                          </a:lnTo>
                          <a:cubicBezTo>
                            <a:pt x="6474" y="10550"/>
                            <a:pt x="9139" y="9246"/>
                            <a:pt x="12427" y="9246"/>
                          </a:cubicBezTo>
                          <a:lnTo>
                            <a:pt x="15126" y="9246"/>
                          </a:lnTo>
                          <a:lnTo>
                            <a:pt x="15126" y="12158"/>
                          </a:lnTo>
                          <a:lnTo>
                            <a:pt x="21600" y="607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800" bIns="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6" name="Group 133"/>
                  <p:cNvGrpSpPr/>
                  <p:nvPr/>
                </p:nvGrpSpPr>
                <p:grpSpPr>
                  <a:xfrm>
                    <a:off x="5776920" y="2952720"/>
                    <a:ext cx="609120" cy="799920"/>
                    <a:chOff x="5776920" y="2952720"/>
                    <a:chExt cx="609120" cy="799920"/>
                  </a:xfrm>
                </p:grpSpPr>
                <p:sp>
                  <p:nvSpPr>
                    <p:cNvPr id="287" name="Oval 134"/>
                    <p:cNvSpPr/>
                    <p:nvPr/>
                  </p:nvSpPr>
                  <p:spPr>
                    <a:xfrm>
                      <a:off x="5776920" y="2952720"/>
                      <a:ext cx="435600" cy="7999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767676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AutoShape 135"/>
                    <p:cNvSpPr/>
                    <p:nvPr/>
                  </p:nvSpPr>
                  <p:spPr>
                    <a:xfrm>
                      <a:off x="6125400" y="3066840"/>
                      <a:ext cx="260640" cy="228240"/>
                    </a:xfrm>
                    <a:prstGeom prst="roundRect">
                      <a:avLst>
                        <a:gd name="adj" fmla="val 16667"/>
                      </a:avLst>
                    </a:prstGeom>
                    <a:gradFill rotWithShape="0">
                      <a:gsLst>
                        <a:gs pos="0">
                          <a:srgbClr val="ffffff">
                            <a:alpha val="48235"/>
                          </a:srgbClr>
                        </a:gs>
                        <a:gs pos="100000">
                          <a:srgbClr val="767676"/>
                        </a:gs>
                      </a:gsLst>
                      <a:lin ang="189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89" name="Group 136"/>
                <p:cNvGrpSpPr/>
                <p:nvPr/>
              </p:nvGrpSpPr>
              <p:grpSpPr>
                <a:xfrm>
                  <a:off x="4938480" y="3295440"/>
                  <a:ext cx="1371240" cy="1028880"/>
                  <a:chOff x="4938480" y="3295440"/>
                  <a:chExt cx="1371240" cy="1028880"/>
                </a:xfrm>
              </p:grpSpPr>
              <p:grpSp>
                <p:nvGrpSpPr>
                  <p:cNvPr id="290" name="Group 137"/>
                  <p:cNvGrpSpPr/>
                  <p:nvPr/>
                </p:nvGrpSpPr>
                <p:grpSpPr>
                  <a:xfrm>
                    <a:off x="6081480" y="3295440"/>
                    <a:ext cx="228240" cy="228600"/>
                    <a:chOff x="6081480" y="3295440"/>
                    <a:chExt cx="228240" cy="228600"/>
                  </a:xfrm>
                </p:grpSpPr>
                <p:sp>
                  <p:nvSpPr>
                    <p:cNvPr id="291" name="Oval 138"/>
                    <p:cNvSpPr/>
                    <p:nvPr/>
                  </p:nvSpPr>
                  <p:spPr>
                    <a:xfrm>
                      <a:off x="6081480" y="3295440"/>
                      <a:ext cx="228240" cy="22860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Text Box 139"/>
                    <p:cNvSpPr/>
                    <p:nvPr/>
                  </p:nvSpPr>
                  <p:spPr>
                    <a:xfrm>
                      <a:off x="6157440" y="3358800"/>
                      <a:ext cx="152280" cy="11412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rmAutofit fontScale="93000"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3" name="Group 140"/>
                  <p:cNvGrpSpPr/>
                  <p:nvPr/>
                </p:nvGrpSpPr>
                <p:grpSpPr>
                  <a:xfrm>
                    <a:off x="6005160" y="3524040"/>
                    <a:ext cx="228600" cy="228600"/>
                    <a:chOff x="6005160" y="3524040"/>
                    <a:chExt cx="228600" cy="228600"/>
                  </a:xfrm>
                </p:grpSpPr>
                <p:sp>
                  <p:nvSpPr>
                    <p:cNvPr id="294" name="Oval 141"/>
                    <p:cNvSpPr/>
                    <p:nvPr/>
                  </p:nvSpPr>
                  <p:spPr>
                    <a:xfrm>
                      <a:off x="6005160" y="3524040"/>
                      <a:ext cx="228600" cy="22860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Text Box 142"/>
                    <p:cNvSpPr/>
                    <p:nvPr/>
                  </p:nvSpPr>
                  <p:spPr>
                    <a:xfrm>
                      <a:off x="6081120" y="3587400"/>
                      <a:ext cx="152280" cy="11412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rmAutofit fontScale="93000"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6" name="Group 143"/>
                  <p:cNvGrpSpPr/>
                  <p:nvPr/>
                </p:nvGrpSpPr>
                <p:grpSpPr>
                  <a:xfrm>
                    <a:off x="5929200" y="3752640"/>
                    <a:ext cx="228600" cy="228600"/>
                    <a:chOff x="5929200" y="3752640"/>
                    <a:chExt cx="228600" cy="228600"/>
                  </a:xfrm>
                </p:grpSpPr>
                <p:sp>
                  <p:nvSpPr>
                    <p:cNvPr id="297" name="Oval 144"/>
                    <p:cNvSpPr/>
                    <p:nvPr/>
                  </p:nvSpPr>
                  <p:spPr>
                    <a:xfrm>
                      <a:off x="5929200" y="3752640"/>
                      <a:ext cx="228600" cy="22860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Text Box 145"/>
                    <p:cNvSpPr/>
                    <p:nvPr/>
                  </p:nvSpPr>
                  <p:spPr>
                    <a:xfrm>
                      <a:off x="6005160" y="3816000"/>
                      <a:ext cx="152280" cy="11412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rmAutofit fontScale="93000"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" name="Group 146"/>
                  <p:cNvGrpSpPr/>
                  <p:nvPr/>
                </p:nvGrpSpPr>
                <p:grpSpPr>
                  <a:xfrm>
                    <a:off x="5776560" y="3867120"/>
                    <a:ext cx="228240" cy="228600"/>
                    <a:chOff x="5776560" y="3867120"/>
                    <a:chExt cx="228240" cy="228600"/>
                  </a:xfrm>
                </p:grpSpPr>
                <p:sp>
                  <p:nvSpPr>
                    <p:cNvPr id="300" name="Oval 147"/>
                    <p:cNvSpPr/>
                    <p:nvPr/>
                  </p:nvSpPr>
                  <p:spPr>
                    <a:xfrm>
                      <a:off x="5776560" y="3867120"/>
                      <a:ext cx="228240" cy="22860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Text Box 148"/>
                    <p:cNvSpPr/>
                    <p:nvPr/>
                  </p:nvSpPr>
                  <p:spPr>
                    <a:xfrm>
                      <a:off x="5852520" y="3930480"/>
                      <a:ext cx="152280" cy="11412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rmAutofit fontScale="93000"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" name="Group 149"/>
                  <p:cNvGrpSpPr/>
                  <p:nvPr/>
                </p:nvGrpSpPr>
                <p:grpSpPr>
                  <a:xfrm>
                    <a:off x="5547960" y="3981240"/>
                    <a:ext cx="228600" cy="228600"/>
                    <a:chOff x="5547960" y="3981240"/>
                    <a:chExt cx="228600" cy="228600"/>
                  </a:xfrm>
                </p:grpSpPr>
                <p:sp>
                  <p:nvSpPr>
                    <p:cNvPr id="303" name="Oval 150"/>
                    <p:cNvSpPr/>
                    <p:nvPr/>
                  </p:nvSpPr>
                  <p:spPr>
                    <a:xfrm>
                      <a:off x="5547960" y="3981240"/>
                      <a:ext cx="228600" cy="22860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Text Box 151"/>
                    <p:cNvSpPr/>
                    <p:nvPr/>
                  </p:nvSpPr>
                  <p:spPr>
                    <a:xfrm>
                      <a:off x="5623920" y="4044600"/>
                      <a:ext cx="152280" cy="11412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rmAutofit fontScale="93000"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" name="Group 152"/>
                  <p:cNvGrpSpPr/>
                  <p:nvPr/>
                </p:nvGrpSpPr>
                <p:grpSpPr>
                  <a:xfrm>
                    <a:off x="5319360" y="4095720"/>
                    <a:ext cx="228240" cy="228600"/>
                    <a:chOff x="5319360" y="4095720"/>
                    <a:chExt cx="228240" cy="228600"/>
                  </a:xfrm>
                </p:grpSpPr>
                <p:sp>
                  <p:nvSpPr>
                    <p:cNvPr id="306" name="Oval 153"/>
                    <p:cNvSpPr/>
                    <p:nvPr/>
                  </p:nvSpPr>
                  <p:spPr>
                    <a:xfrm>
                      <a:off x="5319360" y="4095720"/>
                      <a:ext cx="228240" cy="22860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Text Box 154"/>
                    <p:cNvSpPr/>
                    <p:nvPr/>
                  </p:nvSpPr>
                  <p:spPr>
                    <a:xfrm>
                      <a:off x="5395320" y="4159080"/>
                      <a:ext cx="152280" cy="11412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rmAutofit fontScale="93000"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8" name="Group 155"/>
                  <p:cNvGrpSpPr/>
                  <p:nvPr/>
                </p:nvGrpSpPr>
                <p:grpSpPr>
                  <a:xfrm>
                    <a:off x="5090760" y="4095720"/>
                    <a:ext cx="228600" cy="228600"/>
                    <a:chOff x="5090760" y="4095720"/>
                    <a:chExt cx="228600" cy="228600"/>
                  </a:xfrm>
                </p:grpSpPr>
                <p:sp>
                  <p:nvSpPr>
                    <p:cNvPr id="309" name="Oval 156"/>
                    <p:cNvSpPr/>
                    <p:nvPr/>
                  </p:nvSpPr>
                  <p:spPr>
                    <a:xfrm>
                      <a:off x="5090760" y="4095720"/>
                      <a:ext cx="228600" cy="22860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Text Box 157"/>
                    <p:cNvSpPr/>
                    <p:nvPr/>
                  </p:nvSpPr>
                  <p:spPr>
                    <a:xfrm>
                      <a:off x="5166720" y="4159080"/>
                      <a:ext cx="152280" cy="11412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rmAutofit fontScale="93000"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1" name="Group 158"/>
                  <p:cNvGrpSpPr/>
                  <p:nvPr/>
                </p:nvGrpSpPr>
                <p:grpSpPr>
                  <a:xfrm>
                    <a:off x="4938480" y="4095720"/>
                    <a:ext cx="228600" cy="228600"/>
                    <a:chOff x="4938480" y="4095720"/>
                    <a:chExt cx="228600" cy="228600"/>
                  </a:xfrm>
                </p:grpSpPr>
                <p:sp>
                  <p:nvSpPr>
                    <p:cNvPr id="312" name="Oval 159"/>
                    <p:cNvSpPr/>
                    <p:nvPr/>
                  </p:nvSpPr>
                  <p:spPr>
                    <a:xfrm>
                      <a:off x="4938480" y="4095720"/>
                      <a:ext cx="228600" cy="2286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Text Box 160"/>
                    <p:cNvSpPr/>
                    <p:nvPr/>
                  </p:nvSpPr>
                  <p:spPr>
                    <a:xfrm>
                      <a:off x="5014440" y="4159080"/>
                      <a:ext cx="152280" cy="114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rmAutofit fontScale="93000"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14" name="Text Box 161"/>
                <p:cNvSpPr/>
                <p:nvPr/>
              </p:nvSpPr>
              <p:spPr>
                <a:xfrm>
                  <a:off x="6200280" y="3107520"/>
                  <a:ext cx="15228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GreekC"/>
                    </a:rPr>
                    <a:t>σ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" name="Text Box 162"/>
              <p:cNvSpPr/>
              <p:nvPr/>
            </p:nvSpPr>
            <p:spPr>
              <a:xfrm>
                <a:off x="4695840" y="4149720"/>
                <a:ext cx="30492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3000"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PPP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6" name="Group 163"/>
              <p:cNvGrpSpPr/>
              <p:nvPr/>
            </p:nvGrpSpPr>
            <p:grpSpPr>
              <a:xfrm>
                <a:off x="5624640" y="2152440"/>
                <a:ext cx="685800" cy="800280"/>
                <a:chOff x="5624640" y="2152440"/>
                <a:chExt cx="685800" cy="800280"/>
              </a:xfrm>
            </p:grpSpPr>
            <p:sp>
              <p:nvSpPr>
                <p:cNvPr id="317" name="Line 164"/>
                <p:cNvSpPr/>
                <p:nvPr/>
              </p:nvSpPr>
              <p:spPr>
                <a:xfrm>
                  <a:off x="6310080" y="2152440"/>
                  <a:ext cx="360" cy="8002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Text Box 165"/>
                <p:cNvSpPr/>
                <p:nvPr/>
              </p:nvSpPr>
              <p:spPr>
                <a:xfrm>
                  <a:off x="5624640" y="2412720"/>
                  <a:ext cx="45684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3000"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rNTPs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Arc 166"/>
                <p:cNvSpPr/>
                <p:nvPr/>
              </p:nvSpPr>
              <p:spPr>
                <a:xfrm>
                  <a:off x="6081480" y="2495160"/>
                  <a:ext cx="228240" cy="228600"/>
                </a:xfrm>
                <a:custGeom>
                  <a:avLst/>
                  <a:gdLst>
                    <a:gd name="textAreaLeft" fmla="*/ 0 w 228240"/>
                    <a:gd name="textAreaRight" fmla="*/ 228600 w 2282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0" name="Group 167"/>
              <p:cNvGrpSpPr/>
              <p:nvPr/>
            </p:nvGrpSpPr>
            <p:grpSpPr>
              <a:xfrm>
                <a:off x="6299640" y="3867120"/>
                <a:ext cx="576000" cy="799920"/>
                <a:chOff x="6299640" y="3867120"/>
                <a:chExt cx="576000" cy="799920"/>
              </a:xfrm>
            </p:grpSpPr>
            <p:grpSp>
              <p:nvGrpSpPr>
                <p:cNvPr id="321" name="Group 168"/>
                <p:cNvGrpSpPr/>
                <p:nvPr/>
              </p:nvGrpSpPr>
              <p:grpSpPr>
                <a:xfrm>
                  <a:off x="6615000" y="4324320"/>
                  <a:ext cx="260640" cy="228600"/>
                  <a:chOff x="6615000" y="4324320"/>
                  <a:chExt cx="260640" cy="228600"/>
                </a:xfrm>
              </p:grpSpPr>
              <p:sp>
                <p:nvSpPr>
                  <p:cNvPr id="322" name="AutoShape 169"/>
                  <p:cNvSpPr/>
                  <p:nvPr/>
                </p:nvSpPr>
                <p:spPr>
                  <a:xfrm>
                    <a:off x="6615000" y="4324320"/>
                    <a:ext cx="260640" cy="228600"/>
                  </a:xfrm>
                  <a:prstGeom prst="roundRect">
                    <a:avLst>
                      <a:gd name="adj" fmla="val 16667"/>
                    </a:avLst>
                  </a:prstGeom>
                  <a:gradFill rotWithShape="0">
                    <a:gsLst>
                      <a:gs pos="0">
                        <a:srgbClr val="ffffff">
                          <a:alpha val="48235"/>
                        </a:srgbClr>
                      </a:gs>
                      <a:gs pos="100000">
                        <a:srgbClr val="767676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Text Box 170"/>
                  <p:cNvSpPr/>
                  <p:nvPr/>
                </p:nvSpPr>
                <p:spPr>
                  <a:xfrm>
                    <a:off x="6647040" y="4370040"/>
                    <a:ext cx="228240" cy="11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rmAutofit fontScale="83000"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GreekC"/>
                      </a:rPr>
                      <a:t>σ</a:t>
                    </a:r>
                    <a:endParaRPr b="0" lang="en-US" sz="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4" name="Line 171"/>
                <p:cNvSpPr/>
                <p:nvPr/>
              </p:nvSpPr>
              <p:spPr>
                <a:xfrm>
                  <a:off x="6310440" y="3867120"/>
                  <a:ext cx="360" cy="7999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Arc 172"/>
                <p:cNvSpPr/>
                <p:nvPr/>
              </p:nvSpPr>
              <p:spPr>
                <a:xfrm flipH="1" rot="16543200">
                  <a:off x="6310080" y="4209840"/>
                  <a:ext cx="228600" cy="228240"/>
                </a:xfrm>
                <a:custGeom>
                  <a:avLst/>
                  <a:gdLst>
                    <a:gd name="textAreaLeft" fmla="*/ -360 w 228600"/>
                    <a:gd name="textAreaRight" fmla="*/ 228600 w 228600"/>
                    <a:gd name="textAreaTop" fmla="*/ 0 h 228240"/>
                    <a:gd name="textAreaBottom" fmla="*/ 228600 h 22824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round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Group 173"/>
              <p:cNvGrpSpPr/>
              <p:nvPr/>
            </p:nvGrpSpPr>
            <p:grpSpPr>
              <a:xfrm>
                <a:off x="4633920" y="4667040"/>
                <a:ext cx="3001680" cy="1714680"/>
                <a:chOff x="4633920" y="4667040"/>
                <a:chExt cx="3001680" cy="1714680"/>
              </a:xfrm>
            </p:grpSpPr>
            <p:grpSp>
              <p:nvGrpSpPr>
                <p:cNvPr id="327" name="Group 174"/>
                <p:cNvGrpSpPr/>
                <p:nvPr/>
              </p:nvGrpSpPr>
              <p:grpSpPr>
                <a:xfrm>
                  <a:off x="4862160" y="5352840"/>
                  <a:ext cx="1599840" cy="1028880"/>
                  <a:chOff x="4862160" y="5352840"/>
                  <a:chExt cx="1599840" cy="1028880"/>
                </a:xfrm>
              </p:grpSpPr>
              <p:grpSp>
                <p:nvGrpSpPr>
                  <p:cNvPr id="328" name="Group 175"/>
                  <p:cNvGrpSpPr/>
                  <p:nvPr/>
                </p:nvGrpSpPr>
                <p:grpSpPr>
                  <a:xfrm>
                    <a:off x="5090760" y="5352840"/>
                    <a:ext cx="1371240" cy="1028880"/>
                    <a:chOff x="5090760" y="5352840"/>
                    <a:chExt cx="1371240" cy="1028880"/>
                  </a:xfrm>
                </p:grpSpPr>
                <p:grpSp>
                  <p:nvGrpSpPr>
                    <p:cNvPr id="329" name="Group 176"/>
                    <p:cNvGrpSpPr/>
                    <p:nvPr/>
                  </p:nvGrpSpPr>
                  <p:grpSpPr>
                    <a:xfrm>
                      <a:off x="6233760" y="5352840"/>
                      <a:ext cx="228240" cy="228600"/>
                      <a:chOff x="6233760" y="5352840"/>
                      <a:chExt cx="228240" cy="228600"/>
                    </a:xfrm>
                  </p:grpSpPr>
                  <p:sp>
                    <p:nvSpPr>
                      <p:cNvPr id="330" name="Oval 177"/>
                      <p:cNvSpPr/>
                      <p:nvPr/>
                    </p:nvSpPr>
                    <p:spPr>
                      <a:xfrm>
                        <a:off x="6233760" y="5352840"/>
                        <a:ext cx="228240" cy="22860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1" name="Text Box 178"/>
                      <p:cNvSpPr/>
                      <p:nvPr/>
                    </p:nvSpPr>
                    <p:spPr>
                      <a:xfrm>
                        <a:off x="6309720" y="5416200"/>
                        <a:ext cx="152280" cy="114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rmAutofit fontScale="93000"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N</a:t>
                        </a:r>
                        <a:endParaRPr b="0" lang="en-US" sz="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32" name="Group 179"/>
                    <p:cNvGrpSpPr/>
                    <p:nvPr/>
                  </p:nvGrpSpPr>
                  <p:grpSpPr>
                    <a:xfrm>
                      <a:off x="6157440" y="5581440"/>
                      <a:ext cx="228600" cy="228600"/>
                      <a:chOff x="6157440" y="5581440"/>
                      <a:chExt cx="228600" cy="228600"/>
                    </a:xfrm>
                  </p:grpSpPr>
                  <p:sp>
                    <p:nvSpPr>
                      <p:cNvPr id="333" name="Oval 180"/>
                      <p:cNvSpPr/>
                      <p:nvPr/>
                    </p:nvSpPr>
                    <p:spPr>
                      <a:xfrm>
                        <a:off x="6157440" y="5581440"/>
                        <a:ext cx="228600" cy="22860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4" name="Text Box 181"/>
                      <p:cNvSpPr/>
                      <p:nvPr/>
                    </p:nvSpPr>
                    <p:spPr>
                      <a:xfrm>
                        <a:off x="6233400" y="5644800"/>
                        <a:ext cx="152280" cy="114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rmAutofit fontScale="93000"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N</a:t>
                        </a:r>
                        <a:endParaRPr b="0" lang="en-US" sz="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35" name="Group 182"/>
                    <p:cNvGrpSpPr/>
                    <p:nvPr/>
                  </p:nvGrpSpPr>
                  <p:grpSpPr>
                    <a:xfrm>
                      <a:off x="6081480" y="5810040"/>
                      <a:ext cx="228600" cy="228600"/>
                      <a:chOff x="6081480" y="5810040"/>
                      <a:chExt cx="228600" cy="228600"/>
                    </a:xfrm>
                  </p:grpSpPr>
                  <p:sp>
                    <p:nvSpPr>
                      <p:cNvPr id="336" name="Oval 183"/>
                      <p:cNvSpPr/>
                      <p:nvPr/>
                    </p:nvSpPr>
                    <p:spPr>
                      <a:xfrm>
                        <a:off x="6081480" y="5810040"/>
                        <a:ext cx="228600" cy="22860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7" name="Text Box 184"/>
                      <p:cNvSpPr/>
                      <p:nvPr/>
                    </p:nvSpPr>
                    <p:spPr>
                      <a:xfrm>
                        <a:off x="6157440" y="5873400"/>
                        <a:ext cx="152280" cy="114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rmAutofit fontScale="93000"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N</a:t>
                        </a:r>
                        <a:endParaRPr b="0" lang="en-US" sz="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38" name="Group 185"/>
                    <p:cNvGrpSpPr/>
                    <p:nvPr/>
                  </p:nvGrpSpPr>
                  <p:grpSpPr>
                    <a:xfrm>
                      <a:off x="5928840" y="5924520"/>
                      <a:ext cx="228240" cy="228600"/>
                      <a:chOff x="5928840" y="5924520"/>
                      <a:chExt cx="228240" cy="228600"/>
                    </a:xfrm>
                  </p:grpSpPr>
                  <p:sp>
                    <p:nvSpPr>
                      <p:cNvPr id="339" name="Oval 186"/>
                      <p:cNvSpPr/>
                      <p:nvPr/>
                    </p:nvSpPr>
                    <p:spPr>
                      <a:xfrm>
                        <a:off x="5928840" y="5924520"/>
                        <a:ext cx="228240" cy="22860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0" name="Text Box 187"/>
                      <p:cNvSpPr/>
                      <p:nvPr/>
                    </p:nvSpPr>
                    <p:spPr>
                      <a:xfrm>
                        <a:off x="6004800" y="5987880"/>
                        <a:ext cx="152280" cy="114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rmAutofit fontScale="93000"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N</a:t>
                        </a:r>
                        <a:endParaRPr b="0" lang="en-US" sz="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41" name="Group 188"/>
                    <p:cNvGrpSpPr/>
                    <p:nvPr/>
                  </p:nvGrpSpPr>
                  <p:grpSpPr>
                    <a:xfrm>
                      <a:off x="5700240" y="6038640"/>
                      <a:ext cx="228600" cy="228600"/>
                      <a:chOff x="5700240" y="6038640"/>
                      <a:chExt cx="228600" cy="228600"/>
                    </a:xfrm>
                  </p:grpSpPr>
                  <p:sp>
                    <p:nvSpPr>
                      <p:cNvPr id="342" name="Oval 189"/>
                      <p:cNvSpPr/>
                      <p:nvPr/>
                    </p:nvSpPr>
                    <p:spPr>
                      <a:xfrm>
                        <a:off x="5700240" y="6038640"/>
                        <a:ext cx="228600" cy="22860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3" name="Text Box 190"/>
                      <p:cNvSpPr/>
                      <p:nvPr/>
                    </p:nvSpPr>
                    <p:spPr>
                      <a:xfrm>
                        <a:off x="5776200" y="6102000"/>
                        <a:ext cx="152280" cy="114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rmAutofit fontScale="93000"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N</a:t>
                        </a:r>
                        <a:endParaRPr b="0" lang="en-US" sz="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44" name="Group 191"/>
                    <p:cNvGrpSpPr/>
                    <p:nvPr/>
                  </p:nvGrpSpPr>
                  <p:grpSpPr>
                    <a:xfrm>
                      <a:off x="5471640" y="6153120"/>
                      <a:ext cx="228240" cy="228600"/>
                      <a:chOff x="5471640" y="6153120"/>
                      <a:chExt cx="228240" cy="228600"/>
                    </a:xfrm>
                  </p:grpSpPr>
                  <p:sp>
                    <p:nvSpPr>
                      <p:cNvPr id="345" name="Oval 192"/>
                      <p:cNvSpPr/>
                      <p:nvPr/>
                    </p:nvSpPr>
                    <p:spPr>
                      <a:xfrm>
                        <a:off x="5471640" y="6153120"/>
                        <a:ext cx="228240" cy="22860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6" name="Text Box 193"/>
                      <p:cNvSpPr/>
                      <p:nvPr/>
                    </p:nvSpPr>
                    <p:spPr>
                      <a:xfrm>
                        <a:off x="5547600" y="6216480"/>
                        <a:ext cx="152280" cy="114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rmAutofit fontScale="93000"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N</a:t>
                        </a:r>
                        <a:endParaRPr b="0" lang="en-US" sz="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47" name="Group 194"/>
                    <p:cNvGrpSpPr/>
                    <p:nvPr/>
                  </p:nvGrpSpPr>
                  <p:grpSpPr>
                    <a:xfrm>
                      <a:off x="5243040" y="6153120"/>
                      <a:ext cx="228600" cy="228600"/>
                      <a:chOff x="5243040" y="6153120"/>
                      <a:chExt cx="228600" cy="228600"/>
                    </a:xfrm>
                  </p:grpSpPr>
                  <p:sp>
                    <p:nvSpPr>
                      <p:cNvPr id="348" name="Oval 195"/>
                      <p:cNvSpPr/>
                      <p:nvPr/>
                    </p:nvSpPr>
                    <p:spPr>
                      <a:xfrm>
                        <a:off x="5243040" y="6153120"/>
                        <a:ext cx="228600" cy="22860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9" name="Text Box 196"/>
                      <p:cNvSpPr/>
                      <p:nvPr/>
                    </p:nvSpPr>
                    <p:spPr>
                      <a:xfrm>
                        <a:off x="5319000" y="6216480"/>
                        <a:ext cx="152280" cy="1141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rmAutofit fontScale="93000"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N</a:t>
                        </a:r>
                        <a:endParaRPr b="0" lang="en-US" sz="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50" name="Group 197"/>
                    <p:cNvGrpSpPr/>
                    <p:nvPr/>
                  </p:nvGrpSpPr>
                  <p:grpSpPr>
                    <a:xfrm>
                      <a:off x="5090760" y="6153120"/>
                      <a:ext cx="228600" cy="228600"/>
                      <a:chOff x="5090760" y="6153120"/>
                      <a:chExt cx="228600" cy="228600"/>
                    </a:xfrm>
                  </p:grpSpPr>
                  <p:sp>
                    <p:nvSpPr>
                      <p:cNvPr id="351" name="Oval 198"/>
                      <p:cNvSpPr/>
                      <p:nvPr/>
                    </p:nvSpPr>
                    <p:spPr>
                      <a:xfrm>
                        <a:off x="5090760" y="6153120"/>
                        <a:ext cx="228600" cy="2286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2" name="Text Box 199"/>
                      <p:cNvSpPr/>
                      <p:nvPr/>
                    </p:nvSpPr>
                    <p:spPr>
                      <a:xfrm>
                        <a:off x="5166720" y="6216480"/>
                        <a:ext cx="152280" cy="114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rmAutofit fontScale="93000"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Pu</a:t>
                        </a:r>
                        <a:endParaRPr b="0" lang="en-US" sz="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53" name="Text Box 200"/>
                  <p:cNvSpPr/>
                  <p:nvPr/>
                </p:nvSpPr>
                <p:spPr>
                  <a:xfrm>
                    <a:off x="4862160" y="6193800"/>
                    <a:ext cx="304560" cy="11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rmAutofit fontScale="83000"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PPP</a:t>
                    </a:r>
                    <a:endParaRPr b="0" lang="en-US" sz="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4" name="Group 201"/>
                <p:cNvGrpSpPr/>
                <p:nvPr/>
              </p:nvGrpSpPr>
              <p:grpSpPr>
                <a:xfrm>
                  <a:off x="4633920" y="4667040"/>
                  <a:ext cx="3001680" cy="800280"/>
                  <a:chOff x="4633920" y="4667040"/>
                  <a:chExt cx="3001680" cy="800280"/>
                </a:xfrm>
              </p:grpSpPr>
              <p:sp>
                <p:nvSpPr>
                  <p:cNvPr id="355" name="Text Box 202"/>
                  <p:cNvSpPr/>
                  <p:nvPr/>
                </p:nvSpPr>
                <p:spPr>
                  <a:xfrm>
                    <a:off x="4633920" y="4964040"/>
                    <a:ext cx="152280" cy="159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rm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5’</a:t>
                    </a:r>
                    <a:endParaRPr b="0" lang="en-US" sz="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Text Box 203"/>
                  <p:cNvSpPr/>
                  <p:nvPr/>
                </p:nvSpPr>
                <p:spPr>
                  <a:xfrm>
                    <a:off x="4633920" y="5124240"/>
                    <a:ext cx="15228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rm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3’</a:t>
                    </a:r>
                    <a:endParaRPr b="0" lang="en-US" sz="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7" name="Group 204"/>
                  <p:cNvGrpSpPr/>
                  <p:nvPr/>
                </p:nvGrpSpPr>
                <p:grpSpPr>
                  <a:xfrm>
                    <a:off x="4832640" y="4667040"/>
                    <a:ext cx="2802960" cy="800280"/>
                    <a:chOff x="4832640" y="4667040"/>
                    <a:chExt cx="2802960" cy="800280"/>
                  </a:xfrm>
                </p:grpSpPr>
                <p:grpSp>
                  <p:nvGrpSpPr>
                    <p:cNvPr id="358" name="Group 205"/>
                    <p:cNvGrpSpPr/>
                    <p:nvPr/>
                  </p:nvGrpSpPr>
                  <p:grpSpPr>
                    <a:xfrm>
                      <a:off x="4832640" y="5009760"/>
                      <a:ext cx="563040" cy="182880"/>
                      <a:chOff x="4832640" y="5009760"/>
                      <a:chExt cx="563040" cy="182880"/>
                    </a:xfrm>
                  </p:grpSpPr>
                  <p:sp>
                    <p:nvSpPr>
                      <p:cNvPr id="359" name="Rectangle 206"/>
                      <p:cNvSpPr/>
                      <p:nvPr/>
                    </p:nvSpPr>
                    <p:spPr>
                      <a:xfrm>
                        <a:off x="4832640" y="5009760"/>
                        <a:ext cx="563040" cy="7128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480" bIns="2448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60" name="Rectangle 207"/>
                      <p:cNvSpPr/>
                      <p:nvPr/>
                    </p:nvSpPr>
                    <p:spPr>
                      <a:xfrm>
                        <a:off x="4832640" y="5121360"/>
                        <a:ext cx="563040" cy="7128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480" bIns="2448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61" name="Group 208"/>
                    <p:cNvGrpSpPr/>
                    <p:nvPr/>
                  </p:nvGrpSpPr>
                  <p:grpSpPr>
                    <a:xfrm>
                      <a:off x="5929200" y="4667040"/>
                      <a:ext cx="1706400" cy="800280"/>
                      <a:chOff x="5929200" y="4667040"/>
                      <a:chExt cx="1706400" cy="800280"/>
                    </a:xfrm>
                  </p:grpSpPr>
                  <p:grpSp>
                    <p:nvGrpSpPr>
                      <p:cNvPr id="362" name="Group 209"/>
                      <p:cNvGrpSpPr/>
                      <p:nvPr/>
                    </p:nvGrpSpPr>
                    <p:grpSpPr>
                      <a:xfrm>
                        <a:off x="5929200" y="5009760"/>
                        <a:ext cx="411480" cy="186840"/>
                        <a:chOff x="5929200" y="5009760"/>
                        <a:chExt cx="411480" cy="186840"/>
                      </a:xfrm>
                    </p:grpSpPr>
                    <p:sp>
                      <p:nvSpPr>
                        <p:cNvPr id="363" name="Rectangle 210"/>
                        <p:cNvSpPr/>
                        <p:nvPr/>
                      </p:nvSpPr>
                      <p:spPr>
                        <a:xfrm>
                          <a:off x="5929200" y="5009760"/>
                          <a:ext cx="411480" cy="7272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920" bIns="25920" anchor="t">
                          <a:norm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4" name="Rectangle 211"/>
                        <p:cNvSpPr/>
                        <p:nvPr/>
                      </p:nvSpPr>
                      <p:spPr>
                        <a:xfrm>
                          <a:off x="5929200" y="5123880"/>
                          <a:ext cx="411480" cy="7272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920" bIns="25920" anchor="t">
                          <a:norm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65" name="AutoShape 212"/>
                      <p:cNvSpPr/>
                      <p:nvPr/>
                    </p:nvSpPr>
                    <p:spPr>
                      <a:xfrm>
                        <a:off x="6264360" y="4844520"/>
                        <a:ext cx="380880" cy="228600"/>
                      </a:xfrm>
                      <a:custGeom>
                        <a:avLst/>
                        <a:gdLst>
                          <a:gd name="textAreaLeft" fmla="*/ 218880 w 380880"/>
                          <a:gd name="textAreaRight" fmla="*/ 321480 w 380880"/>
                          <a:gd name="textAreaTop" fmla="*/ 30960 h 228600"/>
                          <a:gd name="textAreaBottom" fmla="*/ 97920 h 22860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6079"/>
                            </a:moveTo>
                            <a:lnTo>
                              <a:pt x="15126" y="0"/>
                            </a:lnTo>
                            <a:lnTo>
                              <a:pt x="15126" y="2912"/>
                            </a:lnTo>
                            <a:lnTo>
                              <a:pt x="12427" y="2912"/>
                            </a:lnTo>
                            <a:cubicBezTo>
                              <a:pt x="5564" y="2912"/>
                              <a:pt x="0" y="7052"/>
                              <a:pt x="0" y="12158"/>
                            </a:cubicBezTo>
                            <a:lnTo>
                              <a:pt x="0" y="21600"/>
                            </a:lnTo>
                            <a:lnTo>
                              <a:pt x="6474" y="21600"/>
                            </a:lnTo>
                            <a:lnTo>
                              <a:pt x="6474" y="12158"/>
                            </a:lnTo>
                            <a:cubicBezTo>
                              <a:pt x="6474" y="10550"/>
                              <a:pt x="9139" y="9246"/>
                              <a:pt x="12427" y="9246"/>
                            </a:cubicBezTo>
                            <a:lnTo>
                              <a:pt x="15126" y="9246"/>
                            </a:lnTo>
                            <a:lnTo>
                              <a:pt x="15126" y="12158"/>
                            </a:lnTo>
                            <a:lnTo>
                              <a:pt x="21600" y="6079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160" bIns="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66" name="AutoShape 213"/>
                      <p:cNvSpPr/>
                      <p:nvPr/>
                    </p:nvSpPr>
                    <p:spPr>
                      <a:xfrm flipH="1" rot="10819200">
                        <a:off x="6264360" y="5122800"/>
                        <a:ext cx="380880" cy="228600"/>
                      </a:xfrm>
                      <a:custGeom>
                        <a:avLst/>
                        <a:gdLst>
                          <a:gd name="textAreaLeft" fmla="*/ 219240 w 380880"/>
                          <a:gd name="textAreaRight" fmla="*/ 321840 w 380880"/>
                          <a:gd name="textAreaTop" fmla="*/ 30960 h 228600"/>
                          <a:gd name="textAreaBottom" fmla="*/ 97920 h 22860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6079"/>
                            </a:moveTo>
                            <a:lnTo>
                              <a:pt x="15126" y="0"/>
                            </a:lnTo>
                            <a:lnTo>
                              <a:pt x="15126" y="2912"/>
                            </a:lnTo>
                            <a:lnTo>
                              <a:pt x="12427" y="2912"/>
                            </a:lnTo>
                            <a:cubicBezTo>
                              <a:pt x="5564" y="2912"/>
                              <a:pt x="0" y="7052"/>
                              <a:pt x="0" y="12158"/>
                            </a:cubicBezTo>
                            <a:lnTo>
                              <a:pt x="0" y="21600"/>
                            </a:lnTo>
                            <a:lnTo>
                              <a:pt x="6474" y="21600"/>
                            </a:lnTo>
                            <a:lnTo>
                              <a:pt x="6474" y="12158"/>
                            </a:lnTo>
                            <a:cubicBezTo>
                              <a:pt x="6474" y="10550"/>
                              <a:pt x="9139" y="9246"/>
                              <a:pt x="12427" y="9246"/>
                            </a:cubicBezTo>
                            <a:lnTo>
                              <a:pt x="15126" y="9246"/>
                            </a:lnTo>
                            <a:lnTo>
                              <a:pt x="15126" y="12158"/>
                            </a:lnTo>
                            <a:lnTo>
                              <a:pt x="21600" y="6079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160" bIns="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67" name="Group 214"/>
                      <p:cNvGrpSpPr/>
                      <p:nvPr/>
                    </p:nvGrpSpPr>
                    <p:grpSpPr>
                      <a:xfrm>
                        <a:off x="6721560" y="4844520"/>
                        <a:ext cx="914040" cy="511920"/>
                        <a:chOff x="6721560" y="4844520"/>
                        <a:chExt cx="914040" cy="511920"/>
                      </a:xfrm>
                    </p:grpSpPr>
                    <p:grpSp>
                      <p:nvGrpSpPr>
                        <p:cNvPr id="368" name="Group 215"/>
                        <p:cNvGrpSpPr/>
                        <p:nvPr/>
                      </p:nvGrpSpPr>
                      <p:grpSpPr>
                        <a:xfrm>
                          <a:off x="7063200" y="4963680"/>
                          <a:ext cx="572400" cy="274320"/>
                          <a:chOff x="7063200" y="4963680"/>
                          <a:chExt cx="572400" cy="274320"/>
                        </a:xfrm>
                      </p:grpSpPr>
                      <p:sp>
                        <p:nvSpPr>
                          <p:cNvPr id="369" name="Text Box 216"/>
                          <p:cNvSpPr/>
                          <p:nvPr/>
                        </p:nvSpPr>
                        <p:spPr>
                          <a:xfrm>
                            <a:off x="7607520" y="5123880"/>
                            <a:ext cx="28080" cy="114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0" rIns="0" tIns="0" bIns="0" anchor="t">
                            <a:normAutofit fontScale="47000"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r>
                              <a:rPr b="1" lang="en-US" sz="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5’</a:t>
                            </a:r>
                            <a:endParaRPr b="0" lang="en-US" sz="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70" name="Text Box 217"/>
                          <p:cNvSpPr/>
                          <p:nvPr/>
                        </p:nvSpPr>
                        <p:spPr>
                          <a:xfrm>
                            <a:off x="7607520" y="4963680"/>
                            <a:ext cx="28080" cy="114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0" rIns="0" tIns="0" bIns="0" anchor="t">
                            <a:normAutofit fontScale="47000"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r>
                              <a:rPr b="1" lang="en-US" sz="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3’</a:t>
                            </a:r>
                            <a:endParaRPr b="0" lang="en-US" sz="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371" name="Group 218"/>
                          <p:cNvGrpSpPr/>
                          <p:nvPr/>
                        </p:nvGrpSpPr>
                        <p:grpSpPr>
                          <a:xfrm>
                            <a:off x="7063200" y="5009400"/>
                            <a:ext cx="522000" cy="186840"/>
                            <a:chOff x="7063200" y="5009400"/>
                            <a:chExt cx="522000" cy="186840"/>
                          </a:xfrm>
                        </p:grpSpPr>
                        <p:sp>
                          <p:nvSpPr>
                            <p:cNvPr id="372" name="Rectangle 219"/>
                            <p:cNvSpPr/>
                            <p:nvPr/>
                          </p:nvSpPr>
                          <p:spPr>
                            <a:xfrm>
                              <a:off x="7063200" y="5009400"/>
                              <a:ext cx="522000" cy="7272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5920" bIns="25920" anchor="t">
                              <a:norm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73" name="Rectangle 220"/>
                            <p:cNvSpPr/>
                            <p:nvPr/>
                          </p:nvSpPr>
                          <p:spPr>
                            <a:xfrm>
                              <a:off x="7063200" y="5123520"/>
                              <a:ext cx="522000" cy="7272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5920" bIns="25920" anchor="t">
                              <a:norm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374" name="AutoShape 221"/>
                        <p:cNvSpPr/>
                        <p:nvPr/>
                      </p:nvSpPr>
                      <p:spPr>
                        <a:xfrm flipH="1">
                          <a:off x="6721560" y="4844520"/>
                          <a:ext cx="380880" cy="228600"/>
                        </a:xfrm>
                        <a:custGeom>
                          <a:avLst/>
                          <a:gdLst>
                            <a:gd name="textAreaLeft" fmla="*/ 219240 w 380880"/>
                            <a:gd name="textAreaRight" fmla="*/ 321840 w 380880"/>
                            <a:gd name="textAreaTop" fmla="*/ 30960 h 228600"/>
                            <a:gd name="textAreaBottom" fmla="*/ 97920 h 22860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6079"/>
                              </a:moveTo>
                              <a:lnTo>
                                <a:pt x="15126" y="0"/>
                              </a:lnTo>
                              <a:lnTo>
                                <a:pt x="15126" y="2912"/>
                              </a:lnTo>
                              <a:lnTo>
                                <a:pt x="12427" y="2912"/>
                              </a:lnTo>
                              <a:cubicBezTo>
                                <a:pt x="5564" y="2912"/>
                                <a:pt x="0" y="7052"/>
                                <a:pt x="0" y="12158"/>
                              </a:cubicBezTo>
                              <a:lnTo>
                                <a:pt x="0" y="21600"/>
                              </a:lnTo>
                              <a:lnTo>
                                <a:pt x="6474" y="21600"/>
                              </a:lnTo>
                              <a:lnTo>
                                <a:pt x="6474" y="12158"/>
                              </a:lnTo>
                              <a:cubicBezTo>
                                <a:pt x="6474" y="10550"/>
                                <a:pt x="9139" y="9246"/>
                                <a:pt x="12427" y="9246"/>
                              </a:cubicBezTo>
                              <a:lnTo>
                                <a:pt x="15126" y="9246"/>
                              </a:lnTo>
                              <a:lnTo>
                                <a:pt x="15126" y="12158"/>
                              </a:lnTo>
                              <a:lnTo>
                                <a:pt x="21600" y="607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160" bIns="20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5" name="AutoShape 222"/>
                        <p:cNvSpPr/>
                        <p:nvPr/>
                      </p:nvSpPr>
                      <p:spPr>
                        <a:xfrm rot="10800000">
                          <a:off x="6721560" y="5127840"/>
                          <a:ext cx="380880" cy="228600"/>
                        </a:xfrm>
                        <a:custGeom>
                          <a:avLst/>
                          <a:gdLst>
                            <a:gd name="textAreaLeft" fmla="*/ 218880 w 380880"/>
                            <a:gd name="textAreaRight" fmla="*/ 321480 w 380880"/>
                            <a:gd name="textAreaTop" fmla="*/ 30960 h 228600"/>
                            <a:gd name="textAreaBottom" fmla="*/ 97920 h 22860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6079"/>
                              </a:moveTo>
                              <a:lnTo>
                                <a:pt x="15126" y="0"/>
                              </a:lnTo>
                              <a:lnTo>
                                <a:pt x="15126" y="2912"/>
                              </a:lnTo>
                              <a:lnTo>
                                <a:pt x="12427" y="2912"/>
                              </a:lnTo>
                              <a:cubicBezTo>
                                <a:pt x="5564" y="2912"/>
                                <a:pt x="0" y="7052"/>
                                <a:pt x="0" y="12158"/>
                              </a:cubicBezTo>
                              <a:lnTo>
                                <a:pt x="0" y="21600"/>
                              </a:lnTo>
                              <a:lnTo>
                                <a:pt x="6474" y="21600"/>
                              </a:lnTo>
                              <a:lnTo>
                                <a:pt x="6474" y="12158"/>
                              </a:lnTo>
                              <a:cubicBezTo>
                                <a:pt x="6474" y="10550"/>
                                <a:pt x="9139" y="9246"/>
                                <a:pt x="12427" y="9246"/>
                              </a:cubicBezTo>
                              <a:lnTo>
                                <a:pt x="15126" y="9246"/>
                              </a:lnTo>
                              <a:lnTo>
                                <a:pt x="15126" y="12158"/>
                              </a:lnTo>
                              <a:lnTo>
                                <a:pt x="21600" y="607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160" bIns="20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76" name="Oval 223"/>
                      <p:cNvSpPr/>
                      <p:nvPr/>
                    </p:nvSpPr>
                    <p:spPr>
                      <a:xfrm>
                        <a:off x="6492960" y="4667040"/>
                        <a:ext cx="435600" cy="80028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767676"/>
                          </a:gs>
                          <a:gs pos="100000">
                            <a:srgbClr val="ffffff"/>
                          </a:gs>
                        </a:gsLst>
                        <a:lin ang="189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77" name="Group 224"/>
                    <p:cNvGrpSpPr/>
                    <p:nvPr/>
                  </p:nvGrpSpPr>
                  <p:grpSpPr>
                    <a:xfrm>
                      <a:off x="5365800" y="5009760"/>
                      <a:ext cx="658440" cy="182880"/>
                      <a:chOff x="5365800" y="5009760"/>
                      <a:chExt cx="658440" cy="182880"/>
                    </a:xfrm>
                  </p:grpSpPr>
                  <p:sp>
                    <p:nvSpPr>
                      <p:cNvPr id="378" name="Rectangle 225"/>
                      <p:cNvSpPr/>
                      <p:nvPr/>
                    </p:nvSpPr>
                    <p:spPr>
                      <a:xfrm>
                        <a:off x="5365800" y="5009760"/>
                        <a:ext cx="658440" cy="71280"/>
                      </a:xfrm>
                      <a:prstGeom prst="rect">
                        <a:avLst/>
                      </a:prstGeom>
                      <a:blipFill rotWithShape="0">
                        <a:blip r:embed="rId17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480" bIns="2448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9" name="Rectangle 226"/>
                      <p:cNvSpPr/>
                      <p:nvPr/>
                    </p:nvSpPr>
                    <p:spPr>
                      <a:xfrm>
                        <a:off x="5365800" y="5121360"/>
                        <a:ext cx="658440" cy="71280"/>
                      </a:xfrm>
                      <a:prstGeom prst="rect">
                        <a:avLst/>
                      </a:prstGeom>
                      <a:blipFill rotWithShape="0">
                        <a:blip r:embed="rId18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480" bIns="2448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380" name="AutoShape 227"/>
                <p:cNvSpPr/>
                <p:nvPr/>
              </p:nvSpPr>
              <p:spPr>
                <a:xfrm rot="18891000">
                  <a:off x="6352920" y="5148720"/>
                  <a:ext cx="548640" cy="114120"/>
                </a:xfrm>
                <a:prstGeom prst="flowChartPunchedTape">
                  <a:avLst/>
                </a:prstGeom>
                <a:solidFill>
                  <a:srgbClr val="969696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rm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1" name="Group 228"/>
              <p:cNvGrpSpPr/>
              <p:nvPr/>
            </p:nvGrpSpPr>
            <p:grpSpPr>
              <a:xfrm>
                <a:off x="4633920" y="1276200"/>
                <a:ext cx="3428640" cy="800280"/>
                <a:chOff x="4633920" y="1276200"/>
                <a:chExt cx="3428640" cy="800280"/>
              </a:xfrm>
            </p:grpSpPr>
            <p:grpSp>
              <p:nvGrpSpPr>
                <p:cNvPr id="382" name="Group 229"/>
                <p:cNvGrpSpPr/>
                <p:nvPr/>
              </p:nvGrpSpPr>
              <p:grpSpPr>
                <a:xfrm>
                  <a:off x="4633920" y="1276200"/>
                  <a:ext cx="3428640" cy="800280"/>
                  <a:chOff x="4633920" y="1276200"/>
                  <a:chExt cx="3428640" cy="800280"/>
                </a:xfrm>
              </p:grpSpPr>
              <p:grpSp>
                <p:nvGrpSpPr>
                  <p:cNvPr id="383" name="Group 230"/>
                  <p:cNvGrpSpPr/>
                  <p:nvPr/>
                </p:nvGrpSpPr>
                <p:grpSpPr>
                  <a:xfrm>
                    <a:off x="4633920" y="1276200"/>
                    <a:ext cx="3428640" cy="800280"/>
                    <a:chOff x="4633920" y="1276200"/>
                    <a:chExt cx="3428640" cy="800280"/>
                  </a:xfrm>
                </p:grpSpPr>
                <p:grpSp>
                  <p:nvGrpSpPr>
                    <p:cNvPr id="384" name="Group 231"/>
                    <p:cNvGrpSpPr/>
                    <p:nvPr/>
                  </p:nvGrpSpPr>
                  <p:grpSpPr>
                    <a:xfrm>
                      <a:off x="4633920" y="1453680"/>
                      <a:ext cx="1296000" cy="507960"/>
                      <a:chOff x="4633920" y="1453680"/>
                      <a:chExt cx="1296000" cy="507960"/>
                    </a:xfrm>
                  </p:grpSpPr>
                  <p:grpSp>
                    <p:nvGrpSpPr>
                      <p:cNvPr id="385" name="Group 232"/>
                      <p:cNvGrpSpPr/>
                      <p:nvPr/>
                    </p:nvGrpSpPr>
                    <p:grpSpPr>
                      <a:xfrm>
                        <a:off x="4633920" y="1573200"/>
                        <a:ext cx="990360" cy="388440"/>
                        <a:chOff x="4633920" y="1573200"/>
                        <a:chExt cx="990360" cy="388440"/>
                      </a:xfrm>
                    </p:grpSpPr>
                    <p:grpSp>
                      <p:nvGrpSpPr>
                        <p:cNvPr id="386" name="Group 233"/>
                        <p:cNvGrpSpPr/>
                        <p:nvPr/>
                      </p:nvGrpSpPr>
                      <p:grpSpPr>
                        <a:xfrm>
                          <a:off x="4754880" y="1618560"/>
                          <a:ext cx="822960" cy="186840"/>
                          <a:chOff x="4754880" y="1618560"/>
                          <a:chExt cx="822960" cy="186840"/>
                        </a:xfrm>
                      </p:grpSpPr>
                      <p:sp>
                        <p:nvSpPr>
                          <p:cNvPr id="387" name="Rectangle 234"/>
                          <p:cNvSpPr/>
                          <p:nvPr/>
                        </p:nvSpPr>
                        <p:spPr>
                          <a:xfrm>
                            <a:off x="4754880" y="1618560"/>
                            <a:ext cx="822960" cy="72720"/>
                          </a:xfrm>
                          <a:prstGeom prst="rect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5920" bIns="25920" anchor="t">
                            <a:norm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88" name="Rectangle 235"/>
                          <p:cNvSpPr/>
                          <p:nvPr/>
                        </p:nvSpPr>
                        <p:spPr>
                          <a:xfrm>
                            <a:off x="4754880" y="1732680"/>
                            <a:ext cx="822960" cy="72720"/>
                          </a:xfrm>
                          <a:prstGeom prst="rect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5920" bIns="25920" anchor="t">
                            <a:norm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89" name="Text Box 236"/>
                        <p:cNvSpPr/>
                        <p:nvPr/>
                      </p:nvSpPr>
                      <p:spPr>
                        <a:xfrm>
                          <a:off x="4633920" y="1573200"/>
                          <a:ext cx="152280" cy="1598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rm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r>
                            <a:rPr b="1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5’</a:t>
                          </a:r>
                          <a:endParaRPr b="0" lang="en-US" sz="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0" name="Text Box 237"/>
                        <p:cNvSpPr/>
                        <p:nvPr/>
                      </p:nvSpPr>
                      <p:spPr>
                        <a:xfrm>
                          <a:off x="4633920" y="1733040"/>
                          <a:ext cx="152280" cy="228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rm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r>
                            <a:rPr b="1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3’</a:t>
                          </a:r>
                          <a:endParaRPr b="0" lang="en-US" sz="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391" name="Group 238"/>
                        <p:cNvGrpSpPr/>
                        <p:nvPr/>
                      </p:nvGrpSpPr>
                      <p:grpSpPr>
                        <a:xfrm>
                          <a:off x="5212800" y="1618560"/>
                          <a:ext cx="411480" cy="186840"/>
                          <a:chOff x="5212800" y="1618560"/>
                          <a:chExt cx="411480" cy="186840"/>
                        </a:xfrm>
                      </p:grpSpPr>
                      <p:sp>
                        <p:nvSpPr>
                          <p:cNvPr id="392" name="Rectangle 239"/>
                          <p:cNvSpPr/>
                          <p:nvPr/>
                        </p:nvSpPr>
                        <p:spPr>
                          <a:xfrm>
                            <a:off x="5212800" y="1618560"/>
                            <a:ext cx="411480" cy="72720"/>
                          </a:xfrm>
                          <a:prstGeom prst="rect">
                            <a:avLst/>
                          </a:prstGeom>
                          <a:blipFill rotWithShape="0">
                            <a:blip r:embed="rId19"/>
                            <a:srcRect/>
                            <a:tile tx="0" ty="0" sx="100000" sy="100000" algn="ctr"/>
                          </a:blip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5920" bIns="25920" anchor="t">
                            <a:norm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93" name="Rectangle 240"/>
                          <p:cNvSpPr/>
                          <p:nvPr/>
                        </p:nvSpPr>
                        <p:spPr>
                          <a:xfrm>
                            <a:off x="5212800" y="1732680"/>
                            <a:ext cx="411480" cy="72720"/>
                          </a:xfrm>
                          <a:prstGeom prst="rect">
                            <a:avLst/>
                          </a:prstGeom>
                          <a:blipFill rotWithShape="0">
                            <a:blip r:embed="rId20"/>
                            <a:srcRect/>
                            <a:tile tx="0" ty="0" sx="100000" sy="100000" algn="ctr"/>
                          </a:blip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5920" bIns="25920" anchor="t">
                            <a:norm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394" name="AutoShape 241"/>
                      <p:cNvSpPr/>
                      <p:nvPr/>
                    </p:nvSpPr>
                    <p:spPr>
                      <a:xfrm>
                        <a:off x="5548320" y="1453680"/>
                        <a:ext cx="380880" cy="228600"/>
                      </a:xfrm>
                      <a:custGeom>
                        <a:avLst/>
                        <a:gdLst>
                          <a:gd name="textAreaLeft" fmla="*/ 218880 w 380880"/>
                          <a:gd name="textAreaRight" fmla="*/ 321480 w 380880"/>
                          <a:gd name="textAreaTop" fmla="*/ 30960 h 228600"/>
                          <a:gd name="textAreaBottom" fmla="*/ 97920 h 22860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6079"/>
                            </a:moveTo>
                            <a:lnTo>
                              <a:pt x="15126" y="0"/>
                            </a:lnTo>
                            <a:lnTo>
                              <a:pt x="15126" y="2912"/>
                            </a:lnTo>
                            <a:lnTo>
                              <a:pt x="12427" y="2912"/>
                            </a:lnTo>
                            <a:cubicBezTo>
                              <a:pt x="5564" y="2912"/>
                              <a:pt x="0" y="7052"/>
                              <a:pt x="0" y="12158"/>
                            </a:cubicBezTo>
                            <a:lnTo>
                              <a:pt x="0" y="21600"/>
                            </a:lnTo>
                            <a:lnTo>
                              <a:pt x="6474" y="21600"/>
                            </a:lnTo>
                            <a:lnTo>
                              <a:pt x="6474" y="12158"/>
                            </a:lnTo>
                            <a:cubicBezTo>
                              <a:pt x="6474" y="10550"/>
                              <a:pt x="9139" y="9246"/>
                              <a:pt x="12427" y="9246"/>
                            </a:cubicBezTo>
                            <a:lnTo>
                              <a:pt x="15126" y="9246"/>
                            </a:lnTo>
                            <a:lnTo>
                              <a:pt x="15126" y="12158"/>
                            </a:lnTo>
                            <a:lnTo>
                              <a:pt x="21600" y="6079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21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160" bIns="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5" name="AutoShape 242"/>
                      <p:cNvSpPr/>
                      <p:nvPr/>
                    </p:nvSpPr>
                    <p:spPr>
                      <a:xfrm flipH="1" rot="10819200">
                        <a:off x="5548320" y="1731600"/>
                        <a:ext cx="380880" cy="228600"/>
                      </a:xfrm>
                      <a:custGeom>
                        <a:avLst/>
                        <a:gdLst>
                          <a:gd name="textAreaLeft" fmla="*/ 219240 w 380880"/>
                          <a:gd name="textAreaRight" fmla="*/ 321840 w 380880"/>
                          <a:gd name="textAreaTop" fmla="*/ 30960 h 228600"/>
                          <a:gd name="textAreaBottom" fmla="*/ 97920 h 22860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6079"/>
                            </a:moveTo>
                            <a:lnTo>
                              <a:pt x="15126" y="0"/>
                            </a:lnTo>
                            <a:lnTo>
                              <a:pt x="15126" y="2912"/>
                            </a:lnTo>
                            <a:lnTo>
                              <a:pt x="12427" y="2912"/>
                            </a:lnTo>
                            <a:cubicBezTo>
                              <a:pt x="5564" y="2912"/>
                              <a:pt x="0" y="7052"/>
                              <a:pt x="0" y="12158"/>
                            </a:cubicBezTo>
                            <a:lnTo>
                              <a:pt x="0" y="21600"/>
                            </a:lnTo>
                            <a:lnTo>
                              <a:pt x="6474" y="21600"/>
                            </a:lnTo>
                            <a:lnTo>
                              <a:pt x="6474" y="12158"/>
                            </a:lnTo>
                            <a:cubicBezTo>
                              <a:pt x="6474" y="10550"/>
                              <a:pt x="9139" y="9246"/>
                              <a:pt x="12427" y="9246"/>
                            </a:cubicBezTo>
                            <a:lnTo>
                              <a:pt x="15126" y="9246"/>
                            </a:lnTo>
                            <a:lnTo>
                              <a:pt x="15126" y="12158"/>
                            </a:lnTo>
                            <a:lnTo>
                              <a:pt x="21600" y="6079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22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160" bIns="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96" name="Group 243"/>
                    <p:cNvGrpSpPr/>
                    <p:nvPr/>
                  </p:nvGrpSpPr>
                  <p:grpSpPr>
                    <a:xfrm>
                      <a:off x="6005520" y="1453680"/>
                      <a:ext cx="2057040" cy="512280"/>
                      <a:chOff x="6005520" y="1453680"/>
                      <a:chExt cx="2057040" cy="512280"/>
                    </a:xfrm>
                  </p:grpSpPr>
                  <p:grpSp>
                    <p:nvGrpSpPr>
                      <p:cNvPr id="397" name="Group 244"/>
                      <p:cNvGrpSpPr/>
                      <p:nvPr/>
                    </p:nvGrpSpPr>
                    <p:grpSpPr>
                      <a:xfrm>
                        <a:off x="6346800" y="1573200"/>
                        <a:ext cx="1715760" cy="274320"/>
                        <a:chOff x="6346800" y="1573200"/>
                        <a:chExt cx="1715760" cy="274320"/>
                      </a:xfrm>
                    </p:grpSpPr>
                    <p:sp>
                      <p:nvSpPr>
                        <p:cNvPr id="398" name="Text Box 245"/>
                        <p:cNvSpPr/>
                        <p:nvPr/>
                      </p:nvSpPr>
                      <p:spPr>
                        <a:xfrm>
                          <a:off x="7977600" y="1733400"/>
                          <a:ext cx="84960" cy="1141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0" rIns="0" tIns="0" bIns="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r>
                            <a:rPr b="1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5’</a:t>
                          </a:r>
                          <a:endParaRPr b="0" lang="en-US" sz="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9" name="Text Box 246"/>
                        <p:cNvSpPr/>
                        <p:nvPr/>
                      </p:nvSpPr>
                      <p:spPr>
                        <a:xfrm>
                          <a:off x="7977600" y="1573200"/>
                          <a:ext cx="84960" cy="1141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0" rIns="0" tIns="0" bIns="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r>
                            <a:rPr b="1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3’</a:t>
                          </a:r>
                          <a:endParaRPr b="0" lang="en-US" sz="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00" name="Group 247"/>
                        <p:cNvGrpSpPr/>
                        <p:nvPr/>
                      </p:nvGrpSpPr>
                      <p:grpSpPr>
                        <a:xfrm>
                          <a:off x="6346800" y="1618920"/>
                          <a:ext cx="1563480" cy="186840"/>
                          <a:chOff x="6346800" y="1618920"/>
                          <a:chExt cx="1563480" cy="186840"/>
                        </a:xfrm>
                      </p:grpSpPr>
                      <p:sp>
                        <p:nvSpPr>
                          <p:cNvPr id="401" name="Rectangle 248"/>
                          <p:cNvSpPr/>
                          <p:nvPr/>
                        </p:nvSpPr>
                        <p:spPr>
                          <a:xfrm>
                            <a:off x="6346800" y="1618920"/>
                            <a:ext cx="1563480" cy="72720"/>
                          </a:xfrm>
                          <a:prstGeom prst="rect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5920" bIns="25920" anchor="t">
                            <a:norm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2" name="Rectangle 249"/>
                          <p:cNvSpPr/>
                          <p:nvPr/>
                        </p:nvSpPr>
                        <p:spPr>
                          <a:xfrm>
                            <a:off x="6346800" y="1733040"/>
                            <a:ext cx="1563480" cy="72720"/>
                          </a:xfrm>
                          <a:prstGeom prst="rect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5920" bIns="25920" anchor="t">
                            <a:norm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403" name="AutoShape 250"/>
                      <p:cNvSpPr/>
                      <p:nvPr/>
                    </p:nvSpPr>
                    <p:spPr>
                      <a:xfrm flipH="1">
                        <a:off x="6005520" y="1453680"/>
                        <a:ext cx="380880" cy="228600"/>
                      </a:xfrm>
                      <a:custGeom>
                        <a:avLst/>
                        <a:gdLst>
                          <a:gd name="textAreaLeft" fmla="*/ 219240 w 380880"/>
                          <a:gd name="textAreaRight" fmla="*/ 321840 w 380880"/>
                          <a:gd name="textAreaTop" fmla="*/ 30960 h 228600"/>
                          <a:gd name="textAreaBottom" fmla="*/ 97920 h 22860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6079"/>
                            </a:moveTo>
                            <a:lnTo>
                              <a:pt x="15126" y="0"/>
                            </a:lnTo>
                            <a:lnTo>
                              <a:pt x="15126" y="2912"/>
                            </a:lnTo>
                            <a:lnTo>
                              <a:pt x="12427" y="2912"/>
                            </a:lnTo>
                            <a:cubicBezTo>
                              <a:pt x="5564" y="2912"/>
                              <a:pt x="0" y="7052"/>
                              <a:pt x="0" y="12158"/>
                            </a:cubicBezTo>
                            <a:lnTo>
                              <a:pt x="0" y="21600"/>
                            </a:lnTo>
                            <a:lnTo>
                              <a:pt x="6474" y="21600"/>
                            </a:lnTo>
                            <a:lnTo>
                              <a:pt x="6474" y="12158"/>
                            </a:lnTo>
                            <a:cubicBezTo>
                              <a:pt x="6474" y="10550"/>
                              <a:pt x="9139" y="9246"/>
                              <a:pt x="12427" y="9246"/>
                            </a:cubicBezTo>
                            <a:lnTo>
                              <a:pt x="15126" y="9246"/>
                            </a:lnTo>
                            <a:lnTo>
                              <a:pt x="15126" y="12158"/>
                            </a:lnTo>
                            <a:lnTo>
                              <a:pt x="21600" y="6079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160" bIns="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4" name="AutoShape 251"/>
                      <p:cNvSpPr/>
                      <p:nvPr/>
                    </p:nvSpPr>
                    <p:spPr>
                      <a:xfrm rot="10800000">
                        <a:off x="6005520" y="1737360"/>
                        <a:ext cx="380880" cy="228600"/>
                      </a:xfrm>
                      <a:custGeom>
                        <a:avLst/>
                        <a:gdLst>
                          <a:gd name="textAreaLeft" fmla="*/ 218880 w 380880"/>
                          <a:gd name="textAreaRight" fmla="*/ 321480 w 380880"/>
                          <a:gd name="textAreaTop" fmla="*/ 30960 h 228600"/>
                          <a:gd name="textAreaBottom" fmla="*/ 97920 h 22860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6079"/>
                            </a:moveTo>
                            <a:lnTo>
                              <a:pt x="15126" y="0"/>
                            </a:lnTo>
                            <a:lnTo>
                              <a:pt x="15126" y="2912"/>
                            </a:lnTo>
                            <a:lnTo>
                              <a:pt x="12427" y="2912"/>
                            </a:lnTo>
                            <a:cubicBezTo>
                              <a:pt x="5564" y="2912"/>
                              <a:pt x="0" y="7052"/>
                              <a:pt x="0" y="12158"/>
                            </a:cubicBezTo>
                            <a:lnTo>
                              <a:pt x="0" y="21600"/>
                            </a:lnTo>
                            <a:lnTo>
                              <a:pt x="6474" y="21600"/>
                            </a:lnTo>
                            <a:lnTo>
                              <a:pt x="6474" y="12158"/>
                            </a:lnTo>
                            <a:cubicBezTo>
                              <a:pt x="6474" y="10550"/>
                              <a:pt x="9139" y="9246"/>
                              <a:pt x="12427" y="9246"/>
                            </a:cubicBezTo>
                            <a:lnTo>
                              <a:pt x="15126" y="9246"/>
                            </a:lnTo>
                            <a:lnTo>
                              <a:pt x="15126" y="12158"/>
                            </a:lnTo>
                            <a:lnTo>
                              <a:pt x="21600" y="6079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160" bIns="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05" name="Group 252"/>
                    <p:cNvGrpSpPr/>
                    <p:nvPr/>
                  </p:nvGrpSpPr>
                  <p:grpSpPr>
                    <a:xfrm>
                      <a:off x="5776920" y="1276200"/>
                      <a:ext cx="609120" cy="800280"/>
                      <a:chOff x="5776920" y="1276200"/>
                      <a:chExt cx="609120" cy="800280"/>
                    </a:xfrm>
                  </p:grpSpPr>
                  <p:sp>
                    <p:nvSpPr>
                      <p:cNvPr id="406" name="Oval 253"/>
                      <p:cNvSpPr/>
                      <p:nvPr/>
                    </p:nvSpPr>
                    <p:spPr>
                      <a:xfrm>
                        <a:off x="5776920" y="1276200"/>
                        <a:ext cx="435600" cy="80028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767676"/>
                          </a:gs>
                          <a:gs pos="100000">
                            <a:srgbClr val="ffffff"/>
                          </a:gs>
                        </a:gsLst>
                        <a:lin ang="189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7" name="AutoShape 254"/>
                      <p:cNvSpPr/>
                      <p:nvPr/>
                    </p:nvSpPr>
                    <p:spPr>
                      <a:xfrm>
                        <a:off x="6125400" y="1390320"/>
                        <a:ext cx="260640" cy="228600"/>
                      </a:xfrm>
                      <a:prstGeom prst="roundRect">
                        <a:avLst>
                          <a:gd name="adj" fmla="val 16667"/>
                        </a:avLst>
                      </a:prstGeom>
                      <a:gradFill rotWithShape="0">
                        <a:gsLst>
                          <a:gs pos="0">
                            <a:srgbClr val="ffffff">
                              <a:alpha val="48235"/>
                            </a:srgbClr>
                          </a:gs>
                          <a:gs pos="100000">
                            <a:srgbClr val="767676"/>
                          </a:gs>
                        </a:gsLst>
                        <a:lin ang="189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08" name="Group 255"/>
                    <p:cNvGrpSpPr/>
                    <p:nvPr/>
                  </p:nvGrpSpPr>
                  <p:grpSpPr>
                    <a:xfrm>
                      <a:off x="6081480" y="1618920"/>
                      <a:ext cx="228240" cy="228600"/>
                      <a:chOff x="6081480" y="1618920"/>
                      <a:chExt cx="228240" cy="228600"/>
                    </a:xfrm>
                  </p:grpSpPr>
                  <p:sp>
                    <p:nvSpPr>
                      <p:cNvPr id="409" name="Oval 256"/>
                      <p:cNvSpPr/>
                      <p:nvPr/>
                    </p:nvSpPr>
                    <p:spPr>
                      <a:xfrm>
                        <a:off x="6081480" y="1618920"/>
                        <a:ext cx="228240" cy="2286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0" name="Text Box 257"/>
                      <p:cNvSpPr/>
                      <p:nvPr/>
                    </p:nvSpPr>
                    <p:spPr>
                      <a:xfrm>
                        <a:off x="6157440" y="1682280"/>
                        <a:ext cx="152280" cy="114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rmAutofit fontScale="93000"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Pu</a:t>
                        </a:r>
                        <a:endParaRPr b="0" lang="en-US" sz="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11" name="Text Box 258"/>
                  <p:cNvSpPr/>
                  <p:nvPr/>
                </p:nvSpPr>
                <p:spPr>
                  <a:xfrm>
                    <a:off x="6188400" y="1417680"/>
                    <a:ext cx="152280" cy="11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rmAutofit fontScale="83000"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GreekC"/>
                      </a:rPr>
                      <a:t>σ</a:t>
                    </a:r>
                    <a:endParaRPr b="0" lang="en-US" sz="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2" name="Text Box 259"/>
                <p:cNvSpPr/>
                <p:nvPr/>
              </p:nvSpPr>
              <p:spPr>
                <a:xfrm>
                  <a:off x="5852880" y="1695240"/>
                  <a:ext cx="30456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3000"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PPP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3" name="Text Box 261"/>
              <p:cNvSpPr/>
              <p:nvPr/>
            </p:nvSpPr>
            <p:spPr>
              <a:xfrm>
                <a:off x="6462720" y="2838240"/>
                <a:ext cx="167652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just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5- Elongación del mARN en 8 nucleótidos más.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Text Box 262"/>
              <p:cNvSpPr/>
              <p:nvPr/>
            </p:nvSpPr>
            <p:spPr>
              <a:xfrm>
                <a:off x="7072200" y="4438440"/>
                <a:ext cx="1676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just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6- Liberación de la subunidad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GreekC"/>
                  </a:rPr>
                  <a:t>σ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a medida que la Pol progresa corriente abajo sobre el ADN.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5" name="Text Box 264"/>
            <p:cNvSpPr/>
            <p:nvPr/>
          </p:nvSpPr>
          <p:spPr>
            <a:xfrm>
              <a:off x="1189080" y="477720"/>
              <a:ext cx="741528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 u="sng">
                  <a:solidFill>
                    <a:srgbClr val="3333cc"/>
                  </a:solidFill>
                  <a:uFillTx/>
                  <a:latin typeface="Arial"/>
                </a:rPr>
                <a:t>Representación esquemática de la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 u="sng">
                  <a:solidFill>
                    <a:srgbClr val="3333cc"/>
                  </a:solidFill>
                  <a:uFillTx/>
                  <a:latin typeface="Arial"/>
                </a:rPr>
                <a:t>iniciación y elongación de la transcripció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http://utminers.utep.edu/rwebb/assets/images/Transcription-steps.gif"/>
          <p:cNvPicPr/>
          <p:nvPr/>
        </p:nvPicPr>
        <p:blipFill>
          <a:blip r:embed="rId1"/>
          <a:stretch/>
        </p:blipFill>
        <p:spPr>
          <a:xfrm>
            <a:off x="1357200" y="357120"/>
            <a:ext cx="62150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9T13:37:10Z</dcterms:created>
  <dc:creator>Facultad</dc:creator>
  <dc:description/>
  <dc:language>en-US</dc:language>
  <cp:lastModifiedBy>Ana Anzulovich</cp:lastModifiedBy>
  <dcterms:modified xsi:type="dcterms:W3CDTF">2017-10-25T19:50:26Z</dcterms:modified>
  <cp:revision>64</cp:revision>
  <dc:subject/>
  <dc:title>Transcripción y traducción de un gen eucariota</dc:title>
</cp:coreProperties>
</file>